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6225C-3769-4CAC-A5BF-B5F220BF6BC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oppt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AD15-F78D-4A6A-8E66-A30B9A2A9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9933-CE5F-4FD9-A274-4D025870F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038D-AD40-43DB-A868-5AF753F98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BFC0-8CB3-40CE-A80D-8FDC9FB71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69AC2-4D4A-4385-B36A-22EB844E4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ECE78-8957-440B-A191-E2017EE14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3F16B-7ED7-476F-8241-E5F6D09CD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52735-50BE-4D99-8A17-F9BDCC3B6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8C9DE-0A38-48D6-A973-E0C25A891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CA0C5-4C81-41CD-B496-E2FB75983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BA504-ABD5-4F55-ACF5-9DDD6EA6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18A2-7CC4-4C60-86E7-B6E9CCDB6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8A3A3-8238-49C2-892F-D16244CEB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85309-7423-4ABD-A305-4ADAC08A0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8426B-1ED3-417B-B821-09A1F512C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29517-734B-445E-8EEC-70B85EA78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13B3C-BB50-4A63-916E-CF2C2ED15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5F21-63A2-481A-BF4A-8740789AD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CE12-0933-44BD-9192-8C5784CCB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CC97-A432-4D1F-BC05-88642765F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B386-DB4A-4A4D-9136-0219923E7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67DB-4C78-49BD-8436-274A439B6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1CCB-DA32-4F85-B483-69A4BD30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6409-791B-43DF-BEB4-AAA7DD35E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6698F-9826-4501-B7EC-8CCC835760F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CD73E-4EBD-4531-84D2-149DEFCC8E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hyperlink" Target="http://t.sina.com.cn/iwps/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t.qq.com/kingsoftwps/%0D" TargetMode="External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hyperlink" Target="http://www.wps.cn/moban/%0D" TargetMode="External"/><Relationship Id="rId9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619280" y="907920"/>
            <a:ext cx="6502320" cy="4876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692360" y="1343160"/>
            <a:ext cx="1657440" cy="9111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182680" y="3143160"/>
            <a:ext cx="576360" cy="5619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197080" y="3790800"/>
            <a:ext cx="530280" cy="540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701800" y="3278160"/>
            <a:ext cx="4318200" cy="12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t.sina.com.cn/iwp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t.qq.com/kingsoftwp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7"/>
          <a:stretch/>
        </p:blipFill>
        <p:spPr>
          <a:xfrm>
            <a:off x="2413080" y="2565360"/>
            <a:ext cx="3044880" cy="3621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279600" y="5673600"/>
            <a:ext cx="547056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更多模板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微软雅黑"/>
                <a:hlinkClick r:id="rId8"/>
              </a:rPr>
              <a:t>http://www.wps.cn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GZB</cp:lastModifiedBy>
  <dcterms:modified xsi:type="dcterms:W3CDTF">2012-09-09T03:12:04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55</vt:lpwstr>
  </property>
  <property fmtid="{D5CDD505-2E9C-101B-9397-08002B2CF9AE}" pid="3" name="NXTAG2">
    <vt:lpwstr>0008001c02000000000001024140</vt:lpwstr>
  </property>
  <property fmtid="{D5CDD505-2E9C-101B-9397-08002B2CF9AE}" pid="4" name="Version">
    <vt:r8>1</vt:r8>
  </property>
</Properties>
</file>