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5.jpeg" ContentType="image/jpeg"/>
  <Override PartName="/ppt/media/type.wav" ContentType="audio/x-wav"/>
  <Override PartName="/ppt/media/image14.png" ContentType="image/png"/>
  <Override PartName="/ppt/media/explode.wav" ContentType="audio/x-wav"/>
  <Override PartName="/ppt/media/camera.wav" ContentType="audio/x-wav"/>
  <Override PartName="/ppt/media/image6.png" ContentType="image/png"/>
  <Override PartName="/ppt/media/image13.jpeg" ContentType="image/jpeg"/>
  <Override PartName="/ppt/media/image4.png" ContentType="image/png"/>
  <Override PartName="/ppt/media/image12.png" ContentType="image/png"/>
  <Override PartName="/ppt/media/image2.jpeg" ContentType="image/jpeg"/>
  <Override PartName="/ppt/media/image3.png" ContentType="image/png"/>
  <Override PartName="/ppt/media/image7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5C0F-5907-4B59-BE25-48D76747A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36EF-8980-4E38-9E72-46860857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DBFE-C54B-4D2C-970E-67F0A449A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8D33-BEF0-497D-87FE-8A09D72C6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655A-C88C-40E3-AE20-4447A726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C91A-EDE4-466A-9756-E766551A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5DB7-3754-4759-9186-7035CE61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B68D-E9D0-4568-9C0F-66041C24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0340-3A4A-43CC-BC2F-F46C724E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1581-A6E6-4A66-8587-11CD9239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5125-1394-4C73-8C60-602A0375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9DCC-83E9-47ED-AE81-91E2497E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大语文课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4F99-884A-4E1F-92EC-513A5AD7DC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audio" Target="../media/type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typ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type.wav"/><Relationship Id="rId7" Type="http://schemas.openxmlformats.org/officeDocument/2006/relationships/audio" Target="../media/explod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Administrator/Local%20Settings/Temp/Rar$DI02.266/&#25991;&#26412;/&#23731;&#38451;&#27004;&#27001;&#32852;.txt" TargetMode="External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Administrator/Local%20Settings/Temp/Rar$DI02.266/&#32593;&#39029;/&#33539;&#20210;&#28153;&#26159;&#19981;&#26159;&#21809;&#39640;&#35843;&#65311;%20@%20&#20013;&#23398;&#35821;&#25991;&#23398;&#29983;&#35770;&#22363;.htm" TargetMode="External"/><Relationship Id="rId2" Type="http://schemas.openxmlformats.org/officeDocument/2006/relationships/hyperlink" Target="file:///C:/Documents%20and%20Settings/Administrator/Local%20Settings/Temp/Rar$DI02.266/&#32593;&#39029;/&#33539;&#20210;&#28153;&#26159;&#19981;&#26159;&#21809;&#39640;&#35843;&#65311;%20@%20&#20013;&#23398;&#35821;&#25991;&#23398;&#29983;&#35770;&#22363;.htm" TargetMode="External"/><Relationship Id="rId3" Type="http://schemas.openxmlformats.org/officeDocument/2006/relationships/hyperlink" Target="file:///C:/Documents%20and%20Settings/Administrator/Local%20Settings/Temp/Rar$DI02.266/&#32593;&#39029;/&#33539;&#20210;&#28153;&#26159;&#19981;&#26159;&#21809;&#39640;&#35843;&#65311;%20@%20&#20013;&#23398;&#35821;&#25991;&#23398;&#29983;&#35770;&#22363;.htm" TargetMode="External"/><Relationship Id="rId4" Type="http://schemas.openxmlformats.org/officeDocument/2006/relationships/hyperlink" Target="http://chat.pep.com.cn/lb5000/topic.cgi?forum=7&amp;topic=11956" TargetMode="External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file:///C:/Documents%20and%20Settings/Administrator/Local%20Settings/Temp/Rar$DI02.266/&#32593;&#39029;/&#21271;&#23435;&#25913;&#38761;&#24605;&#24819;&#23478;&#65293;&#65293;&#33539;&#20210;&#28153;.mht" TargetMode="External"/><Relationship Id="rId3" Type="http://schemas.openxmlformats.org/officeDocument/2006/relationships/hyperlink" Target="file:///C:/Documents%20and%20Settings/Administrator/Local%20Settings/Temp/Rar$DI02.266/&#32593;&#39029;/&#21326;&#20013;&#26223;&#28857;--&#28246;&#21335;&#23731;&#38451;&#27004;.htm" TargetMode="External"/><Relationship Id="rId4" Type="http://schemas.openxmlformats.org/officeDocument/2006/relationships/hyperlink" Target="file:///C:/Documents%20and%20Settings/Administrator/Local%20Settings/Temp/Rar$DI02.266/&#32593;&#39029;/&#23731;&#38451;&#27004;&#39118;&#26223;&#21306;.htm" TargetMode="External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3" descr="http://yyypa.yyr.cn/bbs/UploadFile/2013-9/20139223114802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大语文课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AEEF-4A66-497D-B313-E92EB5AA2A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990720" y="2895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71720" y="128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岳阳楼记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6326640" y="3786120"/>
            <a:ext cx="153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7ffd1"/>
                </a:solidFill>
                <a:latin typeface="宋体"/>
              </a:rPr>
              <a:t>宋 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范仲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typ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1EAB-AEF1-4D74-984A-E8F6FF3D8B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99"/>
                </a:solidFill>
                <a:latin typeface="Times New Roman"/>
                <a:ea typeface="华文彩云"/>
              </a:rPr>
              <a:t>朗读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　　予观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夫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巴陵胜状，在洞庭一湖。衔远山，吞长江，浩浩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汤汤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，横无际涯；朝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晖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夕阴，气象万千。此则岳阳楼之大观也，前人之述备矣。然则北通巫峡，南极潇湘，迁客骚人，多会于此，览物之情，得无异乎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7"/>
          <p:cNvSpPr/>
          <p:nvPr/>
        </p:nvSpPr>
        <p:spPr>
          <a:xfrm>
            <a:off x="2050920" y="836640"/>
            <a:ext cx="1476360" cy="934920"/>
          </a:xfrm>
          <a:prstGeom prst="wedgeEllipseCallout">
            <a:avLst>
              <a:gd name="adj1" fmla="val 10430"/>
              <a:gd name="adj2" fmla="val 81069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f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6227640" y="836640"/>
            <a:ext cx="2305080" cy="934920"/>
          </a:xfrm>
          <a:prstGeom prst="wedgeEllipseCallout">
            <a:avLst>
              <a:gd name="adj1" fmla="val -1995"/>
              <a:gd name="adj2" fmla="val 143208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shā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9"/>
          <p:cNvSpPr/>
          <p:nvPr/>
        </p:nvSpPr>
        <p:spPr>
          <a:xfrm>
            <a:off x="3598920" y="836640"/>
            <a:ext cx="1944720" cy="934920"/>
          </a:xfrm>
          <a:prstGeom prst="wedgeEllipseCallout">
            <a:avLst>
              <a:gd name="adj1" fmla="val -23060"/>
              <a:gd name="adj2" fmla="val 184462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hū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FC2C-3AE8-40A0-969E-727ED1C347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99"/>
                </a:solidFill>
                <a:latin typeface="Times New Roman"/>
                <a:ea typeface="华文彩云"/>
              </a:rPr>
              <a:t>朗读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9"/>
          <p:cNvSpPr/>
          <p:nvPr/>
        </p:nvSpPr>
        <p:spPr>
          <a:xfrm>
            <a:off x="2266920" y="561960"/>
            <a:ext cx="1873440" cy="934920"/>
          </a:xfrm>
          <a:prstGeom prst="wedgeEllipseCallout">
            <a:avLst>
              <a:gd name="adj1" fmla="val -2458"/>
              <a:gd name="adj2" fmla="val 80898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yí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10"/>
          <p:cNvSpPr/>
          <p:nvPr/>
        </p:nvSpPr>
        <p:spPr>
          <a:xfrm>
            <a:off x="4067280" y="560520"/>
            <a:ext cx="1800000" cy="934920"/>
          </a:xfrm>
          <a:prstGeom prst="wedgeEllipseCallout">
            <a:avLst>
              <a:gd name="adj1" fmla="val -29101"/>
              <a:gd name="adj2" fmla="val 82259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fē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11"/>
          <p:cNvSpPr/>
          <p:nvPr/>
        </p:nvSpPr>
        <p:spPr>
          <a:xfrm>
            <a:off x="0" y="1208160"/>
            <a:ext cx="1800360" cy="934920"/>
          </a:xfrm>
          <a:prstGeom prst="wedgeEllipseCallout">
            <a:avLst>
              <a:gd name="adj1" fmla="val 50175"/>
              <a:gd name="adj2" fmla="val 76657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há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12"/>
          <p:cNvSpPr/>
          <p:nvPr/>
        </p:nvSpPr>
        <p:spPr>
          <a:xfrm>
            <a:off x="5651640" y="488880"/>
            <a:ext cx="2305080" cy="935280"/>
          </a:xfrm>
          <a:prstGeom prst="wedgeEllipseCallout">
            <a:avLst>
              <a:gd name="adj1" fmla="val -42495"/>
              <a:gd name="adj2" fmla="val 224532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qiá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13"/>
          <p:cNvSpPr/>
          <p:nvPr/>
        </p:nvSpPr>
        <p:spPr>
          <a:xfrm>
            <a:off x="6156360" y="4881600"/>
            <a:ext cx="1695240" cy="934920"/>
          </a:xfrm>
          <a:prstGeom prst="wedgeEllipseCallout">
            <a:avLst>
              <a:gd name="adj1" fmla="val -20319"/>
              <a:gd name="adj2" fmla="val -194652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j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14"/>
          <p:cNvSpPr/>
          <p:nvPr/>
        </p:nvSpPr>
        <p:spPr>
          <a:xfrm>
            <a:off x="395280" y="5384880"/>
            <a:ext cx="2305080" cy="934920"/>
          </a:xfrm>
          <a:prstGeom prst="wedgeEllipseCallout">
            <a:avLst>
              <a:gd name="adj1" fmla="val 759"/>
              <a:gd name="adj2" fmla="val -182768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mí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15"/>
          <p:cNvSpPr/>
          <p:nvPr/>
        </p:nvSpPr>
        <p:spPr>
          <a:xfrm>
            <a:off x="2916360" y="5384880"/>
            <a:ext cx="2305080" cy="934920"/>
          </a:xfrm>
          <a:prstGeom prst="wedgeEllipseCallout">
            <a:avLst>
              <a:gd name="adj1" fmla="val 21486"/>
              <a:gd name="adj2" fmla="val -119611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chá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70496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　　若夫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霪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雨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霏霏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，连月不开，阴风怒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号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，浊浪排空；日星隐曜，山岳潜形，商旅不行，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樯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倾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楫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摧；薄暮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冥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冥，虎啸猿啼。登斯楼也，则有去国怀乡，忧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谗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畏讥，满目萧然，感极而悲者矣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094B-429D-4368-A485-A8DF40452C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99"/>
                </a:solidFill>
                <a:latin typeface="Times New Roman"/>
                <a:ea typeface="华文彩云"/>
              </a:rPr>
              <a:t>朗读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3851280" y="415800"/>
            <a:ext cx="2232000" cy="935280"/>
          </a:xfrm>
          <a:prstGeom prst="wedgeEllipseCallout">
            <a:avLst>
              <a:gd name="adj1" fmla="val -43384"/>
              <a:gd name="adj2" fmla="val 161375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qǐ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0" y="1063800"/>
            <a:ext cx="1909800" cy="934920"/>
          </a:xfrm>
          <a:prstGeom prst="wedgeEllipseCallout">
            <a:avLst>
              <a:gd name="adj1" fmla="val 64129"/>
              <a:gd name="adj2" fmla="val 145925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zh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1763640" y="415800"/>
            <a:ext cx="2305080" cy="935280"/>
          </a:xfrm>
          <a:prstGeom prst="wedgeEllipseCallout">
            <a:avLst>
              <a:gd name="adj1" fmla="val -481"/>
              <a:gd name="adj2" fmla="val 207046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tī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1066680" y="5573880"/>
            <a:ext cx="1909800" cy="934920"/>
          </a:xfrm>
          <a:prstGeom prst="wedgeEllipseCallout">
            <a:avLst>
              <a:gd name="adj1" fmla="val 13842"/>
              <a:gd name="adj2" fmla="val -237944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hà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6838920" y="5095800"/>
            <a:ext cx="1909800" cy="935280"/>
          </a:xfrm>
          <a:prstGeom prst="wedgeEllipseCallout">
            <a:avLst>
              <a:gd name="adj1" fmla="val -87824"/>
              <a:gd name="adj2" fmla="val -62222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xi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31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　　至若春和景明，波澜不惊，上下天光，一碧万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顷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；沙鸥翔集，锦鳞游泳；岸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芷汀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兰，郁郁青青。而或长烟一空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皓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月千里，浮光跃金，静影沉璧，渔歌互答，此乐何极！登斯楼也，则有心旷神怡，宠辱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偕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忘，把酒临风，其喜洋洋者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E90C-0A7B-423F-AF4F-283ED3E02F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99"/>
                </a:solidFill>
                <a:latin typeface="Times New Roman"/>
                <a:ea typeface="华文彩云"/>
              </a:rPr>
              <a:t>朗读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4720" y="1700280"/>
            <a:ext cx="813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　　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嗟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夫！予尝求古仁人之心，或异二者之为，何哉？不以物喜，不以己悲；居庙堂之高则忧其民；处江湖之远则忧其君。是进亦忧，退亦忧。然则何时而乐耶？其必曰</a:t>
            </a: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“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先天下之忧而忧，后天下之乐而乐</a:t>
            </a: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”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乎。噫！微斯人，吾谁与归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1042920" y="115920"/>
            <a:ext cx="2305080" cy="1150920"/>
          </a:xfrm>
          <a:prstGeom prst="wedgeEllipseCallout">
            <a:avLst>
              <a:gd name="adj1" fmla="val -8124"/>
              <a:gd name="adj2" fmla="val 94000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ji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6325-952D-413F-839D-7A249F5914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80"/>
                </a:solidFill>
                <a:latin typeface="Times New Roman"/>
                <a:ea typeface="华文彩云"/>
              </a:rPr>
              <a:t>疏通文句　口译课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Object 6"/>
          <p:cNvGraphicFramePr/>
          <p:nvPr/>
        </p:nvGraphicFramePr>
        <p:xfrm>
          <a:off x="1758960" y="2022480"/>
          <a:ext cx="5708520" cy="38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8960" y="2022480"/>
                    <a:ext cx="5708520" cy="38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  <p:sndAc>
      <p:stSnd>
        <p:snd r:embed="rId3" name="typ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09DC-46CA-4F38-84AB-222D3EE225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99"/>
                </a:solidFill>
                <a:latin typeface="Times New Roman"/>
                <a:ea typeface="华文彩云"/>
              </a:rPr>
              <a:t>注释：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方正琥珀简体"/>
              </a:rPr>
              <a:t>按课本注释学习加下划线的词语</a:t>
            </a:r>
            <a:br>
              <a:rPr sz="2800"/>
            </a:b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方正琥珀简体"/>
              </a:rPr>
              <a:t>　　　　   重点掌握加红色的词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1031"/>
          <p:cNvSpPr/>
          <p:nvPr/>
        </p:nvSpPr>
        <p:spPr>
          <a:xfrm>
            <a:off x="6804000" y="4869000"/>
            <a:ext cx="1584360" cy="792000"/>
          </a:xfrm>
          <a:prstGeom prst="wedgeRoundRectCallout">
            <a:avLst>
              <a:gd name="adj1" fmla="val -87574"/>
              <a:gd name="adj2" fmla="val -177856"/>
              <a:gd name="adj3" fmla="val 16667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规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1032"/>
          <p:cNvSpPr/>
          <p:nvPr/>
        </p:nvSpPr>
        <p:spPr>
          <a:xfrm>
            <a:off x="755640" y="5084640"/>
            <a:ext cx="2592360" cy="792360"/>
          </a:xfrm>
          <a:prstGeom prst="wedgeRoundRectCallout">
            <a:avLst>
              <a:gd name="adj1" fmla="val -24217"/>
              <a:gd name="adj2" fmla="val -125749"/>
              <a:gd name="adj3" fmla="val 16667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唐今贤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　　庆历四年春，</a:t>
            </a:r>
            <a:r>
              <a:rPr b="1" lang="zh-CN" sz="4000" spc="-1" strike="noStrike" u="sng">
                <a:solidFill>
                  <a:srgbClr val="3333cc"/>
                </a:solidFill>
                <a:uFillTx/>
                <a:latin typeface="Times New Roman"/>
              </a:rPr>
              <a:t>滕子京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Times New Roman"/>
              </a:rPr>
              <a:t>谪守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巴陵郡。越明年，政通人和，百废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具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兴。乃重修岳阳楼，增其旧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制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，刻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唐贤今人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诗赋于其上。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Times New Roman"/>
              </a:rPr>
              <a:t>属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予作文以记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1033"/>
          <p:cNvSpPr/>
          <p:nvPr/>
        </p:nvSpPr>
        <p:spPr>
          <a:xfrm>
            <a:off x="5003640" y="836640"/>
            <a:ext cx="1656000" cy="792000"/>
          </a:xfrm>
          <a:prstGeom prst="wedgeRoundRectCallout">
            <a:avLst>
              <a:gd name="adj1" fmla="val 42425"/>
              <a:gd name="adj2" fmla="val 95087"/>
              <a:gd name="adj3" fmla="val 16667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贬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1034"/>
          <p:cNvSpPr/>
          <p:nvPr/>
        </p:nvSpPr>
        <p:spPr>
          <a:xfrm>
            <a:off x="6588000" y="404640"/>
            <a:ext cx="2305080" cy="1197000"/>
          </a:xfrm>
          <a:prstGeom prst="wedgeRoundRectCallout">
            <a:avLst>
              <a:gd name="adj1" fmla="val -27273"/>
              <a:gd name="adj2" fmla="val 89125"/>
              <a:gd name="adj3" fmla="val 16667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做太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035"/>
          <p:cNvSpPr/>
          <p:nvPr/>
        </p:nvSpPr>
        <p:spPr>
          <a:xfrm>
            <a:off x="4932360" y="4869000"/>
            <a:ext cx="1943280" cy="792000"/>
          </a:xfrm>
          <a:prstGeom prst="wedgeRoundRectCallout">
            <a:avLst>
              <a:gd name="adj1" fmla="val -37009"/>
              <a:gd name="adj2" fmla="val -101703"/>
              <a:gd name="adj3" fmla="val 16667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同“嘱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1036"/>
          <p:cNvSpPr/>
          <p:nvPr/>
        </p:nvSpPr>
        <p:spPr>
          <a:xfrm>
            <a:off x="4500720" y="1052640"/>
            <a:ext cx="3240000" cy="792000"/>
          </a:xfrm>
          <a:prstGeom prst="wedgeRoundRectCallout">
            <a:avLst>
              <a:gd name="adj1" fmla="val 45981"/>
              <a:gd name="adj2" fmla="val 172046"/>
              <a:gd name="adj3" fmla="val 16667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同俱，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2BFA-ACD2-4589-9ADF-AF2284CE18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99"/>
                </a:solidFill>
                <a:latin typeface="Times New Roman"/>
                <a:ea typeface="华文彩云"/>
              </a:rPr>
              <a:t>难句解释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刻唐贤今人诗赋于其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813744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要按现代汉语习惯颠倒语序：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于其上刻唐贤今人诗赋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唐贤今人”的语序应是“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唐今贤人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”，即唐代和当代的贤人。这叫“互文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在上面刻上唐代和当代名人的诗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F082-8E2E-4E5F-B34E-27E1C58DA4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293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99"/>
                </a:solidFill>
                <a:latin typeface="Times New Roman"/>
                <a:ea typeface="华文彩云"/>
              </a:rPr>
              <a:t>译文</a:t>
            </a:r>
            <a:r>
              <a:rPr b="0" lang="zh-CN" sz="4800" spc="-1" strike="noStrike">
                <a:solidFill>
                  <a:srgbClr val="00cc99"/>
                </a:solidFill>
                <a:latin typeface="方正琥珀简体"/>
                <a:ea typeface="方正琥珀简体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8560" y="1447560"/>
            <a:ext cx="7886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zh-CN" sz="4000" spc="-1" strike="noStrike">
                <a:solidFill>
                  <a:srgbClr val="3333cc"/>
                </a:solidFill>
                <a:latin typeface="华文新魏"/>
                <a:ea typeface="华文新魏"/>
              </a:rPr>
              <a:t>庆历四年的春天，滕子京被贬为岳州知州。到了第二年，政事顺利，百姓安居乐业，各种荒废的事业都兴办起来了。于是重新修建了岳阳楼，扩展了它旧有的规模，把唐代和当代名家的诗赋刻在上面，嘱咐我写一篇文章来记述这件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94920" y="1692360"/>
            <a:ext cx="8458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　　予观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夫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巴陵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胜状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，在洞庭一湖。衔远山，吞长江，浩浩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汤汤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，横无际涯；朝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晖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夕阴，气象万千。此则岳阳楼之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大观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也，前人之述备矣。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然则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北通巫峡，南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极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潇湘，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迁客骚人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，多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会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于此，览物之情，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得无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异乎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BBBF-2EA3-4315-87CF-83E117577C1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99"/>
                </a:solidFill>
                <a:latin typeface="Times New Roman"/>
                <a:ea typeface="华文彩云"/>
              </a:rPr>
              <a:t>注释</a:t>
            </a:r>
            <a:r>
              <a:rPr b="0" lang="zh-CN" sz="4400" spc="-1" strike="noStrike">
                <a:solidFill>
                  <a:srgbClr val="00cc99"/>
                </a:solidFill>
                <a:latin typeface="Times New Roman"/>
                <a:ea typeface="方正琥珀简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1032"/>
          <p:cNvSpPr/>
          <p:nvPr/>
        </p:nvSpPr>
        <p:spPr>
          <a:xfrm>
            <a:off x="4356000" y="333360"/>
            <a:ext cx="2448000" cy="1297080"/>
          </a:xfrm>
          <a:prstGeom prst="wedgeRoundRectCallout">
            <a:avLst>
              <a:gd name="adj1" fmla="val 22699"/>
              <a:gd name="adj2" fmla="val 106546"/>
              <a:gd name="adj3" fmla="val 16667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水流浩大的样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1033"/>
          <p:cNvSpPr/>
          <p:nvPr/>
        </p:nvSpPr>
        <p:spPr>
          <a:xfrm>
            <a:off x="7559640" y="5229360"/>
            <a:ext cx="1584360" cy="792000"/>
          </a:xfrm>
          <a:prstGeom prst="wedgeRoundRectCallout">
            <a:avLst>
              <a:gd name="adj1" fmla="val -703"/>
              <a:gd name="adj2" fmla="val -106513"/>
              <a:gd name="adj3" fmla="val 16667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聚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034"/>
          <p:cNvSpPr/>
          <p:nvPr/>
        </p:nvSpPr>
        <p:spPr>
          <a:xfrm>
            <a:off x="3978360" y="5734080"/>
            <a:ext cx="1187280" cy="792000"/>
          </a:xfrm>
          <a:prstGeom prst="wedgeRoundRectCallout">
            <a:avLst>
              <a:gd name="adj1" fmla="val 17111"/>
              <a:gd name="adj2" fmla="val -95893"/>
              <a:gd name="adj3" fmla="val 16667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1035"/>
          <p:cNvSpPr/>
          <p:nvPr/>
        </p:nvSpPr>
        <p:spPr>
          <a:xfrm>
            <a:off x="1692360" y="5560920"/>
            <a:ext cx="1476360" cy="1108080"/>
          </a:xfrm>
          <a:prstGeom prst="wedgeRoundRectCallout">
            <a:avLst>
              <a:gd name="adj1" fmla="val -29245"/>
              <a:gd name="adj2" fmla="val -174787"/>
              <a:gd name="adj3" fmla="val 16667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壮丽景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1036"/>
          <p:cNvSpPr/>
          <p:nvPr/>
        </p:nvSpPr>
        <p:spPr>
          <a:xfrm>
            <a:off x="6732720" y="333360"/>
            <a:ext cx="2411280" cy="1166760"/>
          </a:xfrm>
          <a:prstGeom prst="wedgeRoundRectCallout">
            <a:avLst>
              <a:gd name="adj1" fmla="val -7976"/>
              <a:gd name="adj2" fmla="val 206740"/>
              <a:gd name="adj3" fmla="val 16667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既然这样，那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037"/>
          <p:cNvSpPr/>
          <p:nvPr/>
        </p:nvSpPr>
        <p:spPr>
          <a:xfrm>
            <a:off x="2411280" y="549360"/>
            <a:ext cx="1224000" cy="863640"/>
          </a:xfrm>
          <a:prstGeom prst="wedgeRoundRectCallout">
            <a:avLst>
              <a:gd name="adj1" fmla="val -23023"/>
              <a:gd name="adj2" fmla="val 90074"/>
              <a:gd name="adj3" fmla="val 16667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038"/>
          <p:cNvSpPr/>
          <p:nvPr/>
        </p:nvSpPr>
        <p:spPr>
          <a:xfrm>
            <a:off x="3924360" y="2349360"/>
            <a:ext cx="1908000" cy="1366920"/>
          </a:xfrm>
          <a:prstGeom prst="wedgeRoundRectCallout">
            <a:avLst>
              <a:gd name="adj1" fmla="val 32611"/>
              <a:gd name="adj2" fmla="val 82518"/>
              <a:gd name="adj3" fmla="val 16667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降职远调的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1039"/>
          <p:cNvSpPr/>
          <p:nvPr/>
        </p:nvSpPr>
        <p:spPr>
          <a:xfrm>
            <a:off x="5796000" y="2781360"/>
            <a:ext cx="1368360" cy="863640"/>
          </a:xfrm>
          <a:prstGeom prst="wedgeRoundRectCallout">
            <a:avLst>
              <a:gd name="adj1" fmla="val -14500"/>
              <a:gd name="adj2" fmla="val 120222"/>
              <a:gd name="adj3" fmla="val 16667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诗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1040"/>
          <p:cNvSpPr/>
          <p:nvPr/>
        </p:nvSpPr>
        <p:spPr>
          <a:xfrm>
            <a:off x="1187280" y="549360"/>
            <a:ext cx="1440000" cy="863640"/>
          </a:xfrm>
          <a:prstGeom prst="wedgeRoundRectCallout">
            <a:avLst>
              <a:gd name="adj1" fmla="val 21666"/>
              <a:gd name="adj2" fmla="val 229412"/>
              <a:gd name="adj3" fmla="val 16667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日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1041"/>
          <p:cNvSpPr/>
          <p:nvPr/>
        </p:nvSpPr>
        <p:spPr>
          <a:xfrm>
            <a:off x="5292720" y="5734080"/>
            <a:ext cx="1584360" cy="792000"/>
          </a:xfrm>
          <a:prstGeom prst="wedgeRoundRectCallout">
            <a:avLst>
              <a:gd name="adj1" fmla="val -44990"/>
              <a:gd name="adj2" fmla="val -92083"/>
              <a:gd name="adj3" fmla="val 16667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没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042"/>
          <p:cNvSpPr/>
          <p:nvPr/>
        </p:nvSpPr>
        <p:spPr>
          <a:xfrm>
            <a:off x="2627280" y="285840"/>
            <a:ext cx="1728720" cy="1127160"/>
          </a:xfrm>
          <a:prstGeom prst="wedgeRoundRectCallout">
            <a:avLst>
              <a:gd name="adj1" fmla="val 70476"/>
              <a:gd name="adj2" fmla="val 110111"/>
              <a:gd name="adj3" fmla="val 16667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优美的景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A898-9CEA-4E09-B449-2B74AA38B9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8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99"/>
                </a:solidFill>
                <a:latin typeface="Times New Roman"/>
                <a:ea typeface="华文彩云"/>
              </a:rPr>
              <a:t>难句解释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然则北通巫峡，南极潇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7080" y="2565000"/>
            <a:ext cx="7918560" cy="28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（既然）这样，那么它北面通向巫峡，南面直达潇水湘水的尽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1301-8840-4B0B-91A0-C2DA77DE0D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99"/>
                </a:solidFill>
                <a:latin typeface="Times New Roman"/>
                <a:ea typeface="华文彩云"/>
              </a:rPr>
              <a:t>岳阳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4720" y="1700280"/>
            <a:ext cx="813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华文楷体"/>
                <a:ea typeface="华文楷体"/>
              </a:rPr>
              <a:t>　　岳阳楼位于湖南省岳阳城西，是我国古代素负盛名的游览胜地。与武昌的黄鹤楼、南昌的滕王阁，被誉为江南三大名楼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A41B-E66A-47E6-8EA4-AE35319B32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457200" y="669960"/>
            <a:ext cx="800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280" y="685440"/>
            <a:ext cx="820764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华文彩云"/>
              </a:rPr>
              <a:t>译文</a:t>
            </a: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华文彩云"/>
              </a:rPr>
              <a:t>2</a:t>
            </a:r>
            <a:br>
              <a:rPr sz="3600"/>
            </a:br>
            <a:r>
              <a:rPr b="1" lang="zh-CN" sz="3200" spc="-1" strike="noStrike">
                <a:solidFill>
                  <a:srgbClr val="00cc99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</a:rPr>
              <a:t>我看那巴陵郡的美好景色，全在这洞庭湖上。它衔着远方的山脉，吞吐着长江的流水，浩浩荡荡，无边无际。从清晨到傍晚，有时湖上洒满阳光，有时又是一片昏暗，景物的变化无穷无尽。这就是岳阳楼的壮丽的景色，前人已经描述得很详尽了。（既然）这样，那么（此地）北面通向巫峡，南面直达潇湘尽头，被降职远调的官员和不得志的诗人多聚集在这里，他们观赏景物时的心情，能没有不同吗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6575-9DE9-44E5-AADE-118EAE1288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99"/>
                </a:solidFill>
                <a:latin typeface="Times New Roman"/>
                <a:ea typeface="华文彩云"/>
              </a:rPr>
              <a:t>注释</a:t>
            </a:r>
            <a:r>
              <a:rPr b="0" lang="zh-CN" sz="4000" spc="-1" strike="noStrike">
                <a:solidFill>
                  <a:srgbClr val="00cc99"/>
                </a:solidFill>
                <a:latin typeface="Times New Roman"/>
                <a:ea typeface="方正琥珀简体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1033"/>
          <p:cNvSpPr/>
          <p:nvPr/>
        </p:nvSpPr>
        <p:spPr>
          <a:xfrm>
            <a:off x="1547640" y="4508640"/>
            <a:ext cx="1368720" cy="792000"/>
          </a:xfrm>
          <a:prstGeom prst="wedgeRoundRectCallout">
            <a:avLst>
              <a:gd name="adj1" fmla="val 37587"/>
              <a:gd name="adj2" fmla="val -138777"/>
              <a:gd name="adj3" fmla="val 16667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1034"/>
          <p:cNvSpPr/>
          <p:nvPr/>
        </p:nvSpPr>
        <p:spPr>
          <a:xfrm>
            <a:off x="7054920" y="4292640"/>
            <a:ext cx="2089080" cy="936720"/>
          </a:xfrm>
          <a:prstGeom prst="wedgeRoundRectCallout">
            <a:avLst>
              <a:gd name="adj1" fmla="val 13296"/>
              <a:gd name="adj2" fmla="val -97796"/>
              <a:gd name="adj3" fmla="val 16667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说坏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038"/>
          <p:cNvSpPr/>
          <p:nvPr/>
        </p:nvSpPr>
        <p:spPr>
          <a:xfrm>
            <a:off x="5364000" y="4508640"/>
            <a:ext cx="1332000" cy="863640"/>
          </a:xfrm>
          <a:prstGeom prst="wedgeRoundRectCallout">
            <a:avLst>
              <a:gd name="adj1" fmla="val -1013"/>
              <a:gd name="adj2" fmla="val -125921"/>
              <a:gd name="adj3" fmla="val 16667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国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　　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若夫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霪雨霏霏，连月不开，阴风怒号，浊浪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排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空；日星隐曜，山岳潜形，商旅不行，樯倾楫摧；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薄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暮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冥冥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，虎啸猿啼。登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斯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楼也，则有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去国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怀乡，忧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谗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畏讥，满目萧然，感极而悲者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037"/>
          <p:cNvSpPr/>
          <p:nvPr/>
        </p:nvSpPr>
        <p:spPr>
          <a:xfrm>
            <a:off x="6588000" y="404640"/>
            <a:ext cx="1729080" cy="1152720"/>
          </a:xfrm>
          <a:prstGeom prst="wedgeRoundRectCallout">
            <a:avLst>
              <a:gd name="adj1" fmla="val -42745"/>
              <a:gd name="adj2" fmla="val 157990"/>
              <a:gd name="adj3" fmla="val 16667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昏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1039"/>
          <p:cNvSpPr/>
          <p:nvPr/>
        </p:nvSpPr>
        <p:spPr>
          <a:xfrm>
            <a:off x="1619280" y="549360"/>
            <a:ext cx="1297080" cy="792000"/>
          </a:xfrm>
          <a:prstGeom prst="wedgeRoundRectCallout">
            <a:avLst>
              <a:gd name="adj1" fmla="val 45592"/>
              <a:gd name="adj2" fmla="val 165027"/>
              <a:gd name="adj3" fmla="val 16667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冲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1042"/>
          <p:cNvSpPr/>
          <p:nvPr/>
        </p:nvSpPr>
        <p:spPr>
          <a:xfrm>
            <a:off x="5292720" y="549360"/>
            <a:ext cx="1295280" cy="792000"/>
          </a:xfrm>
          <a:prstGeom prst="wedgeRoundRectCallout">
            <a:avLst>
              <a:gd name="adj1" fmla="val -31129"/>
              <a:gd name="adj2" fmla="val 238777"/>
              <a:gd name="adj3" fmla="val 16667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迫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043"/>
          <p:cNvSpPr/>
          <p:nvPr/>
        </p:nvSpPr>
        <p:spPr>
          <a:xfrm>
            <a:off x="0" y="1197000"/>
            <a:ext cx="1332000" cy="863640"/>
          </a:xfrm>
          <a:prstGeom prst="wedgeRoundRectCallout">
            <a:avLst>
              <a:gd name="adj1" fmla="val 76578"/>
              <a:gd name="adj2" fmla="val 31800"/>
              <a:gd name="adj3" fmla="val 16667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像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1044"/>
          <p:cNvSpPr/>
          <p:nvPr/>
        </p:nvSpPr>
        <p:spPr>
          <a:xfrm>
            <a:off x="4067280" y="4581360"/>
            <a:ext cx="1331640" cy="863640"/>
          </a:xfrm>
          <a:prstGeom prst="wedgeRoundRectCallout">
            <a:avLst>
              <a:gd name="adj1" fmla="val 60370"/>
              <a:gd name="adj2" fmla="val -136949"/>
              <a:gd name="adj3" fmla="val 16667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离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045"/>
          <p:cNvSpPr/>
          <p:nvPr/>
        </p:nvSpPr>
        <p:spPr>
          <a:xfrm>
            <a:off x="3492360" y="549360"/>
            <a:ext cx="1297080" cy="792000"/>
          </a:xfrm>
          <a:prstGeom prst="wedgeRoundRectCallout">
            <a:avLst>
              <a:gd name="adj1" fmla="val 180476"/>
              <a:gd name="adj2" fmla="val 93486"/>
              <a:gd name="adj3" fmla="val 16667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放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E763-4957-480F-9906-D06F1860C1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99"/>
                </a:solidFill>
                <a:latin typeface="Times New Roman"/>
                <a:ea typeface="华文彩云"/>
              </a:rPr>
              <a:t>说文解字：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黑体"/>
              </a:rPr>
              <a:t>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48178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下面的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六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是两只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13" descr=""/>
          <p:cNvPicPr/>
          <p:nvPr/>
        </p:nvPicPr>
        <p:blipFill>
          <a:blip r:embed="rId1"/>
          <a:stretch/>
        </p:blipFill>
        <p:spPr>
          <a:xfrm>
            <a:off x="5292720" y="836640"/>
            <a:ext cx="1812960" cy="3114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4" descr=""/>
          <p:cNvPicPr/>
          <p:nvPr/>
        </p:nvPicPr>
        <p:blipFill>
          <a:blip r:embed="rId2"/>
          <a:stretch/>
        </p:blipFill>
        <p:spPr>
          <a:xfrm>
            <a:off x="7342200" y="835200"/>
            <a:ext cx="1479600" cy="30970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5"/>
          <p:cNvSpPr/>
          <p:nvPr/>
        </p:nvSpPr>
        <p:spPr>
          <a:xfrm>
            <a:off x="500040" y="3357720"/>
            <a:ext cx="5040360" cy="31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冥，两只手把天幕拉上，表示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昏暗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薄暮冥冥：将近傍晚时分，天色昏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type.wav"/>
      </p:stSnd>
    </p:sndAc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3E36-7BF7-4946-82B0-07FF62D996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685800" y="776160"/>
            <a:ext cx="77724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宋体"/>
                <a:ea typeface="楷体_GB2312"/>
              </a:rPr>
              <a:t>　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829476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宋体"/>
              </a:rPr>
              <a:t>　　</a:t>
            </a:r>
            <a:r>
              <a:rPr b="1" lang="zh-CN" sz="3200" spc="-1" strike="noStrike">
                <a:solidFill>
                  <a:srgbClr val="00cc99"/>
                </a:solidFill>
                <a:latin typeface="华文彩云"/>
                <a:ea typeface="华文彩云"/>
              </a:rPr>
              <a:t>译文</a:t>
            </a:r>
            <a:r>
              <a:rPr b="1" lang="zh-CN" sz="3200" spc="-1" strike="noStrike">
                <a:solidFill>
                  <a:srgbClr val="00cc99"/>
                </a:solidFill>
                <a:latin typeface="宋体"/>
              </a:rPr>
              <a:t>3</a:t>
            </a:r>
            <a:br>
              <a:rPr sz="3200"/>
            </a:br>
            <a:r>
              <a:rPr b="1" lang="zh-CN" sz="3200" spc="-1" strike="noStrike">
                <a:solidFill>
                  <a:srgbClr val="00cc99"/>
                </a:solidFill>
                <a:latin typeface="宋体"/>
              </a:rPr>
              <a:t>　　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在那阴雨连绵不断，整月不晴的时候，阴冷的风怒吼着，浑浊的波浪翻腾到空中，日月星辰的光辉消失了，山岳也隐藏了它的行迹，商人和旅客无法通行，桅杆歪斜，船桨折断，傍晚时分，湖上一片昏黑，（只听到）老虎的吼叫和猿猴的悲啼。这时人们登上这座楼来，就会产生离开都城，怀念家乡，担心遭到诽谤，害怕被人讽刺的心情，抬眼望去，尽是萧条的景象，（必将）感慨横生而十分悲伤的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F58D-2322-42AA-8E03-53688F6FEF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99"/>
                </a:solidFill>
                <a:latin typeface="Times New Roman"/>
                <a:ea typeface="华文彩云"/>
              </a:rPr>
              <a:t>注释</a:t>
            </a:r>
            <a:r>
              <a:rPr b="0" lang="zh-CN" sz="4400" spc="-1" strike="noStrike">
                <a:solidFill>
                  <a:srgbClr val="00cc99"/>
                </a:solidFill>
                <a:latin typeface="Times New Roman"/>
                <a:ea typeface="方正琥珀简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1034"/>
          <p:cNvSpPr/>
          <p:nvPr/>
        </p:nvSpPr>
        <p:spPr>
          <a:xfrm>
            <a:off x="4356000" y="404640"/>
            <a:ext cx="1656000" cy="1079640"/>
          </a:xfrm>
          <a:prstGeom prst="wedgeRoundRectCallout">
            <a:avLst>
              <a:gd name="adj1" fmla="val 48754"/>
              <a:gd name="adj2" fmla="val 124851"/>
              <a:gd name="adj3" fmla="val 16667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鸟儿栖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1033"/>
          <p:cNvSpPr/>
          <p:nvPr/>
        </p:nvSpPr>
        <p:spPr>
          <a:xfrm>
            <a:off x="1042920" y="333360"/>
            <a:ext cx="1621080" cy="1008000"/>
          </a:xfrm>
          <a:prstGeom prst="wedgeRoundRectCallout">
            <a:avLst>
              <a:gd name="adj1" fmla="val 16893"/>
              <a:gd name="adj2" fmla="val 81810"/>
              <a:gd name="adj3" fmla="val 16667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至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1037"/>
          <p:cNvSpPr/>
          <p:nvPr/>
        </p:nvSpPr>
        <p:spPr>
          <a:xfrm>
            <a:off x="6588000" y="333360"/>
            <a:ext cx="1513080" cy="863640"/>
          </a:xfrm>
          <a:prstGeom prst="wedgeRoundRectCallout">
            <a:avLst>
              <a:gd name="adj1" fmla="val -27546"/>
              <a:gd name="adj2" fmla="val 233638"/>
              <a:gd name="adj3" fmla="val 16667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有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　　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至若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春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景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明，波澜不惊，上下天光，一碧万顷；沙鸥翔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集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，锦鳞游泳；岸芷汀兰，郁郁青青。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或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长烟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一空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，皓月千里，浮光跃金，静影沉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璧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，渔歌互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答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，此乐何极！登斯楼也，则有心旷神怡，宠辱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偕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忘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把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酒临风，其喜洋洋者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1040"/>
          <p:cNvSpPr/>
          <p:nvPr/>
        </p:nvSpPr>
        <p:spPr>
          <a:xfrm>
            <a:off x="0" y="1268280"/>
            <a:ext cx="1116000" cy="792360"/>
          </a:xfrm>
          <a:prstGeom prst="wedgeRoundRectCallout">
            <a:avLst>
              <a:gd name="adj1" fmla="val 42462"/>
              <a:gd name="adj2" fmla="val 230759"/>
              <a:gd name="adj3" fmla="val 16667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1041"/>
          <p:cNvSpPr/>
          <p:nvPr/>
        </p:nvSpPr>
        <p:spPr>
          <a:xfrm>
            <a:off x="4786200" y="5357880"/>
            <a:ext cx="1440000" cy="792000"/>
          </a:xfrm>
          <a:prstGeom prst="wedgeRoundRectCallout">
            <a:avLst>
              <a:gd name="adj1" fmla="val -22625"/>
              <a:gd name="adj2" fmla="val -102574"/>
              <a:gd name="adj3" fmla="val 16667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一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1042"/>
          <p:cNvSpPr/>
          <p:nvPr/>
        </p:nvSpPr>
        <p:spPr>
          <a:xfrm>
            <a:off x="0" y="5661000"/>
            <a:ext cx="1835280" cy="936720"/>
          </a:xfrm>
          <a:prstGeom prst="wedgeRoundRectCallout">
            <a:avLst>
              <a:gd name="adj1" fmla="val 3805"/>
              <a:gd name="adj2" fmla="val -174574"/>
              <a:gd name="adj3" fmla="val 16667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圆形的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1043"/>
          <p:cNvSpPr/>
          <p:nvPr/>
        </p:nvSpPr>
        <p:spPr>
          <a:xfrm>
            <a:off x="2340000" y="404640"/>
            <a:ext cx="1620720" cy="1008360"/>
          </a:xfrm>
          <a:prstGeom prst="wedgeRoundRectCallout">
            <a:avLst>
              <a:gd name="adj1" fmla="val -94370"/>
              <a:gd name="adj2" fmla="val 249370"/>
              <a:gd name="adj3" fmla="val 16667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消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1044"/>
          <p:cNvSpPr/>
          <p:nvPr/>
        </p:nvSpPr>
        <p:spPr>
          <a:xfrm>
            <a:off x="2916360" y="5734080"/>
            <a:ext cx="1439640" cy="792000"/>
          </a:xfrm>
          <a:prstGeom prst="wedgeRoundRectCallout">
            <a:avLst>
              <a:gd name="adj1" fmla="val -21995"/>
              <a:gd name="adj2" fmla="val -226152"/>
              <a:gd name="adj3" fmla="val 16667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应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1045"/>
          <p:cNvSpPr/>
          <p:nvPr/>
        </p:nvSpPr>
        <p:spPr>
          <a:xfrm>
            <a:off x="7020000" y="5229360"/>
            <a:ext cx="1439640" cy="792000"/>
          </a:xfrm>
          <a:prstGeom prst="wedgeRoundRectCallout">
            <a:avLst>
              <a:gd name="adj1" fmla="val -78898"/>
              <a:gd name="adj2" fmla="val -85291"/>
              <a:gd name="adj3" fmla="val 16667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端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EC96-25B0-4E91-A796-3A59CD4C48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99"/>
                </a:solidFill>
                <a:latin typeface="Times New Roman"/>
                <a:ea typeface="华文彩云"/>
              </a:rPr>
              <a:t>说文解字：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黑体"/>
              </a:rPr>
              <a:t>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6720" y="1628640"/>
            <a:ext cx="8352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宋体"/>
              </a:rPr>
              <a:t>上半部分是一只鸟的象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宋体"/>
              </a:rPr>
              <a:t>本意是鸟落在树上，即栖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宋体"/>
              </a:rPr>
              <a:t>翔集：时而飞翔，时而停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12" descr=""/>
          <p:cNvPicPr/>
          <p:nvPr/>
        </p:nvPicPr>
        <p:blipFill>
          <a:blip r:embed="rId1"/>
          <a:stretch/>
        </p:blipFill>
        <p:spPr>
          <a:xfrm>
            <a:off x="2131920" y="3927600"/>
            <a:ext cx="1290600" cy="25970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" descr=""/>
          <p:cNvPicPr/>
          <p:nvPr/>
        </p:nvPicPr>
        <p:blipFill>
          <a:blip r:embed="rId2"/>
          <a:stretch/>
        </p:blipFill>
        <p:spPr>
          <a:xfrm>
            <a:off x="3943440" y="3932280"/>
            <a:ext cx="1504800" cy="2592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4" descr="30051"/>
          <p:cNvPicPr/>
          <p:nvPr/>
        </p:nvPicPr>
        <p:blipFill>
          <a:blip r:embed="rId3"/>
          <a:stretch/>
        </p:blipFill>
        <p:spPr>
          <a:xfrm>
            <a:off x="6732720" y="16286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5" descr="30129"/>
          <p:cNvPicPr/>
          <p:nvPr/>
        </p:nvPicPr>
        <p:blipFill>
          <a:blip r:embed="rId4"/>
          <a:stretch/>
        </p:blipFill>
        <p:spPr>
          <a:xfrm>
            <a:off x="6516720" y="3716280"/>
            <a:ext cx="1720800" cy="1720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5" name="type.wav"/>
      </p:stSnd>
    </p:sndAc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D913-6072-4FF6-86FB-C64C7227CF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99"/>
                </a:solidFill>
                <a:latin typeface="Times New Roman"/>
                <a:ea typeface="华文彩云"/>
              </a:rPr>
              <a:t>看图释词：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璧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4" descr="璧1上海博物馆"/>
          <p:cNvPicPr/>
          <p:nvPr/>
        </p:nvPicPr>
        <p:blipFill>
          <a:blip r:embed="rId1"/>
          <a:stretch/>
        </p:blipFill>
        <p:spPr>
          <a:xfrm>
            <a:off x="2411280" y="1844640"/>
            <a:ext cx="4256280" cy="31924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type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DF4B-7590-4BA1-B26C-7776FCABFA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457200" y="3841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6288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华文彩云"/>
              </a:rPr>
              <a:t>　　译文</a:t>
            </a:r>
            <a:r>
              <a:rPr b="1" lang="zh-CN" sz="3600" spc="-1" strike="noStrike">
                <a:solidFill>
                  <a:srgbClr val="00cc99"/>
                </a:solidFill>
                <a:latin typeface="方正琥珀简体"/>
                <a:ea typeface="方正琥珀简体"/>
              </a:rPr>
              <a:t>4</a:t>
            </a:r>
            <a:r>
              <a:rPr b="1" lang="zh-CN" sz="3600" spc="-1" strike="noStrike">
                <a:solidFill>
                  <a:srgbClr val="00cc99"/>
                </a:solidFill>
                <a:latin typeface="方正琥珀简体"/>
                <a:ea typeface="方正琥珀简体"/>
              </a:rPr>
              <a:t>：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</a:rPr>
              <a:t>待到春风和煦、阳光明媚（的日子来临），湖面平静，天光和水色交相辉映，碧绿的湖水一望无际，沙鸥时而展翅高飞，时而落下栖息，美丽的鱼儿游来游去，岸上、小洲上的芷草兰花，香气浓郁，青翠碧绿，有时湖上烟雾完全消散，皎洁的月光一泻千里，湖面上闪烁着金光，月儿的倒影犹如一块玉璧静静的沉在水底，渔夫的歌声一唱一和，这样的乐趣，哪里有穷尽！这时人们登上这座楼来，就会感到胸怀开阔，精神愉快，荣辱得失都被忘却，（于是）在春风吹拂中举杯痛饮，高兴到极点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8CA0-E059-4C9E-A2F1-8FA63751BC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99"/>
                </a:solidFill>
                <a:latin typeface="Times New Roman"/>
                <a:ea typeface="华文彩云"/>
              </a:rPr>
              <a:t>注释</a:t>
            </a:r>
            <a:r>
              <a:rPr b="0" lang="zh-CN" sz="4400" spc="-1" strike="noStrike">
                <a:solidFill>
                  <a:srgbClr val="00cc99"/>
                </a:solidFill>
                <a:latin typeface="Times New Roman"/>
                <a:ea typeface="方正琥珀简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1031"/>
          <p:cNvSpPr/>
          <p:nvPr/>
        </p:nvSpPr>
        <p:spPr>
          <a:xfrm>
            <a:off x="1476360" y="619200"/>
            <a:ext cx="1224000" cy="863640"/>
          </a:xfrm>
          <a:prstGeom prst="wedgeRoundRectCallout">
            <a:avLst>
              <a:gd name="adj1" fmla="val 12518"/>
              <a:gd name="adj2" fmla="val 80884"/>
              <a:gd name="adj3" fmla="val 16667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哎</a:t>
            </a:r>
            <a:r>
              <a:rPr b="0" lang="en-US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69236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　　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嗟夫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！予尝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求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古仁人之心，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或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异二者之为，何哉？不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以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物喜，不以己悲；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居庙堂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之高则忧其民；处江湖之远则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忧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其君。是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进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亦忧，退亦忧。然则何时而乐耶？其必曰</a:t>
            </a: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“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先天下之忧而忧，后天下之乐而乐</a:t>
            </a: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”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乎。噫！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微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斯人，吾谁与归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1034"/>
          <p:cNvSpPr/>
          <p:nvPr/>
        </p:nvSpPr>
        <p:spPr>
          <a:xfrm>
            <a:off x="4356000" y="547560"/>
            <a:ext cx="1295640" cy="863640"/>
          </a:xfrm>
          <a:prstGeom prst="wedgeRoundRectCallout">
            <a:avLst>
              <a:gd name="adj1" fmla="val -29902"/>
              <a:gd name="adj2" fmla="val 85476"/>
              <a:gd name="adj3" fmla="val 16667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探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1033"/>
          <p:cNvSpPr/>
          <p:nvPr/>
        </p:nvSpPr>
        <p:spPr>
          <a:xfrm>
            <a:off x="2500200" y="285840"/>
            <a:ext cx="2016360" cy="1224000"/>
          </a:xfrm>
          <a:prstGeom prst="wedgeRoundRectCallout">
            <a:avLst>
              <a:gd name="adj1" fmla="val -4800"/>
              <a:gd name="adj2" fmla="val 207069"/>
              <a:gd name="adj3" fmla="val 16667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为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忧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1035"/>
          <p:cNvSpPr/>
          <p:nvPr/>
        </p:nvSpPr>
        <p:spPr>
          <a:xfrm>
            <a:off x="7667640" y="619200"/>
            <a:ext cx="1476360" cy="863640"/>
          </a:xfrm>
          <a:prstGeom prst="wedgeRoundRectCallout">
            <a:avLst>
              <a:gd name="adj1" fmla="val -24300"/>
              <a:gd name="adj2" fmla="val 81986"/>
              <a:gd name="adj3" fmla="val 16667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或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1036"/>
          <p:cNvSpPr/>
          <p:nvPr/>
        </p:nvSpPr>
        <p:spPr>
          <a:xfrm>
            <a:off x="2916360" y="5805360"/>
            <a:ext cx="1368360" cy="863640"/>
          </a:xfrm>
          <a:prstGeom prst="wedgeRoundRectCallout">
            <a:avLst>
              <a:gd name="adj1" fmla="val 26449"/>
              <a:gd name="adj2" fmla="val -93564"/>
              <a:gd name="adj3" fmla="val 16667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没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1037"/>
          <p:cNvSpPr/>
          <p:nvPr/>
        </p:nvSpPr>
        <p:spPr>
          <a:xfrm>
            <a:off x="5796000" y="692280"/>
            <a:ext cx="1476360" cy="863640"/>
          </a:xfrm>
          <a:prstGeom prst="wedgeRoundRectCallout">
            <a:avLst>
              <a:gd name="adj1" fmla="val -29569"/>
              <a:gd name="adj2" fmla="val 156435"/>
              <a:gd name="adj3" fmla="val 16667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因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1038"/>
          <p:cNvSpPr/>
          <p:nvPr/>
        </p:nvSpPr>
        <p:spPr>
          <a:xfrm>
            <a:off x="250920" y="1341360"/>
            <a:ext cx="1476360" cy="863640"/>
          </a:xfrm>
          <a:prstGeom prst="wedgeRoundRectCallout">
            <a:avLst>
              <a:gd name="adj1" fmla="val 123439"/>
              <a:gd name="adj2" fmla="val 136398"/>
              <a:gd name="adj3" fmla="val 16667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位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1039"/>
          <p:cNvSpPr/>
          <p:nvPr/>
        </p:nvSpPr>
        <p:spPr>
          <a:xfrm>
            <a:off x="108000" y="2421000"/>
            <a:ext cx="1368360" cy="863640"/>
          </a:xfrm>
          <a:prstGeom prst="wedgeRoundRectCallout">
            <a:avLst>
              <a:gd name="adj1" fmla="val 200537"/>
              <a:gd name="adj2" fmla="val 35180"/>
              <a:gd name="adj3" fmla="val 16667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朝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1040"/>
          <p:cNvSpPr/>
          <p:nvPr/>
        </p:nvSpPr>
        <p:spPr>
          <a:xfrm>
            <a:off x="7667640" y="3860640"/>
            <a:ext cx="1368360" cy="863640"/>
          </a:xfrm>
          <a:prstGeom prst="wedgeRoundRectCallout">
            <a:avLst>
              <a:gd name="adj1" fmla="val -150324"/>
              <a:gd name="adj2" fmla="val -54597"/>
              <a:gd name="adj3" fmla="val 16667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做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1041"/>
          <p:cNvSpPr/>
          <p:nvPr/>
        </p:nvSpPr>
        <p:spPr>
          <a:xfrm>
            <a:off x="7451640" y="5805360"/>
            <a:ext cx="1368360" cy="863640"/>
          </a:xfrm>
          <a:prstGeom prst="wedgeRoundRectCallout">
            <a:avLst>
              <a:gd name="adj1" fmla="val -34685"/>
              <a:gd name="adj2" fmla="val -83824"/>
              <a:gd name="adj3" fmla="val 16667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归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B647-336C-44F2-AF93-607FB86E20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99"/>
                </a:solidFill>
                <a:latin typeface="Times New Roman"/>
                <a:ea typeface="华文彩云"/>
              </a:rPr>
              <a:t>难句翻译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不以物喜，不以己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3333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华文新魏"/>
              </a:rPr>
              <a:t>不因外物的好坏和个人的得失而或喜或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7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D37A-3C8E-4F2E-BC0A-7D3778A1DD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99"/>
                </a:solidFill>
                <a:latin typeface="Times New Roman"/>
                <a:ea typeface="华文彩云"/>
              </a:rPr>
              <a:t>岳阳楼历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4720" y="1341000"/>
            <a:ext cx="81345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　　北宋庆历四年，滕子京被贬至岳州，两年后大规模重修此楼。完工后，他将楼的建筑结构、四周风光及唐代诗人的作品写下，连同一幅</a:t>
            </a:r>
            <a:r>
              <a:rPr b="1" lang="en-US" sz="3200" spc="-1" strike="noStrike">
                <a:solidFill>
                  <a:srgbClr val="3333cc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洞庭晚秋图</a:t>
            </a:r>
            <a:r>
              <a:rPr b="1" lang="en-US" sz="3200" spc="-1" strike="noStrike">
                <a:solidFill>
                  <a:srgbClr val="3333cc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寄给了远在河南邓州的好友范仲淹。庆历六年，范仲淹写下千古流传的</a:t>
            </a:r>
            <a:r>
              <a:rPr b="1" lang="en-US" sz="3200" spc="-1" strike="noStrike">
                <a:solidFill>
                  <a:srgbClr val="3333cc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岳阳楼记</a:t>
            </a:r>
            <a:r>
              <a:rPr b="1" lang="en-US" sz="3200" spc="-1" strike="noStrike">
                <a:solidFill>
                  <a:srgbClr val="3333cc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，抒发了他“先天下之忧而忧，后天下之乐而乐”的高洁怀抱。自此</a:t>
            </a:r>
            <a:r>
              <a:rPr b="1" lang="en-US" sz="3200" spc="-1" strike="noStrike">
                <a:solidFill>
                  <a:srgbClr val="3333cc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岳阳楼记</a:t>
            </a:r>
            <a:r>
              <a:rPr b="1" lang="en-US" sz="3200" spc="-1" strike="noStrike">
                <a:solidFill>
                  <a:srgbClr val="3333cc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名传千古，岳阳楼也名满四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AC8E-C788-4EE0-AA4E-C8B6D9DD61EA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920520"/>
            <a:ext cx="7772400" cy="87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居庙堂之高则忧其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2251"/>
              </a:spcBef>
              <a:buClr>
                <a:srgbClr val="3333cc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在高高的朝堂上就为百姓忧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2251"/>
              </a:spcBef>
              <a:buClr>
                <a:srgbClr val="3333cc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在朝廷做官就为百姓忧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处江湖之远则忧其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2251"/>
              </a:spcBef>
              <a:buClr>
                <a:srgbClr val="3333cc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处在遥远的江湖上就替君主担忧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2251"/>
              </a:spcBef>
              <a:buClr>
                <a:srgbClr val="3333cc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不在朝廷做官就替君主担忧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4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9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4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FCE2-7C21-4E19-971F-2285B83E12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先天下之忧而忧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后天下之乐而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42720" y="1989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先（于）天下之忧而忧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后（于）天下之乐而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3333cc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华文新魏"/>
                <a:ea typeface="华文新魏"/>
              </a:rPr>
              <a:t>在天下人忧虑之前先忧虑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buClr>
                <a:srgbClr val="3333cc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华文新魏"/>
                <a:ea typeface="华文新魏"/>
              </a:rPr>
              <a:t>在天下人快乐之后才快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1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6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1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15EC-AA7A-4C46-B777-98B157F25D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微斯人，吾谁与归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4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“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华文新魏"/>
              </a:rPr>
              <a:t>吾谁与归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”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华文新魏"/>
              </a:rPr>
              <a:t>属宾语前置，需颠倒语序：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华文新魏"/>
              </a:rPr>
              <a:t>吾与谁归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华文新魏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33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华文新魏"/>
              </a:rPr>
              <a:t>除了这样的人，我和谁同道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8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3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F6A5-A3BC-452D-B08A-14E0F17219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304920" y="1066680"/>
            <a:ext cx="83818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609480"/>
            <a:ext cx="842472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Times New Roman"/>
                <a:ea typeface="华文彩云"/>
              </a:rPr>
              <a:t>　　译文</a:t>
            </a:r>
            <a:r>
              <a:rPr b="0" lang="zh-CN" sz="3200" spc="-1" strike="noStrike">
                <a:solidFill>
                  <a:srgbClr val="00cc99"/>
                </a:solidFill>
                <a:latin typeface="方正琥珀简体"/>
                <a:ea typeface="方正琥珀简体"/>
              </a:rPr>
              <a:t>5</a:t>
            </a:r>
            <a:br>
              <a:rPr sz="3200"/>
            </a:br>
            <a:r>
              <a:rPr b="0" lang="zh-CN" sz="3200" spc="-1" strike="noStrike">
                <a:solidFill>
                  <a:srgbClr val="00cc99"/>
                </a:solidFill>
                <a:latin typeface="方正琥珀简体"/>
                <a:ea typeface="方正琥珀简体"/>
              </a:rPr>
              <a:t>　　</a:t>
            </a: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唉！我曾经探究过古代品德高尚的人的思想，他们或许跟以上两种感情不同，为什么呢？（是因为）他们不因外物的好坏和个人的得失而或喜或悲。在朝廷做官就为百姓忧虑，退处江湖就替国君担忧。这样进朝廷做官也担忧，退处江湖也担忧，那么，他们什么时候才快乐呢？那一定会说“在天下人忧虑之前先忧虑，在天下人快乐之后再快乐”吧！啊！除了这样的人，我还能和谁同道呢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10" descr="http://pic2.nipic.com/20090406/1398940_213739047_2.jpg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529400"/>
          </a:xfrm>
          <a:prstGeom prst="rect">
            <a:avLst/>
          </a:prstGeom>
          <a:ln w="0">
            <a:noFill/>
          </a:ln>
        </p:spPr>
      </p:pic>
      <p:sp>
        <p:nvSpPr>
          <p:cNvPr id="216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C138-D2BE-4532-977D-9B68D9664E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762120" y="91440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14240" y="107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质询研讨　深入理解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type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6926-5BE9-4518-9ABF-FAEDDCC5D7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22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　被贬，总不是什么好事，范仲淹在文章一 开头便提滕子京“谪守巴陵郡”，是否让老朋友难堪呢？（课文为什么这样开头？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9280" y="2636640"/>
            <a:ext cx="80629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滕子京“谪守巴陵郡”，才一年工夫，就“政通人和，百废具兴”，还重修了岳阳楼，这样开头，既是对他政绩的赞扬，也是为他的被贬鸣不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还呼应后文，劝勉他“不以己悲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0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5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7D8D-B8BA-464C-B660-83F66848EC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8062560" cy="12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二自然段中写景的句子是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衔远山，吞长江，浩浩汤汤，横无际涯；朝晖夕阴，气象万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其中哪两个字最有气势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衔、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WordArt 7"/>
          <p:cNvSpPr txBox="1"/>
          <p:nvPr/>
        </p:nvSpPr>
        <p:spPr>
          <a:xfrm>
            <a:off x="6659640" y="4437000"/>
            <a:ext cx="210024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707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请朗读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2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7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2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6C7B-13B2-45A2-904F-6C8B8FC869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000" y="609480"/>
            <a:ext cx="828036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99"/>
                </a:solidFill>
                <a:latin typeface="Times New Roman"/>
                <a:ea typeface="华文彩云"/>
              </a:rPr>
              <a:t>地理知识：</a:t>
            </a:r>
            <a:r>
              <a:rPr b="0" lang="zh-CN" sz="4000" spc="-1" strike="noStrike">
                <a:solidFill>
                  <a:srgbClr val="a50021"/>
                </a:solidFill>
                <a:latin typeface="Times New Roman"/>
                <a:ea typeface="黑体"/>
              </a:rPr>
              <a:t>洞庭湖“吞吐”长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76280" y="1557360"/>
            <a:ext cx="819000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　　写洞庭湖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吞长江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不但很有气势，而且非常符合洞庭湖地理水文的实际。洞庭湖的上游主要是湘江、潇水，它们源于我国南部，汛期在春季。长江源于川、滇、青、藏等西部高原，汛期在夏季。洞庭湖流域的汛期，正是长江的枯水期，此时它自然会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吐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长江，补充长江水量。而长江的汛期，又正值洞庭湖汛期过后，此时洞庭湖便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吞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长江，降低长江洪峰。 所以，洞庭湖是长江水量的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天然调节器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4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15C3-03FE-460D-AABA-A7EA43D362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　　为什么洞庭湖的“胜状”写得这么简略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因为写景不是本文目的，目的是借景书怀，并劝勉滕子京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还因为“前人之述备矣” 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1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6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E70E-DF9C-4891-96DC-24D7B4F7704D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此则岳阳楼之大观也，前人之述备矣。</a:t>
            </a:r>
            <a:br>
              <a:rPr sz="48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“前人之述备矣”呼应前文哪一句？“前人之述”指的是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8244000" cy="21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呼应“刻唐贤今人诗赋于其上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前人之述”指“唐贤今人诗赋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WordArt 7"/>
          <p:cNvSpPr txBox="1"/>
          <p:nvPr/>
        </p:nvSpPr>
        <p:spPr>
          <a:xfrm>
            <a:off x="2057400" y="5157720"/>
            <a:ext cx="50292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下面开始提问题、发议论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  <p:sndAc>
      <p:stSnd>
        <p:snd r:embed="rId3" name="type.wav"/>
      </p:stSnd>
    </p:sndAc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3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8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2194-FFD3-41F8-836F-D29D8E62A3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3886200" cy="130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a50021"/>
                </a:solidFill>
                <a:latin typeface="Times New Roman"/>
                <a:ea typeface="华文彩云"/>
              </a:rPr>
              <a:t>作者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38862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a50021"/>
                </a:solidFill>
                <a:latin typeface="Times New Roman"/>
                <a:ea typeface="黑体"/>
              </a:rPr>
              <a:t>范仲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北宋政治家</a:t>
            </a:r>
            <a:br>
              <a:rPr sz="4400"/>
            </a:b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　　文学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1C41-DE25-443E-8435-B4F86BE65E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第二段提出了一个什么问题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440" y="2276280"/>
            <a:ext cx="813420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然则北通巫峡，南极潇湘，迁客骚人，多会于此。览物之情，得无异乎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0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F241-F273-4BE0-92E6-2334081862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览物之情，得无异乎”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这一问题在结构上起什么作用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4560" y="2204640"/>
            <a:ext cx="817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0720" indent="-45072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承上启下，是全文“关节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上承岳阳楼大观，引出 “迁客骚人”的“览物之情，进而引出关于“古仁人之心”的议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7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2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51D7-2EF0-44C4-90CE-91C097A34436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6360" y="620640"/>
            <a:ext cx="7989840" cy="23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　　然则北通巫峡，南极潇湘，迁客骚人，多会于此。</a:t>
            </a:r>
            <a:br>
              <a:rPr sz="4000"/>
            </a:br>
            <a:r>
              <a:rPr b="1" lang="zh-CN" sz="4000" spc="-1" strike="noStrike">
                <a:solidFill>
                  <a:srgbClr val="00cc99"/>
                </a:solidFill>
                <a:latin typeface="Times New Roman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知道历史上有哪些迁客骚人“会”于此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80294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屈原、贾谊、李白、杜甫 、孟浩然、柳宗元、刘禹锡、张说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现在又有了一个滕子京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9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4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8B58-766F-4C9F-85D7-1653C1AC6684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指出第三段描写景物的文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9492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若夫霪雨霏霏，连月不开，阴风怒号，浊浪排空；日星隐曜，山岳潜形；商旅不行，樯倾楫摧；薄暮冥冥，虎啸猿啼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这些景物描写渲染了什么气氛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渲染“悲”的气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WordArt 7"/>
          <p:cNvSpPr txBox="1"/>
          <p:nvPr/>
        </p:nvSpPr>
        <p:spPr>
          <a:xfrm>
            <a:off x="6705720" y="609480"/>
            <a:ext cx="152388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707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请朗读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1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6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1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6FEF-2D39-4E55-B606-955B8D935F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指出第四段描写景物的文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35164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至若春和景明，波澜不惊，上下天光，一碧万顷；沙鸥翔集，锦鳞游泳；岸芷汀兰，郁郁青青。而或长烟一空，皓月千里，浮光跃金，静影沉璧，渔歌互答，此乐何极</a:t>
            </a:r>
            <a:r>
              <a:rPr b="1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这些文字渲染了什么气氛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华文新魏"/>
                <a:ea typeface="华文新魏"/>
              </a:rPr>
              <a:t>渲染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“</a:t>
            </a:r>
            <a:r>
              <a:rPr b="1" lang="zh-CN" sz="4000" spc="-1" strike="noStrike">
                <a:solidFill>
                  <a:srgbClr val="3333cc"/>
                </a:solidFill>
                <a:latin typeface="华文新魏"/>
                <a:ea typeface="华文新魏"/>
              </a:rPr>
              <a:t>喜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”</a:t>
            </a:r>
            <a:r>
              <a:rPr b="1" lang="zh-CN" sz="4000" spc="-1" strike="noStrike">
                <a:solidFill>
                  <a:srgbClr val="3333cc"/>
                </a:solidFill>
                <a:latin typeface="华文新魏"/>
                <a:ea typeface="华文新魏"/>
              </a:rPr>
              <a:t>的气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WordArt 7"/>
          <p:cNvSpPr txBox="1"/>
          <p:nvPr/>
        </p:nvSpPr>
        <p:spPr>
          <a:xfrm rot="20708400">
            <a:off x="6757920" y="4782960"/>
            <a:ext cx="2316240" cy="8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707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7134000"/>
                </a:gradFill>
                <a:latin typeface="宋体"/>
              </a:rPr>
              <a:t>请朗读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7134000"/>
              </a:gradFill>
              <a:latin typeface="宋体"/>
              <a:ea typeface="宋体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3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8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3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A24B-858A-48EE-B66B-A3E2E9C2D6E1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98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　指出第三、四段写“迁客骚人”心情的句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登斯楼也，则有去国怀乡，忧谗畏讥，满目萧然，感极而悲者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登斯楼也，则有心旷神怡，宠辱偕忘，把酒临风，其喜洋洋者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这些迁客骚人因什么而或悲或喜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因物、因己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WordArt 7"/>
          <p:cNvSpPr txBox="1"/>
          <p:nvPr/>
        </p:nvSpPr>
        <p:spPr>
          <a:xfrm>
            <a:off x="5791320" y="1143000"/>
            <a:ext cx="178092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707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请朗读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5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0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5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0" dur="5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763C-AC83-44E4-9388-51430EECB937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134560" cy="14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予尝求古仁人之心，或异二者之为。</a:t>
            </a:r>
            <a:br>
              <a:rPr sz="3600"/>
            </a:br>
            <a:r>
              <a:rPr b="1" lang="zh-CN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“古仁人之心”是怎样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42720" y="1989000"/>
            <a:ext cx="84582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不以物喜，不以己悲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居庙堂之高则忧其民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处江湖之远则忧其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或异二者之为”中的“二者”指的是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上文“感极而悲者”，“其喜洋洋者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2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7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2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7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2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09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居庙堂之高则忧其民；</a:t>
            </a:r>
            <a:br>
              <a:rPr sz="3600"/>
            </a:b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处江湖之远则忧其君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“居庙堂之高” 和“处江湖之远”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各指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63640" y="3428640"/>
            <a:ext cx="741528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在朝廷做官（为官）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不在朝廷做官（为民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9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4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00080" y="785520"/>
            <a:ext cx="7772400" cy="195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是进亦忧，退亦忧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……</a:t>
            </a:r>
            <a:br>
              <a:rPr sz="40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进” “退”分别照应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2708280"/>
            <a:ext cx="7772400" cy="30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居庙堂之高，处江湖之远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1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91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　抒发自己旷达胸襟和政治抱负的语句是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95280" y="2420640"/>
            <a:ext cx="8353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378000" algn="ctr">
              <a:lnSpc>
                <a:spcPct val="100000"/>
              </a:lnSpc>
              <a:spcBef>
                <a:spcPts val="2999"/>
              </a:spcBef>
              <a:buClr>
                <a:srgbClr val="3333cc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华文新魏"/>
                <a:ea typeface="华文新魏"/>
              </a:rPr>
              <a:t>先天下之忧而忧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ctr">
              <a:lnSpc>
                <a:spcPct val="100000"/>
              </a:lnSpc>
              <a:spcBef>
                <a:spcPts val="2500"/>
              </a:spcBef>
              <a:buClr>
                <a:srgbClr val="3333cc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华文新魏"/>
                <a:ea typeface="华文新魏"/>
              </a:rPr>
              <a:t>后天下之乐而乐。</a:t>
            </a:r>
            <a:r>
              <a:rPr b="1" lang="zh-CN" sz="4000" spc="-1" strike="noStrike">
                <a:solidFill>
                  <a:srgbClr val="3333cc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WordArt 7"/>
          <p:cNvSpPr txBox="1"/>
          <p:nvPr/>
        </p:nvSpPr>
        <p:spPr>
          <a:xfrm>
            <a:off x="3276720" y="4495680"/>
            <a:ext cx="2590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707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请高声朗读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BF09-764E-41A8-B58C-DA70C50DB8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99"/>
                </a:solidFill>
                <a:latin typeface="Times New Roman"/>
                <a:ea typeface="华文彩云"/>
              </a:rPr>
              <a:t>范仲淹简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1342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　　范仲淹，出身贫寒，幼年丧父，经发奋苦读，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26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岁中进士。因敢于直言强谏，久不被重用。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庆历元年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1041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）任陕西经略安抚副使，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加强对西夏的防御，卓立功勋，使西夏多年不敢入侵。当时边境上流传歌谣：“军中有一范，西贼闻之惊破胆。”西夏军中也流传：“小范老子，胸中自有十万雄兵。”庆历三年</a:t>
            </a:r>
            <a:r>
              <a:rPr b="0" lang="en-US" sz="2800" spc="-1" strike="noStrike">
                <a:solidFill>
                  <a:srgbClr val="3333cc"/>
                </a:solidFill>
                <a:latin typeface="宋体"/>
              </a:rPr>
              <a:t>(1043)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西夏请和，范仲淹还朝任参知政事（副宰相），因力主改革遭保守派反对，于庆历五年</a:t>
            </a:r>
            <a:r>
              <a:rPr b="0" lang="en-US" sz="2800" spc="-1" strike="noStrike">
                <a:solidFill>
                  <a:srgbClr val="3333cc"/>
                </a:solidFill>
                <a:latin typeface="宋体"/>
              </a:rPr>
              <a:t>(1045)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贬官邓州。后来还做过杭州、青州太守。死后谥号文正。有</a:t>
            </a:r>
            <a:r>
              <a:rPr b="0" lang="en-US" sz="2800" spc="-1" strike="noStrike">
                <a:solidFill>
                  <a:srgbClr val="3333cc"/>
                </a:solidFill>
                <a:latin typeface="宋体"/>
              </a:rPr>
              <a:t>《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范文正公集</a:t>
            </a:r>
            <a:r>
              <a:rPr b="0" lang="en-US" sz="2800" spc="-1" strike="noStrike">
                <a:solidFill>
                  <a:srgbClr val="3333cc"/>
                </a:solidFill>
                <a:latin typeface="宋体"/>
              </a:rPr>
              <a:t>》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本文主题句是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先天下之忧而忧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后天下之乐而乐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　表示对滕子京的慰勉与规箴之意的句子是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2349000"/>
            <a:ext cx="791856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微斯人，吾谁与归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斯人”指什么人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指古仁人和有古仁人之心的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7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2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7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结尾一段使用的表达方式是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议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这段文字在文中所起的作用是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抒发政治抱负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点明全文主旨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4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9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4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9" dur="5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3"/>
          <p:cNvSpPr/>
          <p:nvPr/>
        </p:nvSpPr>
        <p:spPr>
          <a:xfrm>
            <a:off x="762120" y="91440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1752480" y="457200"/>
            <a:ext cx="5639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80"/>
                </a:solidFill>
                <a:latin typeface="Times New Roman"/>
                <a:ea typeface="华文彩云"/>
              </a:rPr>
              <a:t>归纳要点　复习巩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10" descr="http://www.bs01.com.cn/files/loadup/images/images/2012.10.11/57815.66.jpg"/>
          <p:cNvPicPr/>
          <p:nvPr/>
        </p:nvPicPr>
        <p:blipFill>
          <a:blip r:embed="rId1"/>
          <a:stretch/>
        </p:blipFill>
        <p:spPr>
          <a:xfrm>
            <a:off x="1714680" y="1428840"/>
            <a:ext cx="6000480" cy="4476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type.wav"/>
      </p:stSnd>
    </p:sndAc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0080"/>
                </a:solidFill>
                <a:latin typeface="Times New Roman"/>
                <a:ea typeface="方正琥珀简体"/>
              </a:rPr>
              <a:t>解释加红色的词语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3670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谪守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巴陵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政通人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百废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具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乃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重修岳阳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增其旧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属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予作文以记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9"/>
          <p:cNvSpPr/>
          <p:nvPr/>
        </p:nvSpPr>
        <p:spPr>
          <a:xfrm>
            <a:off x="4140360" y="1844640"/>
            <a:ext cx="45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Times New Roman"/>
                <a:ea typeface="华文新魏"/>
              </a:rPr>
              <a:t>贬官　做太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Times New Roman"/>
                <a:ea typeface="华文新魏"/>
              </a:rPr>
              <a:t>政治通达　百姓和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Times New Roman"/>
                <a:ea typeface="华文新魏"/>
              </a:rPr>
              <a:t>同</a:t>
            </a:r>
            <a:r>
              <a:rPr b="1" lang="zh-CN" sz="3600" spc="-1" strike="noStrike">
                <a:solidFill>
                  <a:srgbClr val="00b050"/>
                </a:solidFill>
                <a:latin typeface="宋体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00b050"/>
                </a:solidFill>
                <a:latin typeface="Times New Roman"/>
                <a:ea typeface="华文新魏"/>
              </a:rPr>
              <a:t>俱</a:t>
            </a:r>
            <a:r>
              <a:rPr b="1" lang="zh-CN" sz="3600" spc="-1" strike="noStrike">
                <a:solidFill>
                  <a:srgbClr val="00b050"/>
                </a:solidFill>
                <a:latin typeface="宋体"/>
                <a:ea typeface="华文新魏"/>
              </a:rPr>
              <a:t>”</a:t>
            </a:r>
            <a:r>
              <a:rPr b="1" lang="zh-CN" sz="3600" spc="-1" strike="noStrike">
                <a:solidFill>
                  <a:srgbClr val="00b050"/>
                </a:solidFill>
                <a:latin typeface="Times New Roman"/>
                <a:ea typeface="华文新魏"/>
              </a:rPr>
              <a:t>，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Times New Roman"/>
                <a:ea typeface="华文新魏"/>
              </a:rPr>
              <a:t>于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Times New Roman"/>
                <a:ea typeface="华文新魏"/>
              </a:rPr>
              <a:t>规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Times New Roman"/>
                <a:ea typeface="华文新魏"/>
              </a:rPr>
              <a:t>同</a:t>
            </a:r>
            <a:r>
              <a:rPr b="1" lang="zh-CN" sz="3600" spc="-1" strike="noStrike">
                <a:solidFill>
                  <a:srgbClr val="00b050"/>
                </a:solidFill>
                <a:latin typeface="宋体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00b050"/>
                </a:solidFill>
                <a:latin typeface="Times New Roman"/>
                <a:ea typeface="华文新魏"/>
              </a:rPr>
              <a:t>嘱</a:t>
            </a:r>
            <a:r>
              <a:rPr b="1" lang="zh-CN" sz="3600" spc="-1" strike="noStrike">
                <a:solidFill>
                  <a:srgbClr val="00b050"/>
                </a:solidFill>
                <a:latin typeface="宋体"/>
                <a:ea typeface="华文新魏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4920" y="609480"/>
            <a:ext cx="3673440" cy="526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夫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巴陵胜状</a:t>
            </a:r>
            <a:br>
              <a:rPr sz="4000"/>
            </a:b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浩浩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汤汤</a:t>
            </a:r>
            <a:br>
              <a:rPr sz="4000"/>
            </a:b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朝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晖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夕阴</a:t>
            </a:r>
            <a:br>
              <a:rPr sz="4000"/>
            </a:b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岳阳楼之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大观</a:t>
            </a:r>
            <a:br>
              <a:rPr sz="4000"/>
            </a:b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然则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北通巫峡</a:t>
            </a:r>
            <a:br>
              <a:rPr sz="4000"/>
            </a:b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南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极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潇湘</a:t>
            </a:r>
            <a:br>
              <a:rPr sz="4000"/>
            </a:b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迁客骚人</a:t>
            </a:r>
            <a:br>
              <a:rPr sz="4000"/>
            </a:b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多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会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于此</a:t>
            </a:r>
            <a:br>
              <a:rPr sz="4000"/>
            </a:b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得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无异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995280" y="402840"/>
            <a:ext cx="5148360" cy="57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Times New Roman"/>
                <a:ea typeface="华文新魏"/>
              </a:rPr>
              <a:t>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Times New Roman"/>
                <a:ea typeface="华文新魏"/>
              </a:rPr>
              <a:t>水流浩大的样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Times New Roman"/>
                <a:ea typeface="华文新魏"/>
              </a:rPr>
              <a:t>日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Times New Roman"/>
                <a:ea typeface="华文新魏"/>
              </a:rPr>
              <a:t>壮丽景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Times New Roman"/>
                <a:ea typeface="华文新魏"/>
              </a:rPr>
              <a:t>既然这样，那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Times New Roman"/>
                <a:ea typeface="华文新魏"/>
              </a:rPr>
              <a:t>尽，到尽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Times New Roman"/>
                <a:ea typeface="华文新魏"/>
              </a:rPr>
              <a:t>降职远调的人　诗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Times New Roman"/>
                <a:ea typeface="华文新魏"/>
              </a:rPr>
              <a:t>聚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Times New Roman"/>
                <a:ea typeface="华文新魏"/>
              </a:rPr>
              <a:t>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3097080" cy="564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若夫</a:t>
            </a:r>
            <a:br>
              <a:rPr sz="4000"/>
            </a:b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霪雨</a:t>
            </a:r>
            <a:br>
              <a:rPr sz="4000"/>
            </a:b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霏霏</a:t>
            </a:r>
            <a:br>
              <a:rPr sz="4000"/>
            </a:b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浊浪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排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空</a:t>
            </a:r>
            <a:br>
              <a:rPr sz="4000"/>
            </a:b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樯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倾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楫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摧</a:t>
            </a:r>
            <a:br>
              <a:rPr sz="4000"/>
            </a:b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薄暮冥冥</a:t>
            </a:r>
            <a:br>
              <a:rPr sz="4000"/>
            </a:b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登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斯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楼也</a:t>
            </a:r>
            <a:br>
              <a:rPr sz="4000"/>
            </a:b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去国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怀乡</a:t>
            </a:r>
            <a:br>
              <a:rPr sz="4000"/>
            </a:b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忧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谗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畏讥</a:t>
            </a:r>
            <a:br>
              <a:rPr sz="4000"/>
            </a:b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满目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萧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140360" y="0"/>
            <a:ext cx="4317840" cy="645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Times New Roman"/>
                <a:ea typeface="华文新魏"/>
              </a:rPr>
              <a:t>像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Times New Roman"/>
                <a:ea typeface="华文新魏"/>
              </a:rPr>
              <a:t>连绵的雨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Times New Roman"/>
                <a:ea typeface="华文新魏"/>
              </a:rPr>
              <a:t>雨雪繁密的样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Times New Roman"/>
                <a:ea typeface="华文新魏"/>
              </a:rPr>
              <a:t>冲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Times New Roman"/>
                <a:ea typeface="华文新魏"/>
              </a:rPr>
              <a:t>桅杆　船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Times New Roman"/>
                <a:ea typeface="华文新魏"/>
              </a:rPr>
              <a:t>傍晚　昏暗的样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Times New Roman"/>
                <a:ea typeface="华文新魏"/>
              </a:rPr>
              <a:t>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Times New Roman"/>
                <a:ea typeface="华文新魏"/>
              </a:rPr>
              <a:t>离开国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Times New Roman"/>
                <a:ea typeface="华文新魏"/>
              </a:rPr>
              <a:t>说坏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Times New Roman"/>
                <a:ea typeface="华文新魏"/>
              </a:rPr>
              <a:t>萧条冷落的样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330984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　　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至若</a:t>
            </a:r>
            <a:br>
              <a:rPr sz="4000"/>
            </a:b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春和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景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明</a:t>
            </a:r>
            <a:br>
              <a:rPr sz="4000"/>
            </a:b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沙鸥翔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集</a:t>
            </a:r>
            <a:br>
              <a:rPr sz="4000"/>
            </a:b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锦鳞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游泳</a:t>
            </a:r>
            <a:br>
              <a:rPr sz="4000"/>
            </a:b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而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或</a:t>
            </a:r>
            <a:br>
              <a:rPr sz="4000"/>
            </a:b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长烟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一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空</a:t>
            </a:r>
            <a:br>
              <a:rPr sz="4000"/>
            </a:b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皓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月千里</a:t>
            </a:r>
            <a:br>
              <a:rPr sz="4000"/>
            </a:b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静影沉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璧</a:t>
            </a:r>
            <a:br>
              <a:rPr sz="4000"/>
            </a:b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心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旷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神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1640" y="189000"/>
            <a:ext cx="388620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Times New Roman"/>
                <a:ea typeface="华文新魏"/>
              </a:rPr>
              <a:t>至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Times New Roman"/>
                <a:ea typeface="华文新魏"/>
              </a:rPr>
              <a:t>日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Times New Roman"/>
                <a:ea typeface="华文新魏"/>
              </a:rPr>
              <a:t>栖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Times New Roman"/>
                <a:ea typeface="华文新魏"/>
              </a:rPr>
              <a:t>美丽的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Times New Roman"/>
                <a:ea typeface="华文新魏"/>
              </a:rPr>
              <a:t>有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Times New Roman"/>
                <a:ea typeface="华文新魏"/>
              </a:rPr>
              <a:t>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Times New Roman"/>
                <a:ea typeface="华文新魏"/>
              </a:rPr>
              <a:t>洁白，明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Times New Roman"/>
                <a:ea typeface="华文新魏"/>
              </a:rPr>
              <a:t>圆形的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Times New Roman"/>
                <a:ea typeface="华文新魏"/>
              </a:rPr>
              <a:t>开阔　愉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3886200" cy="548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宠辱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偕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忘</a:t>
            </a:r>
            <a:br>
              <a:rPr sz="4000"/>
            </a:b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把酒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临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风</a:t>
            </a:r>
            <a:br>
              <a:rPr sz="4000"/>
            </a:b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嗟夫</a:t>
            </a:r>
            <a:br>
              <a:rPr sz="4000"/>
            </a:b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予尝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求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古仁人</a:t>
            </a:r>
            <a:br>
              <a:rPr sz="4000"/>
            </a:b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或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异二者之为</a:t>
            </a:r>
            <a:br>
              <a:rPr sz="4000"/>
            </a:b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不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以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物喜</a:t>
            </a:r>
            <a:br>
              <a:rPr sz="4000"/>
            </a:b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微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斯人</a:t>
            </a:r>
            <a:br>
              <a:rPr sz="4000"/>
            </a:b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吾谁与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1640" y="474480"/>
            <a:ext cx="3886200" cy="547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一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面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啊，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探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或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没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归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从第五段找出四对反义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356920" y="19288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</a:rPr>
              <a:t>喜—悲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</a:rPr>
              <a:t>进—退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</a:rPr>
              <a:t>先—后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</a:rPr>
              <a:t>忧—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8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3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8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3" dur="5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9E48-6488-4415-85A7-3EA0A58AF3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99"/>
                </a:solidFill>
                <a:latin typeface="Times New Roman"/>
                <a:ea typeface="华文彩云"/>
              </a:rPr>
              <a:t>成语故事：</a:t>
            </a:r>
            <a:r>
              <a:rPr b="0" lang="zh-CN" sz="4000" spc="-1" strike="noStrike">
                <a:solidFill>
                  <a:srgbClr val="a50021"/>
                </a:solidFill>
                <a:latin typeface="Times New Roman"/>
                <a:ea typeface="黑体"/>
              </a:rPr>
              <a:t>断齑划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13456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　　范仲淹自幼丧父，随母亲改嫁到长山朱家，就读于长白山寺。他在生活十分困顿的情况下发奋苦读，常于寺中熬一锅粥，划为四块，早晚各食两块。取山韭野菜，切成数段，用盐腌一腌就着吃。这样度过三年，终于考中进士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　　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齑：酱菜或腌菜之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99"/>
                </a:solidFill>
                <a:latin typeface="Times New Roman"/>
                <a:ea typeface="华文彩云"/>
              </a:rPr>
              <a:t>翻译句子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刻唐贤今人诗赋于其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8137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在上面刻上唐代和当代名人的诗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把唐代和当代名人的诗赋刻在上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62920" cy="17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　然则北通巫峡，南极潇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57080" y="2276280"/>
            <a:ext cx="7918560" cy="31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（既然）这样，那么（此地）北面通向巫峡，南面直达潇水湘水的尽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62920" cy="17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览物之情，得无异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57080" y="2565000"/>
            <a:ext cx="7918560" cy="28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看了自然景物而触发的感情，能没有不同吗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不以物喜，不以己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3333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华文新魏"/>
              </a:rPr>
              <a:t>不因外物的好坏和个人的得失而或喜或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0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920520"/>
            <a:ext cx="7772400" cy="87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居庙堂之高则忧其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352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2251"/>
              </a:spcBef>
              <a:buClr>
                <a:srgbClr val="3333cc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在高高的朝堂上就为百姓忧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2251"/>
              </a:spcBef>
              <a:buClr>
                <a:srgbClr val="3333cc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在朝廷做官就为百姓忧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处江湖之远则忧其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2251"/>
              </a:spcBef>
              <a:buClr>
                <a:srgbClr val="3333cc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处在遥远的江湖上就替君主担忧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2251"/>
              </a:spcBef>
              <a:buClr>
                <a:srgbClr val="3333cc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不在朝廷做官就替国君担忧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先天下之忧而忧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后天下之乐而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42720" y="2637000"/>
            <a:ext cx="8458200" cy="34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2500"/>
              </a:spcBef>
              <a:buClr>
                <a:srgbClr val="3333cc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华文新魏"/>
                <a:ea typeface="华文新魏"/>
              </a:rPr>
              <a:t>在天下人忧虑之前先忧虑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2500"/>
              </a:spcBef>
              <a:buClr>
                <a:srgbClr val="3333cc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华文新魏"/>
                <a:ea typeface="华文新魏"/>
              </a:rPr>
              <a:t>在天下人快乐之后才快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9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4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微斯人，吾谁与归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456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33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华文新魏"/>
              </a:rPr>
              <a:t>除了这样的人，我和谁同道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1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99"/>
                </a:solidFill>
                <a:latin typeface="Times New Roman"/>
                <a:ea typeface="华文彩云"/>
              </a:rPr>
              <a:t>最重要的作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背诵全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2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99"/>
                </a:solidFill>
                <a:latin typeface="Times New Roman"/>
                <a:ea typeface="华文彩云"/>
              </a:rPr>
              <a:t>理解性背诵默写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抒发旷达胸襟和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政治抱负的名句是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先天下之忧而忧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后天下之乐而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古仁人之心”是怎样的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华文新魏"/>
                <a:ea typeface="华文新魏"/>
              </a:rPr>
              <a:t>不以物喜，不以己悲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华文新魏"/>
                <a:ea typeface="华文新魏"/>
              </a:rPr>
              <a:t>居庙堂之高则忧其民；处江湖之远则忧其君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  <p:timing>
    <p:tnLst>
      <p:par>
        <p:cTn id="1156" dur="indefinite" restart="never" nodeType="tmRoot">
          <p:childTnLst>
            <p:seq>
              <p:cTn id="1157" dur="indefinite" nodeType="mainSeq">
                <p:childTnLst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992E-4F25-4494-802C-EC30E15203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99"/>
                </a:solidFill>
                <a:latin typeface="Times New Roman"/>
                <a:ea typeface="华文彩云"/>
              </a:rPr>
              <a:t>传诵千古的《岳阳楼记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4720" y="1844280"/>
            <a:ext cx="81345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楷体"/>
                <a:ea typeface="华文楷体"/>
              </a:rPr>
              <a:t>　　《岳阳楼记》全文</a:t>
            </a:r>
            <a:r>
              <a:rPr b="1" lang="zh-CN" sz="3600" spc="-1" strike="noStrike">
                <a:solidFill>
                  <a:srgbClr val="3333cc"/>
                </a:solidFill>
                <a:latin typeface="华文楷体"/>
                <a:ea typeface="华文楷体"/>
              </a:rPr>
              <a:t>360</a:t>
            </a:r>
            <a:r>
              <a:rPr b="1" lang="zh-CN" sz="3600" spc="-1" strike="noStrike">
                <a:solidFill>
                  <a:srgbClr val="3333cc"/>
                </a:solidFill>
                <a:latin typeface="华文楷体"/>
                <a:ea typeface="华文楷体"/>
              </a:rPr>
              <a:t>余字，可谓字字珠玑。文章情景交融，气势磅礴，语气铿锵，尤其“先天下之忧而忧，后天下之乐而乐”之句，哲理深湛，体现中华民族之传统精神，为历代广为传诵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989840" cy="14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　　表示对滕子京的慰勉与规箴之意的句子是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421000"/>
            <a:ext cx="777240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华文新魏"/>
                <a:ea typeface="华文新魏"/>
              </a:rPr>
              <a:t>微斯人，吾谁与归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918560" cy="418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华文彩云"/>
              </a:rPr>
              <a:t>小知识：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　本文的语言特点是“骈散结合”。　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骈，原意是二马并列，引申为“并列”。所谓“骈句”，就是指成双成对的句子。对偶句，当然都是骈句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　请找出本文中的对偶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下面哪些句子是对偶句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691056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阴风怒号，浊浪排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日星隐耀，山岳潜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商旅不行，樯倾楫摧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4.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薄暮冥冥，虎啸猿啼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5.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去国怀乡，忧谗畏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6.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春和景明，波澜不惊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7.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沙鸥翔集，锦鳞游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6440400" y="2004840"/>
            <a:ext cx="5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6410160" y="39942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6372360" y="53197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6448320" y="266868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13"/>
          <p:cNvSpPr/>
          <p:nvPr/>
        </p:nvSpPr>
        <p:spPr>
          <a:xfrm>
            <a:off x="6410160" y="33307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14"/>
          <p:cNvSpPr/>
          <p:nvPr/>
        </p:nvSpPr>
        <p:spPr>
          <a:xfrm>
            <a:off x="6448320" y="465768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22"/>
          <p:cNvSpPr/>
          <p:nvPr/>
        </p:nvSpPr>
        <p:spPr>
          <a:xfrm>
            <a:off x="6448320" y="134136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3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3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3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3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3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3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3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3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3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3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3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3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3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3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685800" y="69192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6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8.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岸芷汀兰，郁郁青青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6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9.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浮光跃金，静影沉璧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6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10.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不以物喜，不以己悲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6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11.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是进亦忧，退亦忧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6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12.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居庙堂之高则忧其民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6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　处江湖之远则忧其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6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13.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先天下之忧而忧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6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　后天下之乐而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8"/>
          <p:cNvSpPr/>
          <p:nvPr/>
        </p:nvSpPr>
        <p:spPr>
          <a:xfrm>
            <a:off x="5508720" y="13003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9"/>
          <p:cNvSpPr/>
          <p:nvPr/>
        </p:nvSpPr>
        <p:spPr>
          <a:xfrm>
            <a:off x="5546880" y="197820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10"/>
          <p:cNvSpPr/>
          <p:nvPr/>
        </p:nvSpPr>
        <p:spPr>
          <a:xfrm>
            <a:off x="5508720" y="26557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11"/>
          <p:cNvSpPr/>
          <p:nvPr/>
        </p:nvSpPr>
        <p:spPr>
          <a:xfrm>
            <a:off x="5470560" y="357336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15"/>
          <p:cNvSpPr/>
          <p:nvPr/>
        </p:nvSpPr>
        <p:spPr>
          <a:xfrm>
            <a:off x="5546880" y="62064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7"/>
          <p:cNvSpPr/>
          <p:nvPr/>
        </p:nvSpPr>
        <p:spPr>
          <a:xfrm>
            <a:off x="5940360" y="270504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——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领字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18"/>
          <p:cNvSpPr/>
          <p:nvPr/>
        </p:nvSpPr>
        <p:spPr>
          <a:xfrm>
            <a:off x="5470560" y="501336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3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3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3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3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3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3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3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3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3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3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10" descr="http://img1.chinaface.com/original/112fhneI5JUjNqLT9L372NYHWXFe7K.jpg"/>
          <p:cNvPicPr/>
          <p:nvPr/>
        </p:nvPicPr>
        <p:blipFill>
          <a:blip r:embed="rId1"/>
          <a:stretch/>
        </p:blipFill>
        <p:spPr>
          <a:xfrm>
            <a:off x="-171360" y="-158760"/>
            <a:ext cx="9474120" cy="717552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3"/>
          <p:cNvSpPr/>
          <p:nvPr/>
        </p:nvSpPr>
        <p:spPr>
          <a:xfrm>
            <a:off x="762120" y="91440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1752480" y="457200"/>
            <a:ext cx="5639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开阔视野　拓展迁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type.wav"/>
      </p:stSnd>
    </p:sndAc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大语文课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2"/>
          <p:cNvSpPr/>
          <p:nvPr/>
        </p:nvSpPr>
        <p:spPr>
          <a:xfrm>
            <a:off x="533520" y="4572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宋体"/>
                <a:ea typeface="宋体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98984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阅读下面的短文，解释加红色的词语</a:t>
            </a:r>
            <a:br>
              <a:rPr sz="3600"/>
            </a:br>
            <a:br>
              <a:rPr sz="2400"/>
            </a:b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　　范仲淹二岁而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孤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，家贫无依，而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少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有大志，以天下为已任。发愤苦读，惫甚，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辄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以凉水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沃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面；食不给，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啖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粥而读，人不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堪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其忧，仲淹不改其乐也。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既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仕（做官），每慷慨论天下事，奋不顾身。以力主革除弊政，被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谗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受贬，庆历五年由参知政事（副宰相）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谪守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邓州。勤政爱民，有政声，常自诵：“士当先天下之忧而忧，后天下之乐而乐也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AutoShape 10"/>
          <p:cNvSpPr/>
          <p:nvPr/>
        </p:nvSpPr>
        <p:spPr>
          <a:xfrm>
            <a:off x="3708360" y="0"/>
            <a:ext cx="1602000" cy="1268280"/>
          </a:xfrm>
          <a:prstGeom prst="wedgeRoundRectCallout">
            <a:avLst>
              <a:gd name="adj1" fmla="val -18481"/>
              <a:gd name="adj2" fmla="val 71777"/>
              <a:gd name="adj3" fmla="val 16667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少而无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AutoShape 11"/>
          <p:cNvSpPr/>
          <p:nvPr/>
        </p:nvSpPr>
        <p:spPr>
          <a:xfrm>
            <a:off x="6300720" y="476280"/>
            <a:ext cx="1476360" cy="863640"/>
          </a:xfrm>
          <a:prstGeom prst="wedgeRoundRectCallout">
            <a:avLst>
              <a:gd name="adj1" fmla="val 29356"/>
              <a:gd name="adj2" fmla="val 81986"/>
              <a:gd name="adj3" fmla="val 16667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年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AutoShape 12"/>
          <p:cNvSpPr/>
          <p:nvPr/>
        </p:nvSpPr>
        <p:spPr>
          <a:xfrm>
            <a:off x="7812000" y="476280"/>
            <a:ext cx="1332000" cy="863640"/>
          </a:xfrm>
          <a:prstGeom prst="wedgeRoundRectCallout">
            <a:avLst>
              <a:gd name="adj1" fmla="val -41300"/>
              <a:gd name="adj2" fmla="val 136763"/>
              <a:gd name="adj3" fmla="val 16667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AutoShape 13"/>
          <p:cNvSpPr/>
          <p:nvPr/>
        </p:nvSpPr>
        <p:spPr>
          <a:xfrm>
            <a:off x="395280" y="1557360"/>
            <a:ext cx="1692360" cy="863640"/>
          </a:xfrm>
          <a:prstGeom prst="wedgeRoundRectCallout">
            <a:avLst>
              <a:gd name="adj1" fmla="val 27768"/>
              <a:gd name="adj2" fmla="val 73527"/>
              <a:gd name="adj3" fmla="val 16667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冲</a:t>
            </a:r>
            <a:r>
              <a:rPr b="0" lang="en-US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AutoShape 14"/>
          <p:cNvSpPr/>
          <p:nvPr/>
        </p:nvSpPr>
        <p:spPr>
          <a:xfrm>
            <a:off x="4572000" y="1413000"/>
            <a:ext cx="1116000" cy="863640"/>
          </a:xfrm>
          <a:prstGeom prst="wedgeRoundRectCallout">
            <a:avLst>
              <a:gd name="adj1" fmla="val -32217"/>
              <a:gd name="adj2" fmla="val 95222"/>
              <a:gd name="adj3" fmla="val 16667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15"/>
          <p:cNvSpPr/>
          <p:nvPr/>
        </p:nvSpPr>
        <p:spPr>
          <a:xfrm>
            <a:off x="5580000" y="1413000"/>
            <a:ext cx="1763640" cy="863640"/>
          </a:xfrm>
          <a:prstGeom prst="wedgeRoundRectCallout">
            <a:avLst>
              <a:gd name="adj1" fmla="val 50361"/>
              <a:gd name="adj2" fmla="val 101837"/>
              <a:gd name="adj3" fmla="val 16667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能忍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AutoShape 16"/>
          <p:cNvSpPr/>
          <p:nvPr/>
        </p:nvSpPr>
        <p:spPr>
          <a:xfrm>
            <a:off x="6929280" y="2571840"/>
            <a:ext cx="1979640" cy="863640"/>
          </a:xfrm>
          <a:prstGeom prst="wedgeRoundRectCallout">
            <a:avLst>
              <a:gd name="adj1" fmla="val 16800"/>
              <a:gd name="adj2" fmla="val 103370"/>
              <a:gd name="adj3" fmla="val 16667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说坏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AutoShape 17"/>
          <p:cNvSpPr/>
          <p:nvPr/>
        </p:nvSpPr>
        <p:spPr>
          <a:xfrm>
            <a:off x="214200" y="5786280"/>
            <a:ext cx="1476360" cy="863640"/>
          </a:xfrm>
          <a:prstGeom prst="wedgeRoundRectCallout">
            <a:avLst>
              <a:gd name="adj1" fmla="val 17527"/>
              <a:gd name="adj2" fmla="val -163050"/>
              <a:gd name="adj3" fmla="val 16667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贬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18"/>
          <p:cNvSpPr/>
          <p:nvPr/>
        </p:nvSpPr>
        <p:spPr>
          <a:xfrm>
            <a:off x="6786720" y="5500800"/>
            <a:ext cx="2016000" cy="863640"/>
          </a:xfrm>
          <a:prstGeom prst="wedgeRoundRectCallout">
            <a:avLst>
              <a:gd name="adj1" fmla="val 26675"/>
              <a:gd name="adj2" fmla="val -140773"/>
              <a:gd name="adj3" fmla="val 16667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当太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19"/>
          <p:cNvSpPr/>
          <p:nvPr/>
        </p:nvSpPr>
        <p:spPr>
          <a:xfrm>
            <a:off x="5219640" y="2060640"/>
            <a:ext cx="1440000" cy="863640"/>
          </a:xfrm>
          <a:prstGeom prst="wedgeRoundRectCallout">
            <a:avLst>
              <a:gd name="adj1" fmla="val -105467"/>
              <a:gd name="adj2" fmla="val 122282"/>
              <a:gd name="adj3" fmla="val 16667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已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你知道岳阳楼上有哪些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“唐贤今人诗赋”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8532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3538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水天一色；风月无边。（李白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荆楚无双地；湖湘第一楼。（何绍基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洞庭西下八百里；淮海南来第一楼。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                       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（徐侍清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杜诗范记高千古；山色湖光共一楼。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                       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（童道让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AutoShape 7"/>
          <p:cNvSpPr/>
          <p:nvPr/>
        </p:nvSpPr>
        <p:spPr>
          <a:xfrm>
            <a:off x="900000" y="5013360"/>
            <a:ext cx="1441440" cy="1224000"/>
          </a:xfrm>
          <a:prstGeom prst="wedgeEllipseCallout">
            <a:avLst>
              <a:gd name="adj1" fmla="val 3412"/>
              <a:gd name="adj2" fmla="val -73347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AutoShape 8"/>
          <p:cNvSpPr/>
          <p:nvPr/>
        </p:nvSpPr>
        <p:spPr>
          <a:xfrm>
            <a:off x="2050920" y="5013360"/>
            <a:ext cx="1441440" cy="1224000"/>
          </a:xfrm>
          <a:prstGeom prst="wedgeEllipseCallout">
            <a:avLst>
              <a:gd name="adj1" fmla="val -9689"/>
              <a:gd name="adj2" fmla="val -69453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  <p:timing>
    <p:tnLst>
      <p:par>
        <p:cTn id="1318" dur="indefinite" restart="never" nodeType="tmRoot">
          <p:childTnLst>
            <p:seq>
              <p:cTn id="1319" dur="indefinite" nodeType="mainSeq">
                <p:childTnLst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你知道岳阳楼上有哪些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“唐贤今人诗赋”吗？（续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38000" y="2133720"/>
            <a:ext cx="82263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3538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宋体"/>
              </a:rPr>
              <a:t>四面河山归眼底，万家忧乐到心头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宋体"/>
              </a:rPr>
              <a:t>                        </a:t>
            </a:r>
            <a:r>
              <a:rPr b="0" lang="zh-CN" sz="3600" spc="-1" strike="noStrike">
                <a:solidFill>
                  <a:srgbClr val="3333cc"/>
                </a:solidFill>
                <a:latin typeface="宋体"/>
              </a:rPr>
              <a:t>（周立中）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宋体"/>
              </a:rPr>
              <a:t>后乐先忧，范希文庶几知道；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宋体"/>
              </a:rPr>
              <a:t>昔闻今上，杜少陵始可言诗 。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宋体"/>
              </a:rPr>
              <a:t>　                      （周元鼎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宋体"/>
              </a:rPr>
              <a:t>一楼铭古今兴废；两字系天下安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宋体"/>
              </a:rPr>
              <a:t>　　　　　　　　　　　　（缪英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AutoShape 7"/>
          <p:cNvSpPr/>
          <p:nvPr/>
        </p:nvSpPr>
        <p:spPr>
          <a:xfrm>
            <a:off x="3130560" y="1484280"/>
            <a:ext cx="1441440" cy="1224000"/>
          </a:xfrm>
          <a:prstGeom prst="wedgeEllipseCallout">
            <a:avLst>
              <a:gd name="adj1" fmla="val 35134"/>
              <a:gd name="adj2" fmla="val 96953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8"/>
          <p:cNvSpPr/>
          <p:nvPr/>
        </p:nvSpPr>
        <p:spPr>
          <a:xfrm>
            <a:off x="4572000" y="1484280"/>
            <a:ext cx="1441440" cy="1224000"/>
          </a:xfrm>
          <a:prstGeom prst="wedgeEllipseCallout">
            <a:avLst>
              <a:gd name="adj1" fmla="val -48680"/>
              <a:gd name="adj2" fmla="val 136638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AutoShape 9"/>
          <p:cNvSpPr/>
          <p:nvPr/>
        </p:nvSpPr>
        <p:spPr>
          <a:xfrm>
            <a:off x="3564000" y="5634000"/>
            <a:ext cx="1441440" cy="1224000"/>
          </a:xfrm>
          <a:prstGeom prst="wedgeEllipseCallout">
            <a:avLst>
              <a:gd name="adj1" fmla="val 70046"/>
              <a:gd name="adj2" fmla="val -69064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  <p:timing>
    <p:tnLst>
      <p:par>
        <p:cTn id="1366" dur="indefinite" restart="never" nodeType="tmRoot">
          <p:childTnLst>
            <p:seq>
              <p:cTn id="1367" dur="indefinite" nodeType="mainSeq">
                <p:childTnLst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清道光年间窦进士所撰长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062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一楼何奇，杜少陵五言绝唱，范希文两字关情，滕子京百废俱兴，吕纯阳三过必醉，诗耶？儒耶？吏耶？仙耶？前不见古人，使我怆然涕下。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诸君试看，洞庭湖南极潇湘，扬子江北通巫峡，巴陵山西来爽气，岳州城东道岩疆，渚者，流者，峙者，镇者，此中有真意，问谁领会得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宋体"/>
                <a:hlinkClick r:id="rId1"/>
              </a:rPr>
              <a:t>岳阳楼更多楹联，点击进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AutoShape 7"/>
          <p:cNvSpPr/>
          <p:nvPr/>
        </p:nvSpPr>
        <p:spPr>
          <a:xfrm>
            <a:off x="4140360" y="0"/>
            <a:ext cx="1441440" cy="1224000"/>
          </a:xfrm>
          <a:prstGeom prst="wedgeEllipseCallout">
            <a:avLst>
              <a:gd name="adj1" fmla="val 3962"/>
              <a:gd name="adj2" fmla="val 73736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utoShape 8"/>
          <p:cNvSpPr/>
          <p:nvPr/>
        </p:nvSpPr>
        <p:spPr>
          <a:xfrm>
            <a:off x="6948360" y="0"/>
            <a:ext cx="1441440" cy="1224000"/>
          </a:xfrm>
          <a:prstGeom prst="wedgeEllipseCallout">
            <a:avLst>
              <a:gd name="adj1" fmla="val -21898"/>
              <a:gd name="adj2" fmla="val 74592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type.wav"/>
      </p:stSnd>
    </p:sndAc>
  </p:transition>
  <p:timing>
    <p:tnLst>
      <p:par>
        <p:cTn id="1383" dur="indefinite" restart="never" nodeType="tmRoot">
          <p:childTnLst>
            <p:seq>
              <p:cTn id="1384" dur="indefinite" nodeType="mainSeq">
                <p:childTnLst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800080"/>
                </a:solidFill>
                <a:latin typeface="Times New Roman"/>
                <a:ea typeface="黑体"/>
              </a:rPr>
              <a:t>杜甫《登岳阳楼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14240" y="199980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昔闻洞庭水，今上岳阳楼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吴楚东南坼，乾坤日夜浮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亲朋无一字，老病有孤舟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戎马关山北，凭轩涕泗流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991A-B099-47CA-864D-BEE0447473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80"/>
                </a:solidFill>
                <a:latin typeface="Times New Roman"/>
                <a:ea typeface="华文彩云"/>
              </a:rPr>
              <a:t>预习课文　正确朗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Object 7"/>
          <p:cNvGraphicFramePr/>
          <p:nvPr/>
        </p:nvGraphicFramePr>
        <p:xfrm>
          <a:off x="1758960" y="2022480"/>
          <a:ext cx="5708520" cy="38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8960" y="2022480"/>
                    <a:ext cx="5708520" cy="38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  <p:sndAc>
      <p:stSnd>
        <p:snd r:embed="rId3" name="type.wav"/>
      </p:stSnd>
    </p:sndAc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0080"/>
                </a:solidFill>
                <a:latin typeface="黑体"/>
                <a:ea typeface="黑体"/>
              </a:rPr>
              <a:t>孟浩然</a:t>
            </a:r>
            <a:r>
              <a:rPr b="0" lang="en-US" sz="4400" spc="-1" strike="noStrike">
                <a:solidFill>
                  <a:srgbClr val="800080"/>
                </a:solidFill>
                <a:latin typeface="黑体"/>
                <a:ea typeface="黑体"/>
              </a:rPr>
              <a:t>《</a:t>
            </a:r>
            <a:r>
              <a:rPr b="0" lang="zh-CN" sz="4400" spc="-1" strike="noStrike">
                <a:solidFill>
                  <a:srgbClr val="800080"/>
                </a:solidFill>
                <a:latin typeface="黑体"/>
                <a:ea typeface="黑体"/>
              </a:rPr>
              <a:t>望洞庭湖赠张丞相</a:t>
            </a:r>
            <a:r>
              <a:rPr b="0" lang="en-US" sz="4400" spc="-1" strike="noStrike">
                <a:solidFill>
                  <a:srgbClr val="800080"/>
                </a:solidFill>
                <a:latin typeface="黑体"/>
                <a:ea typeface="黑体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八月湖水平，涵虚混太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气蒸云梦泽，波撼岳阳城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欲济无舟楫，端居耻圣明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坐观垂钓者，徒有羡鱼情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99"/>
                </a:solidFill>
                <a:latin typeface="Times New Roman"/>
                <a:ea typeface="华文彩云"/>
              </a:rPr>
              <a:t>自由论坛　网络互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10920" y="1844280"/>
            <a:ext cx="806292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　　有人说，范仲淹的“先天下之忧而忧，后天下之乐而乐” 是唱高调，他自己也做不到。你觉得是这样吗？为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　　登录“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宋体"/>
                <a:hlinkClick r:id="rId1"/>
              </a:rPr>
              <a:t>人教论坛／中学语文学生论坛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宋体"/>
                <a:hlinkClick r:id="rId2"/>
              </a:rPr>
              <a:t>/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宋体"/>
                <a:hlinkClick r:id="rId3"/>
              </a:rPr>
              <a:t>本帖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”讨论这个问题，网址：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宋体"/>
                <a:hlinkClick r:id="rId4"/>
              </a:rPr>
              <a:t>http://chat.pep.com.cn/lb5000/topic.cgi?forum=7&amp;topic=1195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type.wav"/>
      </p:stSnd>
    </p:sndAc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9" descr="http://pic.gansudaily.com.cn/0/10/07/05/10070552_682419.jpg"/>
          <p:cNvPicPr/>
          <p:nvPr/>
        </p:nvPicPr>
        <p:blipFill>
          <a:blip r:embed="rId1"/>
          <a:stretch/>
        </p:blipFill>
        <p:spPr>
          <a:xfrm>
            <a:off x="139680" y="214200"/>
            <a:ext cx="8790120" cy="6357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67" name="日期占位符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大语文课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DCB4-E58E-407B-A851-7291C625831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网上导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772400" cy="23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ea typeface="方正琥珀简体"/>
                <a:hlinkClick r:id="rId2"/>
              </a:rPr>
              <a:t>北宋改革思想家——范仲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ea typeface="方正琥珀简体"/>
                <a:hlinkClick r:id="rId3"/>
              </a:rPr>
              <a:t>岳阳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ea typeface="方正琥珀简体"/>
                <a:hlinkClick r:id="rId4"/>
              </a:rPr>
              <a:t>岳阳楼风景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typ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002B-C6A8-4FFB-A65D-BA4AA536AC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34920" y="609120"/>
            <a:ext cx="662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99"/>
                </a:solidFill>
                <a:latin typeface="华文彩云"/>
                <a:ea typeface="华文彩云"/>
              </a:rPr>
              <a:t>朗读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18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　　庆历四年春，滕子京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谪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守巴陵郡。越明年，政通人和，百废具兴。乃重修岳阳楼，增其旧制，刻唐贤今人诗赋于其上。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属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予作文以记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7"/>
          <p:cNvSpPr/>
          <p:nvPr/>
        </p:nvSpPr>
        <p:spPr>
          <a:xfrm>
            <a:off x="5003640" y="765000"/>
            <a:ext cx="2305080" cy="935280"/>
          </a:xfrm>
          <a:prstGeom prst="wedgeEllipseCallout">
            <a:avLst>
              <a:gd name="adj1" fmla="val 16805"/>
              <a:gd name="adj2" fmla="val 104157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zh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8"/>
          <p:cNvSpPr/>
          <p:nvPr/>
        </p:nvSpPr>
        <p:spPr>
          <a:xfrm>
            <a:off x="5003640" y="4941720"/>
            <a:ext cx="2305080" cy="935280"/>
          </a:xfrm>
          <a:prstGeom prst="wedgeEllipseCallout">
            <a:avLst>
              <a:gd name="adj1" fmla="val 893"/>
              <a:gd name="adj2" fmla="val -99916"/>
            </a:avLst>
          </a:prstGeom>
          <a:solidFill>
            <a:srgbClr val="ffffcc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zh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type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父亲</cp:lastModifiedBy>
  <dcterms:modified xsi:type="dcterms:W3CDTF">2013-09-25T12:32:24Z</dcterms:modified>
  <cp:revision>262</cp:revision>
  <dc:subject/>
  <dc:title>PowerPoint Presentation</dc:title>
</cp:coreProperties>
</file>