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5A1-E1CC-49DD-AE28-541BB076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94B-E9EC-4E62-8BA2-5DBED4D0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195-C41C-4434-89CB-39A77512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08E-A2B7-4BCD-805B-298ACEA4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9CE-1454-4E1E-8DE8-4EEB3453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863D-E60D-47B5-A15F-DEFA7679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E3D-2239-462B-B3D1-B15996B7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614-D439-42F8-8EFA-1CC9D499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9CD-71D0-46BF-B98D-BB2FEF61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3EA1-8229-4295-938C-D2021D87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2C7-CF42-4D7F-960B-8502DB98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94B-7DA9-4D60-BB27-60CA0554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AB54-4FA2-4026-9A0E-0034BA54128A}" type="slidenum">
              <a:rPr b="0" i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t.sina.com.cn/iwps/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t.qq.com/kingsoftwps/%0D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hyperlink" Target="http://www.wps.cn/moban/%0D" TargetMode="External"/><Relationship Id="rId9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033800" y="428616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5494320" y="4719600"/>
            <a:ext cx="3220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64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C9EE5CB396054df19B979EC0F7B01197#&#9;#图片框 34"/>
          <p:cNvPicPr/>
          <p:nvPr/>
        </p:nvPicPr>
        <p:blipFill>
          <a:blip r:embed="rId1"/>
          <a:stretch/>
        </p:blipFill>
        <p:spPr>
          <a:xfrm>
            <a:off x="1619280" y="907920"/>
            <a:ext cx="6502320" cy="4876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93F89F9C865247b18379B32E3FE8034F#&#9;#图片框 35"/>
          <p:cNvPicPr/>
          <p:nvPr/>
        </p:nvPicPr>
        <p:blipFill>
          <a:blip r:embed="rId2"/>
          <a:stretch/>
        </p:blipFill>
        <p:spPr>
          <a:xfrm>
            <a:off x="1692360" y="1343160"/>
            <a:ext cx="1657440" cy="911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B4E55EC4134047329A4B12D55A5EE310#&#9;#图片框 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82680" y="3143160"/>
            <a:ext cx="576360" cy="56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D9D11583AD2F440784893F80D387CAEC#&#9;#图片框 3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197080" y="3790800"/>
            <a:ext cx="530280" cy="5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701800" y="3278160"/>
            <a:ext cx="43182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t.sina.com.cn/iwps/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t.qq.com/kingsoftwps/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956F6D7C2D274828957DC3722AA84D88#&#9;#图片框 39"/>
          <p:cNvPicPr/>
          <p:nvPr/>
        </p:nvPicPr>
        <p:blipFill>
          <a:blip r:embed="rId7"/>
          <a:stretch/>
        </p:blipFill>
        <p:spPr>
          <a:xfrm>
            <a:off x="2413080" y="2565360"/>
            <a:ext cx="3044880" cy="362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79600" y="5673600"/>
            <a:ext cx="5470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更多模板下载：</a:t>
            </a:r>
            <a:r>
              <a:rPr b="0" i="1" lang="zh-CN" sz="16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8"/>
              </a:rPr>
              <a:t>http://www.wps.cn/moban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00:13:00Z</dcterms:created>
  <dc:creator/>
  <dc:description/>
  <cp:keywords/>
  <dc:language>en-US</dc:language>
  <cp:lastModifiedBy>GZB</cp:lastModifiedBy>
  <cp:lastPrinted>1899-12-30T00:00:00Z</cp:lastPrinted>
  <dcterms:modified xsi:type="dcterms:W3CDTF">2012-09-09T03:18:52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  <property fmtid="{D5CDD505-2E9C-101B-9397-08002B2CF9AE}" pid="3" name="NXTAG2">
    <vt:lpwstr>000800c401000000000001024140</vt:lpwstr>
  </property>
</Properties>
</file>