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DBE-2EC0-4BDF-9C38-0A6D720A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DDA-A9FE-40FB-9D9F-7F313623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18A-D469-4E92-B817-E6D3F1FA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2432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8864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036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2432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8864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1A2-48B6-411B-B1EA-E685CDFF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268C-6A8B-4BB1-BFBA-1C33A065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9545-5C47-4083-8E8E-41EEA3B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7C55-6170-4157-8074-A5D63423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25C-2BE7-4B37-BEC3-4DE3B97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2D54-AFAB-41E6-B32A-DDD6E48E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05F1-6B88-440F-B971-039848A1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0138-C4ED-4ADF-8F0B-4B74045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D64-0985-45B0-9F04-8D44F8D6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205F-6150-46AB-9C39-087AE66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8832-E637-48A0-A6C8-969E281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2A06-1CBD-45F3-9162-A9496E9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6B03-4D5E-433D-BF94-2E6B0CE6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432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8864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6036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2432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58864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498B-33EF-440A-9549-E890FECA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3C3-FE6B-4865-ACBB-223E0689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6C8-D7E9-40AC-936A-FB8285B0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F4D-E89C-487C-9858-033E9FA8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309-D3B8-400C-87B7-7627C53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C1C-6724-43BE-B339-46B3E8DE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424-F385-4057-A655-8441E4B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06A-91E7-49AC-BCE3-7ECE6DA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0" y="620640"/>
            <a:ext cx="8713800" cy="583272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0000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667280" y="6093000"/>
            <a:ext cx="1081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fld id="{1B4809A6-5F98-446F-8AD2-D859A66DC8FF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71640" y="189000"/>
            <a:ext cx="57628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11111"/>
              </a:gs>
              <a:gs pos="100000">
                <a:srgbClr val="333333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413000"/>
            <a:ext cx="8353440" cy="439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32720" y="5661000"/>
            <a:ext cx="1493640" cy="1028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68360" y="1413000"/>
            <a:ext cx="8351640" cy="43210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89000"/>
            <a:ext cx="8496000" cy="655308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ABF0-4118-475D-B808-AC64809E07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4285"/>
          <a:stretch/>
        </p:blipFill>
        <p:spPr>
          <a:xfrm>
            <a:off x="5940360" y="5000760"/>
            <a:ext cx="2808360" cy="166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3360" y="476280"/>
            <a:ext cx="215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765000"/>
            <a:ext cx="21564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476280"/>
            <a:ext cx="21600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788-7D9C-43F5-8CAC-9C9AFFAFC7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51:22Z</dcterms:created>
  <dc:creator/>
  <dc:description/>
  <cp:keywords/>
  <dc:language>en-US</dc:language>
  <cp:lastModifiedBy>GZB</cp:lastModifiedBy>
  <cp:lastPrinted>1899-12-30T00:00:00Z</cp:lastPrinted>
  <dcterms:modified xsi:type="dcterms:W3CDTF">2012-09-09T03:49:42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