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FDE3-42F6-4F9D-9BF8-B6AA9B25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D918-1179-43D3-8B17-90BD703E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8415-0926-4765-8DBA-7D642D331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A852-679D-44AB-B740-0FF23123E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BD6F-7FF5-4F3D-81D7-D14A32E0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4856-A6C0-4E2D-AA22-4CF8E1C4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E2D6-4706-4945-B701-FDDCE7CA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9116-6299-4BA0-B28A-408A8375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EE0C-F07C-4285-9CB1-56EDF42B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B7B3-5790-4DA6-B9D9-6D0A2C0E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647A-98C6-4F4C-B22E-1A71E909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5369-8F59-4688-A19B-DCB88118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FFD5-4F53-4C4B-A4B8-8BA733F55D91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tty drivers loaded 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vi /proc/tty/dr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7391520" cy="2922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49200" y="26272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31720" y="26668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View serial 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vi /proc/tty/driver/s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0283</cp:lastModifiedBy>
  <dcterms:modified xsi:type="dcterms:W3CDTF">2014-08-01T02:55:2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