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21D-769A-4FF4-803D-F6E64FE3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C54-0A8B-484A-827D-70A27E6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D79-D891-4013-A7DB-3B96DC3C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FF8-3A12-4359-9698-0E42D888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ADE-788F-49F5-B7E3-C5321D3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FF29-4088-439C-95E1-D69F1CE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DD62-54B3-4173-AF73-E12E184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D47-A022-4CF8-BCDA-EF2AB7C0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3BFA-14D8-4996-BBF4-F304452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EC8-370B-4D7D-910C-5135F6B7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463-BEA4-4924-B2DB-791053A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2BF-C43F-45C3-8CEA-3B7E6B18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61B-7CB7-4322-9F8A-1921F67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D98-8F60-414B-AE67-FFCF6C5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EC7-AAEC-4306-9C31-D94D4073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3076-7A62-4D35-BD79-9E95369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2C6-75BD-43DA-9237-E8CB3D72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DAA-D133-4C9F-B673-26A917D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523-EA36-46AA-9DF0-6134AA6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870-8DF0-47CD-99D0-A1AC6CE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B1F-2BAD-4DD4-AB66-8B9AA7EC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F71-9523-4F1D-A8E1-168D80A9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BF3-E376-49FE-B94C-23BA3B7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F52-3A47-44CC-97A9-7731083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44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7AB3-9D20-4659-A51E-635F2A6AE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692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27C-5CF1-4F23-937C-684D291D9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40" y="518760"/>
            <a:ext cx="45432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消防安全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9240" y="360504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茅箭区实验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讲人：黎  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产物及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发于空气中且能看到的燃烧产物叫做烟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中主要有害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中含有大量二氧化碳时，人会感到缺氧，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时，感到呼吸急促困难头痛、浑身乏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重窒息以致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吸气数次后失去知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~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可中毒死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人的呼吸道的粘膜和眼睛的角膜有刺激，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0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时间内有生命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水可形成硝酸，对呼吸器官产生强烈刺激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腐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，轻则胸闷、咳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则昏迷、肺水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tubao6.jpg (10031 字节)"/>
          <p:cNvPicPr/>
          <p:nvPr/>
        </p:nvPicPr>
        <p:blipFill>
          <a:blip r:embed="rId1"/>
          <a:stretch/>
        </p:blipFill>
        <p:spPr>
          <a:xfrm>
            <a:off x="1370160" y="2419200"/>
            <a:ext cx="1461960" cy="1478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155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tubao3.jpg (9981 字节)"/>
          <p:cNvPicPr/>
          <p:nvPr/>
        </p:nvPicPr>
        <p:blipFill>
          <a:blip r:embed="rId3"/>
          <a:stretch/>
        </p:blipFill>
        <p:spPr>
          <a:xfrm>
            <a:off x="2354400" y="622440"/>
            <a:ext cx="1565280" cy="1414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yubao4.jpg (9993 字节)"/>
          <p:cNvPicPr/>
          <p:nvPr/>
        </p:nvPicPr>
        <p:blipFill>
          <a:blip r:embed="rId4"/>
          <a:stretch/>
        </p:blipFill>
        <p:spPr>
          <a:xfrm>
            <a:off x="5164200" y="736560"/>
            <a:ext cx="1477800" cy="131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tubao5.jpg (10012 字节)"/>
          <p:cNvPicPr/>
          <p:nvPr/>
        </p:nvPicPr>
        <p:blipFill>
          <a:blip r:embed="rId5"/>
          <a:stretch/>
        </p:blipFill>
        <p:spPr>
          <a:xfrm>
            <a:off x="6635880" y="2652840"/>
            <a:ext cx="1407960" cy="135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tubao7.jpg (10178 字节)"/>
          <p:cNvPicPr/>
          <p:nvPr/>
        </p:nvPicPr>
        <p:blipFill>
          <a:blip r:embed="rId6"/>
          <a:stretch/>
        </p:blipFill>
        <p:spPr>
          <a:xfrm>
            <a:off x="2763720" y="4543560"/>
            <a:ext cx="142560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tubao8.jpg (10404 字节)"/>
          <p:cNvPicPr/>
          <p:nvPr/>
        </p:nvPicPr>
        <p:blipFill>
          <a:blip r:embed="rId7"/>
          <a:stretch/>
        </p:blipFill>
        <p:spPr>
          <a:xfrm>
            <a:off x="5143680" y="4626000"/>
            <a:ext cx="1393560" cy="1411200"/>
          </a:xfrm>
          <a:prstGeom prst="rect">
            <a:avLst/>
          </a:prstGeom>
          <a:ln w="0">
            <a:noFill/>
          </a:ln>
        </p:spPr>
      </p:pic>
      <p:sp>
        <p:nvSpPr>
          <p:cNvPr id="170" name="矩形 2"/>
          <p:cNvSpPr/>
          <p:nvPr/>
        </p:nvSpPr>
        <p:spPr>
          <a:xfrm>
            <a:off x="2661120" y="205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用水灭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5582520" y="202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吸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6974280" y="4060800"/>
            <a:ext cx="72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553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放易燃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3020760" y="6021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带火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5416920" y="6002280"/>
            <a:ext cx="1003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燃放鞭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的基本方法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98360" y="1305000"/>
            <a:ext cx="874728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冷却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灭火剂直接喷洒在燃烧着的物体上，将可燃物质的温度降低到燃点以下，终止燃烧。如用水灭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隔离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燃烧物体与附近的可燃物质隔离或疏散开，使燃烧停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窒息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阻止空气流入燃烧区，或用不燃物质冲淡空气，使燃烧物质断绝氧气的助燃而熄灭。如用泡沫灭油类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抑制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也称化学中断法，就是使灭火剂参与到燃烧反应历程中，使燃烧过程中产生的游离基消失，而形成稳定分子或低活性游离基，使燃烧反应停止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如干粉灭火剂灭气体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023840" y="2216160"/>
            <a:ext cx="1719360" cy="30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743280" y="2300400"/>
            <a:ext cx="1670040" cy="305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6032520" y="2319480"/>
            <a:ext cx="2585880" cy="29732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泡沫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 ：主要适用于扑救各种油类火灾、木材、纤维、橡胶等固体可燃物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8160" y="5535720"/>
            <a:ext cx="253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有手握着压把，左手托着灭火器底部，轻轻地取下灭火器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370320" y="5536080"/>
            <a:ext cx="28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提着灭火器到现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32520" y="56588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捂住喷嘴，左手执筒底边缘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46280" y="2162160"/>
            <a:ext cx="1660320" cy="354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4067280" y="1231920"/>
            <a:ext cx="45432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5094360" y="3824280"/>
            <a:ext cx="3108240" cy="2811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816120" y="1841040"/>
            <a:ext cx="16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把灭火器颠倒过来呈垂直状态，用劲上下晃动几下，然后放开喷嘴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干粉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：适用于扑救各种易燃、可燃液体和易燃、可燃气体火灾，以及电器设备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046160" y="2405160"/>
            <a:ext cx="1847880" cy="321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2925720" y="2281320"/>
            <a:ext cx="2541600" cy="3162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5732640" y="2529000"/>
            <a:ext cx="251136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44800" y="728640"/>
            <a:ext cx="2855880" cy="3176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565200" y="728640"/>
            <a:ext cx="3168720" cy="352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3"/>
          <a:stretch/>
        </p:blipFill>
        <p:spPr>
          <a:xfrm>
            <a:off x="3733920" y="3905280"/>
            <a:ext cx="4700520" cy="2665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149560" y="9968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拔掉保险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1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204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WINDOWS\Desktop\QJ Zou 1\消防標記.files\aq_14.jpeg"/>
          <p:cNvPicPr/>
          <p:nvPr/>
        </p:nvPicPr>
        <p:blipFill>
          <a:blip r:embed="rId2"/>
          <a:stretch/>
        </p:blipFill>
        <p:spPr>
          <a:xfrm>
            <a:off x="272412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WINDOWS\Desktop\QJ Zou 1\消防標記.files\aq_13.jpeg"/>
          <p:cNvPicPr/>
          <p:nvPr/>
        </p:nvPicPr>
        <p:blipFill>
          <a:blip r:embed="rId3"/>
          <a:stretch/>
        </p:blipFill>
        <p:spPr>
          <a:xfrm>
            <a:off x="540396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WINDOWS\Desktop\QJ Zou 1\消防標記.files\aq_17.jpeg"/>
          <p:cNvPicPr/>
          <p:nvPr/>
        </p:nvPicPr>
        <p:blipFill>
          <a:blip r:embed="rId4"/>
          <a:stretch/>
        </p:blipFill>
        <p:spPr>
          <a:xfrm>
            <a:off x="1327320" y="2595600"/>
            <a:ext cx="1630080" cy="1550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WINDOWS\Desktop\QJ Zou 1\消防標記.files\aq_18.jpeg"/>
          <p:cNvPicPr/>
          <p:nvPr/>
        </p:nvPicPr>
        <p:blipFill>
          <a:blip r:embed="rId5"/>
          <a:stretch/>
        </p:blipFill>
        <p:spPr>
          <a:xfrm>
            <a:off x="2949480" y="478008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007.jpg (6242 字节)"/>
          <p:cNvPicPr/>
          <p:nvPr/>
        </p:nvPicPr>
        <p:blipFill>
          <a:blip r:embed="rId6"/>
          <a:stretch/>
        </p:blipFill>
        <p:spPr>
          <a:xfrm>
            <a:off x="6080040" y="2552760"/>
            <a:ext cx="1676520" cy="159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008.jpg (6433 字节)"/>
          <p:cNvPicPr/>
          <p:nvPr/>
        </p:nvPicPr>
        <p:blipFill>
          <a:blip r:embed="rId7"/>
          <a:stretch/>
        </p:blipFill>
        <p:spPr>
          <a:xfrm>
            <a:off x="5016600" y="4724280"/>
            <a:ext cx="1487520" cy="141624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3059640" y="2048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5747040" y="202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6553440" y="412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疏散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1864080" y="412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3329280" y="6075360"/>
            <a:ext cx="455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拉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5582160" y="6083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01800" y="2606760"/>
            <a:ext cx="663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亲爱的同学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是人类的朋友，它带给我们光明．推动着人类社会走向文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但火，能烧掉茂密的森林，广阔的草原，高大的楼房，甚至夺取人们宝贵的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失去控制的火会成为一种具有很人破坏力的灾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应该怎样防火，救火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天这节课，我们大家就一起来讨论一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12800" y="1868400"/>
            <a:ext cx="80787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爆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爆炸性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燃物质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tubao9.jpg (8476 字节)"/>
          <p:cNvPicPr/>
          <p:nvPr/>
        </p:nvPicPr>
        <p:blipFill>
          <a:blip r:embed="rId1"/>
          <a:stretch/>
        </p:blipFill>
        <p:spPr>
          <a:xfrm>
            <a:off x="1228680" y="204480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tubao10.jpg (8413 字节)"/>
          <p:cNvPicPr/>
          <p:nvPr/>
        </p:nvPicPr>
        <p:blipFill>
          <a:blip r:embed="rId2"/>
          <a:stretch/>
        </p:blipFill>
        <p:spPr>
          <a:xfrm>
            <a:off x="5421240" y="3757680"/>
            <a:ext cx="167328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tubao11.jpg (8709 字节)"/>
          <p:cNvPicPr/>
          <p:nvPr/>
        </p:nvPicPr>
        <p:blipFill>
          <a:blip r:embed="rId3"/>
          <a:stretch/>
        </p:blipFill>
        <p:spPr>
          <a:xfrm>
            <a:off x="4552920" y="835200"/>
            <a:ext cx="187344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85520" y="1161720"/>
            <a:ext cx="77072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48360" y="324324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上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305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017.jpg (7664 字节)"/>
          <p:cNvPicPr/>
          <p:nvPr/>
        </p:nvPicPr>
        <p:blipFill>
          <a:blip r:embed="rId1"/>
          <a:stretch/>
        </p:blipFill>
        <p:spPr>
          <a:xfrm>
            <a:off x="927000" y="1662120"/>
            <a:ext cx="1584360" cy="1506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019.jpg (6859 字节)"/>
          <p:cNvPicPr/>
          <p:nvPr/>
        </p:nvPicPr>
        <p:blipFill>
          <a:blip r:embed="rId2"/>
          <a:stretch/>
        </p:blipFill>
        <p:spPr>
          <a:xfrm>
            <a:off x="3592440" y="1728720"/>
            <a:ext cx="1511280" cy="1435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1810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6" descr="020.jpg (6816 字节)"/>
          <p:cNvPicPr/>
          <p:nvPr/>
        </p:nvPicPr>
        <p:blipFill>
          <a:blip r:embed="rId3"/>
          <a:stretch/>
        </p:blipFill>
        <p:spPr>
          <a:xfrm>
            <a:off x="6327720" y="1741320"/>
            <a:ext cx="1440000" cy="1370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8" descr="018.jpg (6823 字节)"/>
          <p:cNvPicPr/>
          <p:nvPr/>
        </p:nvPicPr>
        <p:blipFill>
          <a:blip r:embed="rId4"/>
          <a:stretch/>
        </p:blipFill>
        <p:spPr>
          <a:xfrm>
            <a:off x="927000" y="3745080"/>
            <a:ext cx="1584360" cy="1504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9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0" descr="016.jpg (6431 字节)"/>
          <p:cNvPicPr/>
          <p:nvPr/>
        </p:nvPicPr>
        <p:blipFill>
          <a:blip r:embed="rId5"/>
          <a:stretch/>
        </p:blipFill>
        <p:spPr>
          <a:xfrm>
            <a:off x="6326280" y="3817800"/>
            <a:ext cx="1441440" cy="1370160"/>
          </a:xfrm>
          <a:prstGeom prst="rect">
            <a:avLst/>
          </a:prstGeom>
          <a:ln w="0">
            <a:noFill/>
          </a:ln>
        </p:spPr>
      </p:pic>
      <p:sp>
        <p:nvSpPr>
          <p:cNvPr id="249" name="标题 1"/>
          <p:cNvSpPr/>
          <p:nvPr/>
        </p:nvSpPr>
        <p:spPr>
          <a:xfrm>
            <a:off x="584280" y="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3484440" y="326232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下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6283440" y="5267160"/>
            <a:ext cx="18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设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837720" y="5168880"/>
            <a:ext cx="17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防水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火场逃生的基本原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冷静的头脑和稳定的心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迅速撤离危险区，不要贪恋财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个人防护，防止或减少烟气的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过烟火区时，要爬行或昼量使身体贴近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万不要乘坐电梯逃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上着火可就地打滚或用厚重的衣物压灭火焰，不可奔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随便开启门窗，以避免火势迅速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惊惶失措，盲目跳楼逃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园防火灭火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7280" y="1299960"/>
            <a:ext cx="826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报火警的方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火灾后应立即拨打火警电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并讲清起火的详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址、起火部位、着火物质、火势大小，报警人姓名及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码，并到路口迎候消防车。消防队救火不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火场逃生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火场逃生要迅速，动作要快，要树立时间就是生命、逃生第一的思想。逃生时必须冷静，认准安全出口，沿疏散指示标志逃出。在逃生时要防止中毒，尽量避免大声呼喊，防止烟雾进入口腔；用水打湿衣服后捂住口鼻，一时找不到水，可用饮料来打湿衣服代替；并采取低姿行走或匍匐前进，减少烟气对人体的危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19280" y="6021360"/>
            <a:ext cx="216000" cy="144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66"/>
                </a:solidFill>
                <a:latin typeface="Arial"/>
              </a:rPr>
              <a:t>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-9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2840" y="468144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一只手捂住口鼻，另一只手保护头部，身体尽量弯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6" descr="\\Hlh\胡念红共享\2012年9至12照片\防火灾演习\DSC_0182.JPG"/>
          <p:cNvPicPr/>
          <p:nvPr/>
        </p:nvPicPr>
        <p:blipFill>
          <a:blip r:embed="rId1"/>
          <a:stretch/>
        </p:blipFill>
        <p:spPr>
          <a:xfrm rot="21180000">
            <a:off x="366840" y="511200"/>
            <a:ext cx="5078160" cy="35719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" descr="\\Hlh\胡念红共享\2012年9至12照片\防火灾演习\DSC_0189.JPG"/>
          <p:cNvPicPr/>
          <p:nvPr/>
        </p:nvPicPr>
        <p:blipFill>
          <a:blip r:embed="rId2"/>
          <a:stretch/>
        </p:blipFill>
        <p:spPr>
          <a:xfrm rot="360000">
            <a:off x="3736800" y="3103560"/>
            <a:ext cx="5019840" cy="3379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22920" y="132732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紧跟老师，分别从前后门小跑出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1" descr="\\Hlh\胡念红共享\2012年9至12照片\防火灾演习\DSC_0220.JPG"/>
          <p:cNvPicPr/>
          <p:nvPr/>
        </p:nvPicPr>
        <p:blipFill>
          <a:blip r:embed="rId1"/>
          <a:stretch/>
        </p:blipFill>
        <p:spPr>
          <a:xfrm rot="240000">
            <a:off x="3579480" y="3070080"/>
            <a:ext cx="5253120" cy="3422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6000" y="4838760"/>
            <a:ext cx="31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教学楼后，迅速到操场的各班指定地点集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4" descr="\\Hlh\胡念红共享\2012年9至12照片\防火灾演习\DSC_0209.JPG"/>
          <p:cNvPicPr/>
          <p:nvPr/>
        </p:nvPicPr>
        <p:blipFill>
          <a:blip r:embed="rId2"/>
          <a:stretch/>
        </p:blipFill>
        <p:spPr>
          <a:xfrm rot="21240000">
            <a:off x="260280" y="473040"/>
            <a:ext cx="5146920" cy="3510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13480" y="1131840"/>
            <a:ext cx="3749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楼梯时，保持靠右行，不推挤打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5400" y="614520"/>
            <a:ext cx="89532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高层楼发生火灾后，不能（ 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电梯下楼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湿毛巾堵住口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楼梯跑下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使用灭火器扑救火灾时要对准火焰（  ）喷射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部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家中经常使用的物品中属易燃易爆物品的是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啫喱水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餐洗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洗发水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单位或家庭维修中使用溶剂和油漆时除了杜绝一切火种，还应该注意（ ）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风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据统计，因火灾亡的人中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属于（ 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火直接烧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烟气窒息致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楼或惊吓致死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楼内失火应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疏散通道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坐电梯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现场看热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62360" y="506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843520" y="1395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002000" y="2255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914480" y="34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526800" y="4335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714760" y="52135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23800" y="3022560"/>
            <a:ext cx="390528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306072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73120" y="120168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印度南部泰米尔纳德邦的一所中学发生火灾，造成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75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名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伤亡。其中绝大部分是女生，数名教师也在火灾中死亡。另外还有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受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遇到火灾时，要迅速向（ ）逃生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着火相反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员多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安全出口的方向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燃气用具使用完毕后，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灶具阀门，总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总阀门，灶具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先关掉灶具阀门，然后关掉总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火灾初起阶段是扑救火灾（ ）的阶段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不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有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较不利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相对封闭的房间里发生火灾时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随便开启门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933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705200" y="106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21980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219800" y="58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01200" y="2743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38160" y="380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被困在火场时，下列求救方法错误的是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窗口、阳台或屋顶处向外大声呼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白天可挥动鲜艳布条发出求救信号，晚上可挥动手电筒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声哭泣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点蚊香时，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蚊香固定在专用铁架上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窗帘旁边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蚊账、床单附近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发生火灾时，正确的安全疏散主要有三个方向，向下可以跑到地面，向上可以爬到屋顶，还可以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躲到角落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向外逃到阳台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钻到阁楼、大橱等处避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中小学生在发生火灾时，不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勇敢深入火场灭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离着火区域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往上风方向撤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7574040" y="11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61276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986400" y="403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091000" y="54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18800" y="90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爱的同学们，这节课你学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大家分享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6640" y="348768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035680" y="825480"/>
            <a:ext cx="3879720" cy="5738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477720" y="860400"/>
            <a:ext cx="410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8-03-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南京东南大学一办公楼发生火灾，受灾面积达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平方米，消防部门出动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余辆消防车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5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扑救，大火经过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个多小时被朴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b_59861714"/>
          <p:cNvPicPr/>
          <p:nvPr/>
        </p:nvPicPr>
        <p:blipFill>
          <a:blip r:embed="rId1"/>
          <a:stretch/>
        </p:blipFill>
        <p:spPr>
          <a:xfrm>
            <a:off x="393840" y="2975040"/>
            <a:ext cx="4076640" cy="2711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_59861716"/>
          <p:cNvPicPr/>
          <p:nvPr/>
        </p:nvPicPr>
        <p:blipFill>
          <a:blip r:embed="rId2"/>
          <a:stretch/>
        </p:blipFill>
        <p:spPr>
          <a:xfrm>
            <a:off x="4606920" y="3022560"/>
            <a:ext cx="4038480" cy="2635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477720" y="127008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上海“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1·15”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特别重大火灾事故遇难人数上升到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8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其中男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2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女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3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火灾发生后，上海市静安区共接到向街道等单位申报的失踪人员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目前，遇难者与家属的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比认工作正在进行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EC5143B9AEEAD5D8D8C619399C44E7D0"/>
          <p:cNvPicPr/>
          <p:nvPr/>
        </p:nvPicPr>
        <p:blipFill>
          <a:blip r:embed="rId1"/>
          <a:stretch/>
        </p:blipFill>
        <p:spPr>
          <a:xfrm>
            <a:off x="0" y="9360"/>
            <a:ext cx="4572000" cy="684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290507160_HwFkdJ"/>
          <p:cNvPicPr/>
          <p:nvPr/>
        </p:nvPicPr>
        <p:blipFill>
          <a:blip r:embed="rId2"/>
          <a:stretch/>
        </p:blipFill>
        <p:spPr>
          <a:xfrm>
            <a:off x="4462560" y="23760"/>
            <a:ext cx="468144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4d5cbf22g9513ea5b357f&amp;690"/>
          <p:cNvPicPr/>
          <p:nvPr/>
        </p:nvPicPr>
        <p:blipFill>
          <a:blip r:embed="rId1"/>
          <a:stretch/>
        </p:blipFill>
        <p:spPr>
          <a:xfrm>
            <a:off x="0" y="0"/>
            <a:ext cx="4965840" cy="330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20101116093112879"/>
          <p:cNvPicPr/>
          <p:nvPr/>
        </p:nvPicPr>
        <p:blipFill>
          <a:blip r:embed="rId2"/>
          <a:stretch/>
        </p:blipFill>
        <p:spPr>
          <a:xfrm>
            <a:off x="0" y="3301920"/>
            <a:ext cx="5226120" cy="355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1290507160_RMfPVd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胶州路大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上海火灾中那些感人的画面_clip.avi" descr=""/>
          <p:cNvPicPr/>
          <p:nvPr/>
        </p:nvPicPr>
        <p:blipFill>
          <a:blip r:embed="rId1"/>
          <a:stretch/>
        </p:blipFill>
        <p:spPr>
          <a:xfrm>
            <a:off x="914400" y="623880"/>
            <a:ext cx="7288200" cy="588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86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854360" y="477216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854360" y="295920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三要素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54360" y="1155600"/>
            <a:ext cx="6883200" cy="4798440"/>
            <a:chOff x="1854360" y="1155600"/>
            <a:chExt cx="6883200" cy="4798440"/>
          </a:xfrm>
        </p:grpSpPr>
        <p:sp>
          <p:nvSpPr>
            <p:cNvPr id="139" name="AutoShape 7"/>
            <p:cNvSpPr/>
            <p:nvPr/>
          </p:nvSpPr>
          <p:spPr>
            <a:xfrm>
              <a:off x="1854360" y="1155600"/>
              <a:ext cx="6883200" cy="132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2277720" y="1404720"/>
              <a:ext cx="627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可燃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与空气中的氧或其它氧化剂起剧烈反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2277720" y="319392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助燃物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帮助和支持燃烧的物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2320560" y="500688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着火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引起可燃物燃烧的能量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44"/>
          <p:cNvSpPr/>
          <p:nvPr/>
        </p:nvSpPr>
        <p:spPr>
          <a:xfrm>
            <a:off x="216000" y="3137040"/>
            <a:ext cx="939600" cy="93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rcRect l="0" t="15068" r="0" b="0"/>
          <a:stretch/>
        </p:blipFill>
        <p:spPr>
          <a:xfrm>
            <a:off x="131760" y="2778120"/>
            <a:ext cx="120816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微软用户</cp:lastModifiedBy>
  <dcterms:modified xsi:type="dcterms:W3CDTF">2015-07-01T09:48:16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