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C167-D773-4D70-833A-BD11B526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59D5-098B-41EA-B6EB-E35A73BA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B01A-3368-4AC6-AD81-7F0ED117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34A-D7B9-406C-B915-AE09FDB6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0E0F-B321-4BA3-828B-E9AD7E75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C67D-0CDF-42EE-9605-3A56583B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DC0-56B3-4833-9FF0-0EED633F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766-9A38-4B44-AB36-9F0A0DE7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3920-A5C2-4A78-941A-C5657DAF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24E7-8CB2-4E94-8EAD-39C2548D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8F5A-A89A-4874-870A-60E31F1E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AD5-5957-47F0-80D5-DAC06EDA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5003-FF29-49D0-951C-FB43C7D3A95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using mini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stall min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etup min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Install mini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Use “yum” online package inst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x: “yum search mini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x: “yum install mini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x: “yum remove mini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etup mini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fter successful installing minicom, you should setup it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Run: “minicom -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etup serial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ave setup as dfl, then exit form mini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4343400"/>
            <a:ext cx="1627200" cy="127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38480" y="4343400"/>
            <a:ext cx="41356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Run: “minico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trl+A, then Z to open help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85759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 loopback modul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the status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plugging null modem, Offline has changed to on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4710240" cy="112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23880" y="5562720"/>
            <a:ext cx="441972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o a serial conn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ke loopback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he connect setting must b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Even the flow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o a fil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elect transfer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zm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hange Dir, [Goto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ag a file, [Okay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4952880"/>
            <a:ext cx="817560" cy="817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733920" y="4572000"/>
            <a:ext cx="4294080" cy="1289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657600" y="5943600"/>
            <a:ext cx="431496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4475160" cy="165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71600" y="3886200"/>
            <a:ext cx="44053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283</cp:lastModifiedBy>
  <dcterms:modified xsi:type="dcterms:W3CDTF">2013-03-15T09:06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