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D1E0-00A8-4837-93A9-20C85B3E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C341-4D4C-424B-9EA1-0A51FA1F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6484-1FF5-40FE-B031-0BF6199A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A6D5-864B-4D02-89CA-9BE81AF2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9342-F198-41AC-A5E1-911C96CF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444-0368-4D8B-8D13-0AE3289D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8460-F02D-4C20-B8B7-D2CE3B61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AB7-2402-48C5-8DBE-3177023D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606E-8A38-4992-A525-42F15E22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2B1-2399-4C83-BF7F-2AB261BA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8C87-A995-47A1-8416-8975D272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D5F0-0252-461E-964F-CE248263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BD4D-4179-4C58-BC7A-F57FF61003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.youku.com/v_show/id_XMTY2NTc4MjQ=.html" TargetMode="External"/><Relationship Id="rId3" Type="http://schemas.openxmlformats.org/officeDocument/2006/relationships/image" Target="../media/image12.png"/><Relationship Id="rId4" Type="http://schemas.openxmlformats.org/officeDocument/2006/relationships/hyperlink" Target="http://v.youku.com/v_show/id_XMTY2NTc4MjQ=.html" TargetMode="External"/><Relationship Id="rId5" Type="http://schemas.openxmlformats.org/officeDocument/2006/relationships/hyperlink" Target="http://v.youku.com/v_show/id_XMTY2NTc4MjQ=.html" TargetMode="External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87280" y="0"/>
            <a:ext cx="66294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琥珀"/>
              </a:rPr>
              <a:t>桃花源记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27640" y="3645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24835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836280"/>
            <a:ext cx="885672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此人一一为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具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言所闻，皆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叹惋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。余人各复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延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其家，皆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酒食。停数日，辞去。此中人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语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云：“不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足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为外人道也。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既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出，得其船，便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扶向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路，处处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志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之。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及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郡下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1268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详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92360" y="1268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感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0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惊讶，惊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1773360"/>
            <a:ext cx="56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这个人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为他们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详细地介绍了自己所听到的事，（他们听罢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都感叹惊讶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1682640"/>
            <a:ext cx="3276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其余的人也请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渔人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到自己家中，都拿出酒饭来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款待他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84720" y="4046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邀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3771360"/>
            <a:ext cx="374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渔人在这里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住了几天，就告辞离去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3213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值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0560" y="3842640"/>
            <a:ext cx="511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这里的人告诉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他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说：“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这里的情况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不值得对外边的人说啊。”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213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告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6003360"/>
            <a:ext cx="612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渔人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出来后，找到他的船，就沿着旧路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回去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（一路上）处处做了记号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5157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已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443700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沿、顺着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5157720"/>
            <a:ext cx="14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从前的，旧的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92720" y="515772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名词，作动词，做记号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77080" y="5157720"/>
            <a:ext cx="172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到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48360" y="5733720"/>
            <a:ext cx="201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到了郡城，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9280" y="0"/>
            <a:ext cx="335304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疏通课文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78544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诣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太守，说如此。太守即遣人随其往，寻向所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志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遂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迷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不复得路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南阳刘子骥，高尚士也，闻之，欣然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规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往。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未果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寻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病终。后遂无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问津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者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19700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到，特指到尊长哪里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1755360"/>
            <a:ext cx="25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去拜见太守，报告了这些情况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1197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名词，记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67640" y="1125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终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1827000"/>
            <a:ext cx="5905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太守立即派人跟他前往，寻找前次做的标记，终于（还是）迷失了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方向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再也没找到路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00720" y="37893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计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24720" y="378936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没有实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8000" y="5300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随即，不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11280" y="530064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问路。这里是访求、探求的意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5932080"/>
            <a:ext cx="792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没有实现，不久病死了。此后就再也没有访求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桃花源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人了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27464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南阳刘子骥，是高尚的名士；听到这件事，高兴地计划前往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79280" y="0"/>
            <a:ext cx="335304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疏通课文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00720" y="333360"/>
            <a:ext cx="374328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彩云"/>
              </a:rPr>
              <a:t>重点文言词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通假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词多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1628640"/>
            <a:ext cx="50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便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要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还家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17560" y="2781360"/>
            <a:ext cx="17654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见渔人，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乃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大惊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乃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不知有汉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2997360"/>
            <a:ext cx="287280" cy="649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08360" y="2781360"/>
            <a:ext cx="11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于是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59280" y="3357720"/>
            <a:ext cx="115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竟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8000" y="3068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87280" y="4005360"/>
            <a:ext cx="1981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寻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向所志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寻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病终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4221000"/>
            <a:ext cx="287280" cy="6494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221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71640" y="4076640"/>
            <a:ext cx="11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寻找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98880" y="17002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通“邀”，邀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11280" y="4581360"/>
            <a:ext cx="22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随即，不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5229360"/>
            <a:ext cx="19810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处处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志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寻向所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志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5445000"/>
            <a:ext cx="287280" cy="6494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544500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5229360"/>
            <a:ext cx="22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动词，做标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5877000"/>
            <a:ext cx="22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名词，标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83680" y="3500280"/>
            <a:ext cx="156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遂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与外人间隔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遂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迷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问津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4005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76720" y="3789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51640" y="350028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于是，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4076640"/>
            <a:ext cx="11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居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64360" y="458136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于是，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052720" y="1557360"/>
            <a:ext cx="3240000" cy="16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捕鱼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为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业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一一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为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具言所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不足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为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外人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2720" y="3429000"/>
            <a:ext cx="3024000" cy="21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忘路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之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远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处处志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闻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欣然规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良田美池桑竹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43000" y="187200"/>
            <a:ext cx="20257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便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舍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船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屋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舍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俨然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47628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403200"/>
            <a:ext cx="287280" cy="6494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187200"/>
            <a:ext cx="115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舍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64000" y="763560"/>
            <a:ext cx="115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房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1844640"/>
            <a:ext cx="288720" cy="1081080"/>
          </a:xfrm>
          <a:custGeom>
            <a:avLst/>
            <a:gdLst>
              <a:gd name="textAreaLeft" fmla="*/ 184680 w 288720"/>
              <a:gd name="textAreaRight" fmla="*/ 289080 w 2887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19280" y="3789360"/>
            <a:ext cx="431640" cy="1512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2060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4292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65440" y="1557360"/>
            <a:ext cx="11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作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3440" y="2133720"/>
            <a:ext cx="338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介词，替，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84720" y="2781360"/>
            <a:ext cx="25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介词，对，向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3429000"/>
            <a:ext cx="25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助词，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65440" y="4005360"/>
            <a:ext cx="295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无实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29080" y="4581360"/>
            <a:ext cx="252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代词，指这件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51640" y="33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彩云"/>
              </a:rPr>
              <a:t>重点文言词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5589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听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19280" y="5661000"/>
            <a:ext cx="287280" cy="6494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56000" y="6165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听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5640" y="57135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97240" y="5589720"/>
            <a:ext cx="16437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鸡犬相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，欣然规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88000" y="5157720"/>
            <a:ext cx="25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代词，指这件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048120" y="2971800"/>
            <a:ext cx="6095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4360" y="1125360"/>
            <a:ext cx="7632720" cy="53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古今词义不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阡陌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交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古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今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率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妻子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邑人来此绝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古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今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率妻子邑人来此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绝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古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今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乃不知有汉，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无论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魏晋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古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今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00720" y="33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彩云"/>
              </a:rPr>
              <a:t>重点文言词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40360" y="1628640"/>
            <a:ext cx="287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交错相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2133720"/>
            <a:ext cx="194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交通运输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2924280"/>
            <a:ext cx="208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妻子和儿女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24360" y="3357720"/>
            <a:ext cx="251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男子的配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96000" y="4076640"/>
            <a:ext cx="30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与人世隔绝的地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6000" y="4508640"/>
            <a:ext cx="287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没有出路的境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48040" y="5157720"/>
            <a:ext cx="176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不要说，更不必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11000" y="5661000"/>
            <a:ext cx="261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连词    无论</a:t>
            </a: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......</a:t>
            </a: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8120" y="2971800"/>
            <a:ext cx="6095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1125360"/>
            <a:ext cx="763272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芳草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鲜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古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今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咸来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问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古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今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</a:rPr>
              <a:t>不足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为外人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古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今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屋舍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俨然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古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今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遂与外人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间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古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今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00720" y="33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彩云"/>
              </a:rPr>
              <a:t>重点文言词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51280" y="1125360"/>
            <a:ext cx="287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鲜艳美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51280" y="1557360"/>
            <a:ext cx="280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指食物味道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88000" y="3213000"/>
            <a:ext cx="208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不值得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88000" y="3645000"/>
            <a:ext cx="25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不够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95640" y="4221000"/>
            <a:ext cx="302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整齐的样子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4581360"/>
            <a:ext cx="288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形容很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35720" y="522936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隔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35720" y="558972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距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2205000"/>
            <a:ext cx="194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询问消息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2637000"/>
            <a:ext cx="136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问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400720" y="33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彩云"/>
              </a:rPr>
              <a:t>重点文言词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1125360"/>
            <a:ext cx="828036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同义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缘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溪行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便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扶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向路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便扶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向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路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寻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向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志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具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答之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此人一一为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具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言所闻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19640" y="1916280"/>
            <a:ext cx="25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沿着，顺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1844640"/>
            <a:ext cx="71280" cy="647640"/>
          </a:xfrm>
          <a:custGeom>
            <a:avLst/>
            <a:gdLst>
              <a:gd name="textAreaLeft" fmla="*/ 0 w 71280"/>
              <a:gd name="textAreaRight" fmla="*/ 25560 w 71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2781360"/>
            <a:ext cx="71280" cy="647640"/>
          </a:xfrm>
          <a:custGeom>
            <a:avLst/>
            <a:gdLst>
              <a:gd name="textAreaLeft" fmla="*/ 0 w 71280"/>
              <a:gd name="textAreaRight" fmla="*/ 25560 w 71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19640" y="2852640"/>
            <a:ext cx="24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从前的，旧的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88000" y="3645000"/>
            <a:ext cx="71280" cy="647640"/>
          </a:xfrm>
          <a:custGeom>
            <a:avLst/>
            <a:gdLst>
              <a:gd name="textAreaLeft" fmla="*/ 0 w 71280"/>
              <a:gd name="textAreaRight" fmla="*/ 25560 w 71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32360" y="3716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详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55640" y="1341360"/>
            <a:ext cx="403236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渔人甚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异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之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欲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穷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其林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林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尽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水源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仿佛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若有光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才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人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6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豁然开朗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黄发垂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8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怡然自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9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咸来问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51280" y="1341360"/>
            <a:ext cx="4952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对……感到惊奇、诧异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2360" y="1916280"/>
            <a:ext cx="472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走到……尽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00720" y="33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彩云"/>
              </a:rPr>
              <a:t>重点文言词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62240" y="836640"/>
            <a:ext cx="25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其他重点或易错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2565360"/>
            <a:ext cx="472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尽头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3141720"/>
            <a:ext cx="521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隐隐约约，看的不真切的样子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3716280"/>
            <a:ext cx="472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只，仅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9640" y="4292640"/>
            <a:ext cx="604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由狭窄幽暗忽然变得宽阔明亮的样子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92360" y="4941720"/>
            <a:ext cx="472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老人和小孩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5516640"/>
            <a:ext cx="472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愉快的样子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92360" y="6093000"/>
            <a:ext cx="4953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都，全。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932360" y="1052640"/>
            <a:ext cx="472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感叹，惋惜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2276640"/>
            <a:ext cx="472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到，指到尊长那里去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35280" y="2852640"/>
            <a:ext cx="4953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计划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1052640"/>
            <a:ext cx="460836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具言所闻，皆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叹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 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郡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诣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太守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欣然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规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往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后遂无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问津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者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00720" y="33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彩云"/>
              </a:rPr>
              <a:t>重点文言词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1700280"/>
            <a:ext cx="172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到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11640" y="34290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问路。这里是访求、探求的意思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文以渔人的行踪为线索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发现桃花源  —— 在桃花源做客 ——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.2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段）         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段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离开桃花源  —— 复寻迷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段）         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段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268360" y="549360"/>
            <a:ext cx="462924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理清文章线索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Times New Roman"/>
                <a:ea typeface="幼圆"/>
              </a:rPr>
              <a:t>从课文题目中，你能联想到一个什么成语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43657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指不受外界影响的地方或幻想中的美好世界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47640" y="2133720"/>
            <a:ext cx="5761080" cy="1942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世外桃源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771280" y="1052640"/>
            <a:ext cx="6372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齐读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段，思考：渔人是怎样发现桃花源的？为什么会“甚异之”？这一段在全文起何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忘路之远近”说明渔人走了很远的路程，以致迷路忘返；“‘忽逢”说明是在偶然的情况下发现了桃花林的，而桃花林之广之美，是渔人以前未曾所见，因此“渔人甚异之”。这一段突出了桃花林奇、美的特点，一开篇就渲染出一种神秘色彩，扣人心弦。桃花源又会是什么样子呢？为下文写渔人进访桃花源作了铺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427640" y="0"/>
            <a:ext cx="3600360" cy="90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发现桃源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32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himes.wav"/>
      </p:stSnd>
    </p:sndAc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132000" y="907560"/>
            <a:ext cx="6012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思考：渔人是怎样进入桃花源的？见到了怎样的景致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进入桃花源不容易：“林尽”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-&gt;“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山”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-&gt;“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小口”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-&gt;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入”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-&gt;‘”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极狭”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-&gt;“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复行”，这表明桃花源的隐蔽，与世隔绝，难于发现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渔人见到的景致是“土地平旷，屋舍俨然，有良田美池桑竹之属。阡陌交通，鸡犬相闻。”见到的人“悉如外人”‘“恰然自乐”，说明桃花源环境幽清，人们生活美满安宁，丰衣足食。作者用句整齐，音律和谐，生动地勾画出一幅祥和安宁的田园图画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思考： 桃花源的人见到渔人有何反应？说明什么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大惊”写出对陌生人到来的惊异．显示出桃花源与外界隔绝久远。这与下文“自云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....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无论魏晋”相呼应。””设酒杀鸡作食’”，“咸来问讯”表现了桃花源人的热情、好客，民风纯朴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思考：“皆叹惋”说明了什么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渔人“一 一为具言所闻”应说的是秦末以来战乱的历史，桃源人听后，为世上的动乱、黑暗而叹惋，也为世上老百姓过着的痛苦生活而叹惋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716360" y="0"/>
            <a:ext cx="3168720" cy="836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客桃源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364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himes.wav"/>
      </p:stSnd>
    </p:sndAc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2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564000" y="1981080"/>
            <a:ext cx="558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思考：渔人离开桃花源后“处处志之”的目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是想今后再访桃花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427640" y="549360"/>
            <a:ext cx="4319640" cy="12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离开桃源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himes.wav"/>
      </p:stSnd>
    </p:sndAc>
  </p:transition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7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564000" y="836640"/>
            <a:ext cx="5580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思考：渔人离开桃花源后“处处志之”，可人们再去寻找时，却“迷”、“未果”，这样写的目的是什么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使人觉得桃花源是一个似有而无、似真而幻的地方，也暗示桃花源是虚构的，是作者寄寓的理想圣地，可遇而不可求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356000" y="189000"/>
            <a:ext cx="4464000" cy="115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寻桃源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2436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himes.wav"/>
      </p:stSnd>
    </p:sndAc>
  </p:transition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cc0000"/>
                </a:solidFill>
                <a:latin typeface="Times New Roman"/>
                <a:ea typeface="华文彩云"/>
              </a:rPr>
              <a:t>分析语句，理解作者写作意图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写桃花源的生活环境的句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找出描写桃花源人的句子，说说他们有哪些特点？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557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土地平旷，屋舍俨然，有良口美池桑竹之属。阡陌交通，鸡犬相闻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91440" y="1916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安定、祥和、美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2997360"/>
            <a:ext cx="112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其中往来种作，男女衣着，悉如外人。黄发垂髫并怡然自乐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3000" y="335772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安居乐业、祥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5280" y="3789360"/>
            <a:ext cx="5040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便要还家，设酒杀鸡作食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余人各复延至其家，皆出酒食。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村中闻有此人，咸来问讯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57520" y="465300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纯朴好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53720" y="40053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热情好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515772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自云先世避秦时乱，率妻子邑人来此绝境，不复出焉，遂于外人间隔。问今是何世，乃不知有汉，无论魏晋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82440" y="558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与世隔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6021360"/>
            <a:ext cx="69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此中人语云：“不足为外人道也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31280" y="609300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对外界不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8200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找出渔人发现桃花源的过程句子和他离开桃花源，后人复寻不复得路的句子 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） 发现桃花源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离开桃花源，后人复寻不复得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cc0000"/>
                </a:solidFill>
                <a:latin typeface="Times New Roman"/>
                <a:ea typeface="华文彩云"/>
              </a:rPr>
              <a:t>分析语句，理解作者写作意图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256536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缘溪行，忘路之远近……复行数十步，豁然开朗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68360" y="2997360"/>
            <a:ext cx="28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桃花源十分隐蔽，不易发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5640" y="400536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“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既出，得其船，便扶向路，处处志之。 ”     “寻向所志，遂迷，不复得路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“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南阳刘子骥……闻之，欣然规往。未果，寻病终。后遂无问津者 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9280" y="551664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 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表面上是描写了桃花源的隐蔽；实质上，作者是暗示了：桃花源，本来就是虚构的，它只是作者追求的一种美好境界，一种对现实生活不满的精神寄托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8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3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联系时代背景，说说本文表达了作者怎样的思想？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作者虚构了一个与世无争的世外桃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方面揭露了当时长期战乱、民不聊生的社会现实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另一方面反映了人民群众要求摆脱压迫，用自己的劳动创造幸福和平生活的强烈愿望。同时也表现出自己对理想社会的憧憬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为什么说桃花源是当时的理想社会，我们今天应该怎样评价？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没有剥削压迫、平等和平、人民安居乐业的生活对于当时处于连年战乱，民不聊生的社会人来说是最大的社会理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评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1. </a:t>
            </a:r>
            <a:r>
              <a:rPr b="1" lang="zh-CN" sz="28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表现了追求美好生活的愿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2. </a:t>
            </a:r>
            <a:r>
              <a:rPr b="1" lang="zh-CN" sz="28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不可能实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社会发展不会退到小国寡民的阶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2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7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2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寄托作者的社会理想——无不削压迫、平等自由、和平安居乐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3333ff"/>
                </a:solidFill>
                <a:latin typeface="华文彩云"/>
                <a:ea typeface="华文彩云"/>
              </a:rPr>
              <a:t>虚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可实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5651640" y="3716280"/>
            <a:ext cx="2376360" cy="2270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826920" y="3645000"/>
            <a:ext cx="4419720" cy="23810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468360" y="1052640"/>
            <a:ext cx="1974960" cy="74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桃花源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heel spokes="8"/>
    <p:sndAc>
      <p:stSnd>
        <p:snd r:embed="rId4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68360" y="981000"/>
            <a:ext cx="8229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、课文中衍生出了不少至今仍在使用的成语，找一找，有哪些？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4360" y="22050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世外桃源    豁然开朗    无人问津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2997360"/>
            <a:ext cx="8229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、在括号里填入省略的成分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3789360"/>
            <a:ext cx="7924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       ）见渔人， 乃大惊。（       ）问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         ）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所从来， （   ）具答之。（       ）便要（     ）还家，（        ）设酒杀鸡作食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47640" y="3789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桃花源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71640" y="422100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渔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27640" y="3789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桃花源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422100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渔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27640" y="422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桃花源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32000" y="458136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渔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80000" y="4653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桃花源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771640" y="0"/>
            <a:ext cx="3353040" cy="977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堂练习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4119480" cy="5343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7448040" y="549360"/>
            <a:ext cx="72900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陶渊明，东晋诗人。名潜，字元亮，东晋浔阳柴桑人，别号“五柳先生”。少时颇有壮志，博学能文，任性不羁。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24720" y="692280"/>
            <a:ext cx="0" cy="52560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692280"/>
            <a:ext cx="0" cy="53290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692280"/>
            <a:ext cx="0" cy="52560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3" name="chimes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今是何世，乃不知有汉，无论魏晋”这句话中没有交代渔人的答语，试着说说渔人是怎样回答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今世是晋朝，秦朝之后还有汉朝，汉朝之后才是现在的晋朝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诣太守，说如此”这句话中的“如此”包括哪些内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发现桃花源的经过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桃花源中人的生活情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归途中做标记的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843280" y="-27000"/>
            <a:ext cx="3047760" cy="1052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堂练习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1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1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6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11280" y="105264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用原文回答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1280" y="1700280"/>
            <a:ext cx="7924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体现桃花源自然环境优美的句子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突出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桃花源人和平、幸福生活的句子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体现“桃源”人热情好客的句子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71640" y="2349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土地平旷，屋舍俨然，有良田美池桑竹之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16000" y="35733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黄发垂髫，并怡然自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42920" y="494172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便要还家，设酒杀鸡作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余人各复延至其家，皆出酒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132000" y="0"/>
            <a:ext cx="3086280" cy="1166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堂练习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0" y="987120"/>
            <a:ext cx="91440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亲爱的同学们：每个人心目中都有不同的“世外桃源”，今天我们来欣赏影片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9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4"/>
              </a:rPr>
              <a:t>桃花源记</a:t>
            </a:r>
            <a:r>
              <a:rPr b="0" lang="zh-CN" sz="60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5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，看看影片创作者们心目中的“世外桃源”又是怎么样的呢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6" name="chimes.wav"/>
      </p:stSnd>
    </p:sndAc>
  </p:transition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全文以武陵渔人进出寻桃源的行踪为线索，描绘了一个幽美的世外桃源，表现了作者对黑暗社会现实生活的不满，向往自由美好的生活，寄托了自己的政治理想，反映了广大人民的意愿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50920" y="0"/>
            <a:ext cx="2038320" cy="1019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heel spokes="8"/>
    <p:sndAc>
      <p:stSnd>
        <p:snd r:embed="rId3" name="chimes.wav"/>
      </p:stSnd>
    </p:sndAc>
  </p:transition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684360" y="2708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Gungsuh"/>
                <a:ea typeface="Gungsuh"/>
              </a:rPr>
              <a:t>亲爱的同学们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Gungsuh"/>
                <a:ea typeface="Gungsuh"/>
              </a:rPr>
              <a:t>   </a:t>
            </a:r>
            <a:r>
              <a:rPr b="1" lang="zh-CN" sz="6000" spc="-1" strike="noStrike">
                <a:solidFill>
                  <a:srgbClr val="3333cc"/>
                </a:solidFill>
                <a:latin typeface="Gungsuh"/>
                <a:ea typeface="Gungsuh"/>
              </a:rPr>
              <a:t>请根据您自己对课文的理解，画一幅自己心目中的“世外桃源”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2484360" y="189000"/>
            <a:ext cx="3743280" cy="21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外延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wheel spokes="8"/>
    <p:sndAc>
      <p:stSnd>
        <p:snd r:embed="rId3" name="chimes.wav"/>
      </p:stSnd>
    </p:sndAc>
  </p:transition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870160" y="0"/>
            <a:ext cx="302292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由于当时社会动荡不安，他空有才智却难以施展。他曾做过小官，因“不为五斗米折腰”，弃官回乡从此过起了田园式的隐居生活。后人称其为“靖节先生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他曾写一首《桃花源诗》，本文原来是诗前的序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记：是古代一种文体，以叙事、描写为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396072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himes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038560" y="5493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注意读音和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2133720"/>
            <a:ext cx="2971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1197000"/>
            <a:ext cx="7417080" cy="64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俨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然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y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ǎ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)          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阡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xi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n m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ò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黄发垂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髫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ti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)      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便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要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还家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y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一一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为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具言所闻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w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è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i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邑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人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y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)            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间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隔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ji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此中人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语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云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ù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不足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为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外人道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w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è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i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及郡下，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诣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太守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y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刘子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骥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j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)          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问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津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j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ī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9640" y="0"/>
            <a:ext cx="3729240" cy="1268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朗读课文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17236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himes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4835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4978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晋太元中，武陵人捕鱼为业。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溪行，忘路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远近。忽逢桃花林，夹岸数百步，中无杂树，芳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鲜美，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落英缤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渔人甚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之。复前行，欲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其林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2187000"/>
            <a:ext cx="460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东晋太元年间，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有个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武陵人靠捕鱼谋生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0360" y="162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沿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2187000"/>
            <a:ext cx="36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有一天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他沿着小溪划船，忘了路程的远近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00280" y="3698280"/>
            <a:ext cx="640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忽然遇到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片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桃花林，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桃树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夹在溪流两岸，长达几百步，中间没有别的树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4797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落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797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繁多的样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95640" y="47973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对……感到惊奇诧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64000" y="5498640"/>
            <a:ext cx="518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渔人非常诧异。再往前走，想走到这林子的尽头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20000" y="4797360"/>
            <a:ext cx="20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走到……尽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5674680"/>
            <a:ext cx="277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地上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芳草鲜艳美丽，落花纷纷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0"/>
            <a:ext cx="3384720" cy="1197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疏通课文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74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林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尽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水源，便得一山，山有小口，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仿佛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若有光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便舍船，从口入。初极狭，才通人。复行数十步，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然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开朗。土地平旷，屋舍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俨然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，有良口美池桑竹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属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484280"/>
            <a:ext cx="8353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桃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林在溪水发源的地方就没有了，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紧接着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就是一座山，山上有个小洞口，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里面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好像有光似的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95640" y="981000"/>
            <a:ext cx="53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隐隐约约，形容看不真切的样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03280" y="981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尽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573360"/>
            <a:ext cx="302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渔人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就离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船，从洞口进去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27280" y="3121920"/>
            <a:ext cx="324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初进时，洞口很窄，仅容一个人通过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8560" y="292428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开阔的明亮样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19640" y="3698280"/>
            <a:ext cx="392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又走了几十步，突然由狭窄幽暗变得开阔明亮了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5859000"/>
            <a:ext cx="842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这里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土地平坦开阔，房舍整整齐齐，有肥沃的田地、美好的池塘和桑树竹子之类（的东西）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2436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整齐的样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36000" y="5229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40720" y="5300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0"/>
            <a:ext cx="243828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疏通课文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0560" y="907920"/>
            <a:ext cx="88930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阡陌交通，鸡犬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相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其中往来种作，男女衣着，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外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黄发垂髫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并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怡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自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见渔人，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大惊，问所从来。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答之。便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还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1341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互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1341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听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62920" y="1413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全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35772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桃花源以外的世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3357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老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24000" y="3357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小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494172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于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08720" y="4941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详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59640" y="494172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通“邀”，邀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096640"/>
            <a:ext cx="403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田间小路，交错相通，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村落间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能互相听到鸡鸣狗叫的声音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35640" y="2169720"/>
            <a:ext cx="460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人们来来往往耕田劳作，男女的穿戴，完全如同桃花源以外的世人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393336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老人和小孩都充满喜悦之情，显得心满意足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5499000"/>
            <a:ext cx="576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桃花源里面的人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见到了渔人，于是大吃一惊，问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渔人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从哪里来，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渔人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详细地回答了他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43640" y="5499000"/>
            <a:ext cx="255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那人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就邀请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渔人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到自己家里去，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13960" y="342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高兴的样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0920" y="189000"/>
            <a:ext cx="2476440" cy="681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疏通课文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836640"/>
            <a:ext cx="835164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酒杀鸡作食。村中闻有此人，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咸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来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问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自云先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避秦时乱，率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妻子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邑人来此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绝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不复出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外人间隔。问今是何世，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知有汉，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无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魏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773360"/>
            <a:ext cx="2592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备酒杀鸡做饭菜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款待他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68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都，全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64000" y="47628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询问消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2042640"/>
            <a:ext cx="41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村中的人听说有这样一个人，都来询问消息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2360" y="335772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妻子和儿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2436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与人世隔绝的地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342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于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185720"/>
            <a:ext cx="828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他们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说祖先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为了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躲避秦时的祸乱，带领妻子儿女及乡邻来到这与人世隔绝的地方，不再从这里出去，于是就与外面的人断绝了往来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544500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竟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51640" y="5445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不要说，（更）不必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6003360"/>
            <a:ext cx="6935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他们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问起现在是什么朝代，竟然不知道有过汉朝．更不必说魏晋了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2565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于此，从这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89000"/>
            <a:ext cx="278136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疏通课文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01:50:41Z</dcterms:created>
  <dc:creator>蒋敏</dc:creator>
  <dc:description/>
  <dc:language>en-US</dc:language>
  <cp:lastModifiedBy>微软用户</cp:lastModifiedBy>
  <dcterms:modified xsi:type="dcterms:W3CDTF">2012-11-15T02:53:30Z</dcterms:modified>
  <cp:revision>69</cp:revision>
  <dc:subject/>
  <dc:title>PowerPoint 演示文稿</dc:title>
</cp:coreProperties>
</file>