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99A-D50C-4C3E-B7FC-D91992A8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96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790-F528-4E5A-876D-B5F4239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703-9EA0-4D93-9CEF-6DB2A234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55D-9735-4388-83C6-A7658598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1040-4442-4FF2-888D-7EE61AC1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79C1-796A-4684-91BA-233AE3C3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8A56-D470-42CB-8278-E28C9B5F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2080-AB31-4A28-B9B5-64AB8D3C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6A43-932F-4C3F-A1EA-0569D3C9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94DB-D596-416E-8D39-9147EC69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B2E6-4D1F-43AB-A147-AD1A25AD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C8E-D272-4551-A45C-AB4C6608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CCFE-C4D1-41AE-A1C8-462353E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82E2-B7FD-4911-82EE-9F5221C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196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05BE-E384-4110-935D-958DEC74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F8E-9EAF-466E-865D-C9C48D3D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1F9-51CB-40E7-AC9A-5BA8A047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4D4-4670-4B60-8757-8C740F67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15E-C912-49A0-8C61-E0EC1111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90C-FF8D-4C17-B80E-3BDDD219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452-C8D2-4CB6-AEA4-FE8A4D71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CB7-B852-4C34-A114-DA97A2E1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324-A182-45BD-9FE1-1CF1073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A15-18CF-4074-A10E-76EDC4B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04920" y="2106720"/>
            <a:ext cx="8572320" cy="3686040"/>
            <a:chOff x="304920" y="2106720"/>
            <a:chExt cx="8572320" cy="3686040"/>
          </a:xfrm>
        </p:grpSpPr>
        <p:grpSp>
          <p:nvGrpSpPr>
            <p:cNvPr id="2" name=""/>
            <p:cNvGrpSpPr/>
            <p:nvPr/>
          </p:nvGrpSpPr>
          <p:grpSpPr>
            <a:xfrm>
              <a:off x="304920" y="2106720"/>
              <a:ext cx="8572320" cy="3686040"/>
              <a:chOff x="304920" y="2106720"/>
              <a:chExt cx="8572320" cy="3686040"/>
            </a:xfrm>
          </p:grpSpPr>
          <p:sp>
            <p:nvSpPr>
              <p:cNvPr id="3" name="圆角矩形 4"/>
              <p:cNvSpPr/>
              <p:nvPr/>
            </p:nvSpPr>
            <p:spPr>
              <a:xfrm>
                <a:off x="304920" y="2106720"/>
                <a:ext cx="8572320" cy="3686040"/>
              </a:xfrm>
              <a:prstGeom prst="roundRect">
                <a:avLst>
                  <a:gd name="adj" fmla="val 0"/>
                </a:avLst>
              </a:prstGeom>
              <a:solidFill>
                <a:srgbClr val="ffffff">
                  <a:alpha val="4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圆角矩形 3"/>
              <p:cNvSpPr/>
              <p:nvPr/>
            </p:nvSpPr>
            <p:spPr>
              <a:xfrm>
                <a:off x="379440" y="2229480"/>
                <a:ext cx="8423280" cy="3440520"/>
              </a:xfrm>
              <a:prstGeom prst="roundRect">
                <a:avLst>
                  <a:gd name="adj" fmla="val 0"/>
                </a:avLst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Text Box 11"/>
            <p:cNvSpPr/>
            <p:nvPr/>
          </p:nvSpPr>
          <p:spPr>
            <a:xfrm>
              <a:off x="438120" y="3029400"/>
              <a:ext cx="8305920" cy="15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27F6-7B9E-4EF0-89C4-8B3B92C8B4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26"/>
          <p:cNvSpPr/>
          <p:nvPr/>
        </p:nvSpPr>
        <p:spPr>
          <a:xfrm>
            <a:off x="0" y="1447920"/>
            <a:ext cx="91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8040" y="411444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86C1-E581-4359-9192-D6E05D0CA2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8040" y="411444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/>
  <dc:language>en-US</dc:language>
  <cp:lastModifiedBy>GZB</cp:lastModifiedBy>
  <cp:lastPrinted>1899-12-30T00:00:00Z</cp:lastPrinted>
  <dcterms:modified xsi:type="dcterms:W3CDTF">2012-09-09T09:36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394</vt:lpwstr>
  </property>
  <property fmtid="{D5CDD505-2E9C-101B-9397-08002B2CF9AE}" pid="3" name="NXTAG2">
    <vt:lpwstr>000800ba02000000000001024140</vt:lpwstr>
  </property>
  <property fmtid="{D5CDD505-2E9C-101B-9397-08002B2CF9AE}" pid="4" name="Version">
    <vt:r8>1</vt:r8>
  </property>
</Properties>
</file>