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A70-2F1E-4DB1-94CD-8803FD83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633-529A-42B5-A03F-80755DE0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2D88D-5CE8-4CD2-9430-3EB8687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EC0F2-EB83-4493-8516-35CD5D8C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3319B-9C98-4CFC-8457-7A26AE91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3D94A-F3E0-40C6-955D-66A9B85C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9AA4D-FE7C-4262-899B-5014D4FF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CB511-B11E-4A83-AD32-D8CB049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5B46C-0686-4FCA-AF6A-58BD352B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EA9B3-042A-4C37-A0BC-9F5F7A21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FFC64-3DF2-4836-A552-757B3FE3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36F26-70EE-42FD-B14C-4FF7AAE1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CA9-FB63-40A4-AE27-9577E6BA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54B62-0C12-43F2-9913-8A7045B8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E031A-D218-4330-BB21-4B5E3601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34FB3-6FA3-4594-B42B-7A191C7C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98FB8-FBD3-4AD4-AD05-DCCC3AA6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88C6F-65BA-4A54-A361-C8BF315F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DCAE3-A854-4354-8895-805FFCC5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A8C6F-1A88-48E5-A1F2-4983267C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C7FCA-C047-47A5-8550-22F23061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F887D-7D0C-4B7A-ADD0-3DD03A26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DCC99-9371-47D5-A3A5-B6FE817F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614-DE47-47F8-9E90-78FCF9E0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69DDB-47B4-4FF6-8CA5-9A454EB6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9F3119-FD7E-49D7-B6BF-A3434931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3ED925-D5E9-47DD-8116-B9374AED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F5FE68-C8F4-40B9-B71F-7ABB2D82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4BF0A0-1D81-445D-BBF1-2F5C74F3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F02FAC-E5AA-4E7C-A641-F46B1E4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37106E-7FD8-4B17-969B-01F4194C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6A0C17-8323-4666-8B49-6D2CFDCB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91E7DC-79E2-4BF2-81E5-F678904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36B42B-5262-4B12-B612-D7AF829B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7942-177E-438F-BE90-019721A1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DCAA48-E7CA-4E40-ABC7-6DB0094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C04AA6-0AD1-4E1D-9200-4FD0B114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F7DF5A-8971-44D9-9B1B-87534808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BDC2F-68DA-4DD0-A50E-CA279E6D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2DCD0-585A-47C0-A67F-F7438587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EE4AD-F53A-41DF-A81A-99284B77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77A18-D936-4EB4-8269-825F2845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9D7BC-CAE5-4DD9-B484-262D69F1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C42C6-B78C-448C-8BA7-FA7A8D43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7B300-D698-4536-B6F0-B2D122F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F2D3-43C1-4C00-AD0E-FABD819D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60B44-C338-4115-9C44-1F2B758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77E74-6BB1-465D-BD24-411589B5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C4391-2865-4786-9BA3-D37158EC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87FB3-C14C-4FF5-AAFA-9AA89400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30C04-9EC5-4842-BCDE-9F19F9E5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7A8CE-3373-420D-9CEA-41206E8E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A12D0-8907-4B76-936B-3D5CB78C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79102-A81D-49B0-A6F2-59BA0948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70A91-87AA-4177-827A-8C8928C0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FBB38-8B3A-4C6E-8617-F9C8A73B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FB5A-051D-40E0-BC4B-9BB3439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2E25F-E2C5-46FA-9E19-0B98761D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23EC6-495C-4C25-8559-6508A3B2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EB8BE-6F8F-42F3-BEC9-8A0DCD2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695BD-2CD1-409E-8D97-5CA7B8E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79CE3-6E1D-495B-81AF-7D9DB2B7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1AA36-41D0-439E-9F0C-9E800EC6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9509A-77A6-4093-9C7A-24646151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0AFD8-2A88-4A17-9D42-20904C0B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73FC1-197C-4FFD-980C-046629B8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78745-DA0F-4897-A538-C2EEEAF6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BDF9-A767-47B6-88F9-21AFA9B3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492EF-D03F-4EC3-BD36-B96D743E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283BC-81EB-4AEE-A2D1-60A93024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E6F42-6E64-4D3D-9351-0CEEBCF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C0225-4102-44FD-82CA-232C1FA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644B1-A64A-4CFE-A40F-56C5BA2C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CBD83-A51E-4A76-A527-03ABE3E8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40A49-C83F-4CD5-83AC-81BA5D5B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5AEB8-F884-4847-AE83-D7CD3F7F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83C4E-420B-47BE-BD09-5D007572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F314-ED4E-431B-A8BF-4669384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4FBE-20B0-4327-BEA9-1499205D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808B-A548-4EDC-85CC-A4DDC0B6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AAD-9B5E-4E41-A190-778684D3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8258-0724-4FC0-AEFB-9754FFA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9D05-7F51-418E-B49B-64F86B6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FABD-8FB2-4190-8F9F-40D221AF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BE59-BC7B-4B71-B07F-CDDF0DEF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1E22-F1DF-440F-BA62-001382DC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82EA-031D-4064-8FAE-F2911954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CC2C-CE36-4337-A69F-CB4FAA34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F25A-0583-4853-8F76-55A595F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DE41-D4C6-4BA9-AEE7-78B4F84F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F527-C118-4B69-8467-7317F8D3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823-F8DF-43B5-8072-4F76C4B1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130F-A203-4BC2-AFDC-B46ADAEB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F93C-A659-4BA0-91BA-9311D24E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BB32-711F-4FF6-BC44-4E736A30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6873-6D67-49E1-9689-F68DA58B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939F-7DC9-4E43-A447-7A3EA594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F1CA-F2D0-4DEB-BCA7-2A113193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08A5-534D-4146-BE09-1004968E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48DA7-A7D9-4346-9F07-FA76D575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A767-7F06-4508-90A3-262C8F90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B1C2-0763-43A1-9354-A7689243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599-B66E-435F-8543-178520D2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C1F7-F0AA-420C-B088-B27DDFF1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CBA8-DFE0-4701-968E-4D723F06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71FD3-0A36-4AA5-AC48-2E7549A0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DD67-5294-48D2-A197-C5A77D6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AAC1E-85BF-4229-A54A-3D9C7DF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2E0A-9BEA-46C1-B77B-2F9B140F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585D-CDCF-4391-8352-5E59E7B3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35FA-FECA-4EAB-8115-8FF6825A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0EFF4-E92D-40C6-AFE0-6772F313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838C8-0BF1-4E1B-9CEF-D23D6B8D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FA7-4A40-4FF3-AC3E-EB0D44CC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FF94-D4D6-4905-B986-CE072038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95538-6EB7-4BC4-B5F3-D10B378C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F0976-1925-4912-B35E-F77A9DF2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CF6AC-F16E-4559-B275-D90606E3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D833-A5F2-4B56-9C88-6FDE540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1CF09-15BA-4B3E-BE2C-798E224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08526-E46F-4CF6-9EB0-4603E42B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7C416-BDD1-4A7F-AECF-40042301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4A50-A17F-4428-95B2-4387CC83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25FDC-6D9C-4161-9EE7-7F8C3E9F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263-05F6-4F81-9DA6-E92BA64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06165-5471-4948-931F-E81A5906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8B48D-1E70-4ED9-AE4E-A8A02204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FF40A-C2D5-4212-873A-9C96F0F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80C8-3DC5-4D8F-83A1-8A4E7FCF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05B7-2BA0-4188-8F82-01E77CAD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99C61-1D72-4166-82EB-82C5AC57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8BD3-C79F-4C34-90FA-9B133BAA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2D2C-02AC-4B76-A951-595105CA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19DC1-11EE-41FE-8311-80882D4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31382-9634-454F-A7D8-5142A6D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D12-82B3-409F-885F-B3551901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8A229-942A-4B91-85EB-1A68ACCA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9CF62-7B13-48EA-86A4-F45A3709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EBE83-00F2-407A-B275-097E0EC4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4046C-80D0-4FF6-B6FB-6446CAAF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6EAB3-C3FF-4C3D-B2E1-E1749D51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32CC3-099D-4DCE-86F7-5F9E980A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8F1C3-C53E-4A39-A6D5-BE347936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6106C-6E90-4A34-AC6C-8C74FDC2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A8FAF-2A99-48F5-82A8-02116ED6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298EB-EA11-4F43-BF3D-C0C2A658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EF8-5FA9-4ADB-9474-DEBB5C19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7736-C12D-48F2-9745-3F32329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71E45-D39B-491A-BB19-DBA70C55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5226-24E2-4714-B563-D711E7D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CA70-66FB-4184-BFD2-F82D5FD0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2F3AB-5DF5-4DA6-A51B-D2314A65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B9124-9B7A-44AF-A0D4-AF8D9525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5218D-2230-48EB-A779-30DFE920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3CC86-731D-4126-BB10-3B09D32F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D343F-2DC3-4097-903E-241A6EF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A7F28-281B-4FDF-B4B9-52C503BC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859-446B-435F-9DBB-3BDDAC1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809E8-ABEA-4C26-825C-678DB98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A276-3B0E-42FF-9DD1-F96EF79E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60EDE-81A5-4C79-B12E-7795F6D1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41F76-7D7C-4807-9FC3-406D6EC2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C81F9-586A-404D-90D9-7EF558EB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E4E45-3809-49DD-86E2-B17C3524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1918E-5C62-4011-9CA3-2899FDFF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50A5C-793C-4A2C-9802-D68B4FAA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12113-15B6-4D9A-89F6-B5078E2E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0E89C-2A5C-4AED-9CDE-56087742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48AA-2889-4BB0-B403-ED6462352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0FF1-599A-4952-8629-B7E54E10CE1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EA4B-49E3-4522-BD1D-E1158E14A23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EB2C-D60C-496E-9A5E-1368DD7FD7A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D100-0D1F-419C-9B5C-6943E21D530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2DD1-4014-4F70-9566-FB13AB59B0A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4EB0-4744-43BE-BF6A-9BD8B576E6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E6B-6468-4A2E-ADB5-96D7C8843E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6594-82AB-4D58-A549-74ECCF65B23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1A55-1D94-46F4-ADF0-68381AB37F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BAA6-AFD0-400A-A039-E9AC94356B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0F3-389E-4E66-8A4B-390432DC3D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29FA-B0F0-4415-9C5A-2BB9935BD8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2E31-B090-4423-B3AB-36E688060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4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250920" y="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cc"/>
                </a:solidFill>
                <a:latin typeface="Times New Roman"/>
                <a:ea typeface="隶书"/>
              </a:rPr>
              <a:t>《论语》十则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7650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见　贤　　　思齐焉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楷体_GB2312"/>
              </a:rPr>
              <a:t>见　不贤　　而内自省也。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084720" y="2492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Arial"/>
              </a:rPr>
              <a:t>ĭ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　看见德行优秀的人　要想着向他看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860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看见　不优秀的人　就要从内心反省自己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195640" y="4581360"/>
            <a:ext cx="511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见贤思齐</a:t>
            </a:r>
            <a:endParaRPr b="1" lang="en-US" sz="1800" spc="1" strike="noStrike">
              <a:ln w="12600">
                <a:solidFill>
                  <a:srgbClr val="ffccff"/>
                </a:solidFill>
                <a:miter/>
              </a:ln>
              <a:solidFill>
                <a:srgbClr val="ffcc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40464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子贡问曰：“有一言而可以终身行之者乎？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其恕乎！己所不欲，　勿施于人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341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子贡问：“       有一句话　可以作为终身遵守的准则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78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是宽容啊！自己不想承受的，不要施加给别人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908000" y="234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sh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1116000" y="4724280"/>
            <a:ext cx="6985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己所不欲勿施于人</a:t>
            </a:r>
            <a:endParaRPr b="1" lang="en-US" sz="4000" spc="1" strike="noStrike">
              <a:ln w="0">
                <a:noFill/>
              </a:ln>
              <a:solidFill>
                <a:srgbClr val="ff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26801" y="10800"/>
                </a:lnTo>
                <a:lnTo>
                  <a:pt x="12788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765000"/>
            <a:ext cx="889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曾子曰：“士不可以　　不弘毅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　任重　　　而道远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1757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曾子说：“读书人不可以　没有远大的抱负和坚强的意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4360" y="3500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承担的责任重大，艰险的道路还很长．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763640" y="4292640"/>
            <a:ext cx="59770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华文行楷"/>
              </a:rPr>
              <a:t>任重道远</a:t>
            </a:r>
            <a:endParaRPr b="1" lang="en-US" sz="60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华文行楷"/>
              <a:ea typeface="华文行楷"/>
            </a:endParaRPr>
          </a:p>
        </p:txBody>
      </p:sp>
      <p:sp>
        <p:nvSpPr>
          <p:cNvPr id="808" name="">
            <a:hlinkClick r:id="" action="ppaction://hlinkshowjump?jump=nextslide"/>
          </p:cNvPr>
          <p:cNvSpPr/>
          <p:nvPr/>
        </p:nvSpPr>
        <p:spPr>
          <a:xfrm>
            <a:off x="8639280" y="6597720"/>
            <a:ext cx="504720" cy="260280"/>
          </a:xfrm>
          <a:custGeom>
            <a:avLst/>
            <a:gdLst>
              <a:gd name="textAreaLeft" fmla="*/ 16560 w 504720"/>
              <a:gd name="textAreaRight" fmla="*/ 488160 w 504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857" h="21600">
                <a:moveTo>
                  <a:pt x="0" y="0"/>
                </a:moveTo>
                <a:lnTo>
                  <a:pt x="41857" y="0"/>
                </a:lnTo>
                <a:lnTo>
                  <a:pt x="41857" y="21600"/>
                </a:lnTo>
                <a:lnTo>
                  <a:pt x="0" y="21600"/>
                </a:lnTo>
                <a:close/>
              </a:path>
              <a:path fill="lightenLess" w="41857" h="21600">
                <a:moveTo>
                  <a:pt x="0" y="0"/>
                </a:moveTo>
                <a:lnTo>
                  <a:pt x="41857" y="0"/>
                </a:lnTo>
                <a:lnTo>
                  <a:pt x="40457" y="1400"/>
                </a:lnTo>
                <a:lnTo>
                  <a:pt x="1400" y="1400"/>
                </a:lnTo>
                <a:close/>
              </a:path>
              <a:path fill="darken" w="41857" h="21600">
                <a:moveTo>
                  <a:pt x="41857" y="0"/>
                </a:moveTo>
                <a:lnTo>
                  <a:pt x="41857" y="21600"/>
                </a:lnTo>
                <a:lnTo>
                  <a:pt x="40457" y="20200"/>
                </a:lnTo>
                <a:lnTo>
                  <a:pt x="40457" y="1400"/>
                </a:lnTo>
                <a:close/>
              </a:path>
              <a:path fill="darkenLess" w="41857" h="21600">
                <a:moveTo>
                  <a:pt x="41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57" y="20200"/>
                </a:lnTo>
                <a:close/>
              </a:path>
              <a:path fill="lighten" w="41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57" h="21600">
                <a:moveTo>
                  <a:pt x="13922" y="3794"/>
                </a:moveTo>
                <a:lnTo>
                  <a:pt x="27935" y="10800"/>
                </a:lnTo>
                <a:lnTo>
                  <a:pt x="1392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404640"/>
            <a:ext cx="9685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富与贵是人之所欲也，不以其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得之，不处也。　贫与贱是人之所恶也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不以其道得之，　　　不去也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112536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财富和地位是人们向往的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04000" y="112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不凭仁义之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12588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去得到它，就不应该占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56000" y="314172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贫穷和低贱是人们厌恶的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486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讲仁义道德反而受穷而卑微，也不应该抛弃仁义道德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524720" y="1773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w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6" name="">
            <a:hlinkClick r:id="" action="ppaction://hlinkshowjump?jump=nex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118584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　　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贡问君子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子曰：“先行其言而后从之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68360" y="1700280"/>
            <a:ext cx="662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87280" y="21178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子贡请教怎样才能做一个君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26920" y="391788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先行动，有关行动的话以后再发表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50920" y="981000"/>
            <a:ext cx="921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曰：“君子成人之美，　不成人之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小人反是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1830240"/>
            <a:ext cx="95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说：“君子应该成全别人的好事，不促成别人的坏事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50920" y="364500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小人与此相反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317080" y="4237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3794"/>
                </a:moveTo>
                <a:lnTo>
                  <a:pt x="29166" y="10800"/>
                </a:lnTo>
                <a:lnTo>
                  <a:pt x="1515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835280" y="4508640"/>
            <a:ext cx="576252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彩云"/>
              </a:rPr>
              <a:t>成人之美</a:t>
            </a:r>
            <a:endParaRPr b="1" lang="en-US" sz="6000" spc="1" strike="noStrike">
              <a:ln w="12600">
                <a:solidFill>
                  <a:srgbClr val="ffccff"/>
                </a:solidFill>
                <a:miter/>
              </a:ln>
              <a:solidFill>
                <a:srgbClr val="ff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0" y="47628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子曰：“　富　而可求也，　　　　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　　　　　　虽执鞭之士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吾亦为之。如不可求，　从吾所好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126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　　　孔子说：“　做官　如果能通过修养仁德而获得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48546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也尽力去做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521080" y="492588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果不能获得，就从事我爱好的职业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3213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即使是低微的官职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20000" y="3645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h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à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4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0" y="549360"/>
            <a:ext cx="968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子在齐闻《韶》，　三月不知肉味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曰：“　不图为乐之至于斯也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4000" y="134136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子在齐地听了《韶乐》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16360" y="1268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三个月吃肉都吃不出肉味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321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说：“　没想到音乐的创作竟能达到如此高的境界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132000" y="19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yu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3794"/>
                </a:moveTo>
                <a:lnTo>
                  <a:pt x="27166" y="10800"/>
                </a:lnTo>
                <a:lnTo>
                  <a:pt x="1315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4920" y="115920"/>
            <a:ext cx="9540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（点）曰：“莫春者，　春服既成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冠者五六人，童子六七人，　浴乎沂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风乎舞雩，            咏而归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90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　（曾点）说：“到了暮春三月，春天的衣服已经做好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16000" y="2708280"/>
            <a:ext cx="56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五六个成年人，　　六七个少年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156360" y="270828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在沂河边洗澡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44370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在舞雩台上吹风，（然后）唱着歌回家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9080" y="5391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夫子喟然叹曰：“吾与点也！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00000" y="6093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孔夫子叹了口气说：“我赞赏曾点说的啊！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-71280" y="141300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gu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à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740720" y="1413000"/>
            <a:ext cx="21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y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577880" y="3213000"/>
            <a:ext cx="11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y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774800" y="4869000"/>
            <a:ext cx="17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ku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>
            <a:hlinkClick r:id="rId1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02800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7301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  <a:path fill="darken" w="21600" h="23832">
                <a:moveTo>
                  <a:pt x="3794" y="4910"/>
                </a:moveTo>
                <a:lnTo>
                  <a:pt x="5456" y="4910"/>
                </a:lnTo>
                <a:lnTo>
                  <a:pt x="5456" y="18922"/>
                </a:lnTo>
                <a:lnTo>
                  <a:pt x="3794" y="189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115920"/>
            <a:ext cx="961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a883a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a883a"/>
                </a:solidFill>
                <a:latin typeface="Arial"/>
                <a:ea typeface="楷体_GB2312"/>
              </a:rPr>
              <a:t>告诉我们做人的道德修养，要多“自省”，讲恕道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042920" y="1484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Arial"/>
                <a:ea typeface="楷体_GB2312"/>
              </a:rPr>
              <a:t>（一）至（三）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108000" y="2205000"/>
            <a:ext cx="982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883a"/>
                </a:solidFill>
                <a:latin typeface="Arial"/>
                <a:ea typeface="楷体_GB2312"/>
              </a:rPr>
              <a:t>　　告诉我们人要有追求，有抱负，对富贵取之有道，要重实践，能成人之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187280" y="3645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Arial"/>
                <a:ea typeface="楷体_GB2312"/>
              </a:rPr>
              <a:t>（四）至（八）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4437000"/>
            <a:ext cx="99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a883a"/>
                </a:solidFill>
                <a:latin typeface="Arial"/>
                <a:ea typeface="楷体_GB2312"/>
              </a:rPr>
              <a:t>告诉我们人要有艺术修养，要亲近自然，锻炼身体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58920" y="5805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cc"/>
                </a:solidFill>
                <a:latin typeface="Arial"/>
                <a:ea typeface="楷体_GB2312"/>
              </a:rPr>
              <a:t>（九）、（十）则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921840" y="115920"/>
            <a:ext cx="104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 baseline="2000">
                <a:solidFill>
                  <a:srgbClr val="ffff66"/>
                </a:solidFill>
                <a:latin typeface="Times New Roman"/>
                <a:ea typeface="黑体"/>
              </a:rPr>
              <a:t>《论语》十则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24400" y="3087720"/>
            <a:ext cx="242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、字词解释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内容理解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4" name="">
            <a:hlinkClick r:id="rId1" action="ppaction://hlinksldjump"/>
          </p:cNvPr>
          <p:cNvSpPr/>
          <p:nvPr/>
        </p:nvSpPr>
        <p:spPr>
          <a:xfrm>
            <a:off x="1116000" y="1341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１、关于孔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5" name="">
            <a:hlinkClick r:id="rId2" action="ppaction://hlinksldjump"/>
          </p:cNvPr>
          <p:cNvSpPr/>
          <p:nvPr/>
        </p:nvSpPr>
        <p:spPr>
          <a:xfrm>
            <a:off x="1116000" y="220500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２、关于《论语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042920" y="3789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（一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71640" y="38196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二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560" y="3819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三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003640" y="378936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四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84720" y="38196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五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54764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六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771640" y="4653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七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95640" y="465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八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03640" y="4653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九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119640" y="465300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十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">
            <a:hlinkClick r:id="rId3" action="ppaction://hlinksldjump"/>
          </p:cNvPr>
          <p:cNvSpPr/>
          <p:nvPr/>
        </p:nvSpPr>
        <p:spPr>
          <a:xfrm>
            <a:off x="1189080" y="5373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楷体_GB2312"/>
              </a:rPr>
              <a:t>４、讨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782960" y="0"/>
            <a:ext cx="436104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0" y="69228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孔子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前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551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－前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479)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丘，字仲尼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我国古代伟大的思想家、教育家，儒家学派的创始人，其核心思想是“仁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被誉为“万世师表”、“千古圣人”，世界十大思想家之首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1965240" y="60087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75080" y="5805360"/>
            <a:ext cx="56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相传孔子出生地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----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山东曲阜</a:t>
            </a: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尼山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全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8209080" cy="48960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3309120" y="56674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孔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孔子嫡系子孙居住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157200" y="189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山东曲阜“三孔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8893080" cy="56610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484800" y="56674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孔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祭祀孔子的地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931200" y="5667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孔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孔子墓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57340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4957920" y="0"/>
            <a:ext cx="4186080" cy="57340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rId4" action="ppaction://hlinksldjump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9232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7387" y="3794"/>
                </a:lnTo>
                <a:lnTo>
                  <a:pt x="7387" y="17806"/>
                </a:lnTo>
                <a:lnTo>
                  <a:pt x="5724" y="17806"/>
                </a:lnTo>
                <a:close/>
              </a:path>
            </a:pathLst>
          </a:cu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95280" y="44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　　《论语》属语录体散文，是孔子弟子及其再传弟子关于孔子言行的记录，共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篇。内容有孔子谈话，答弟子问及弟子间的相互讨论。它是研究孔子思想的主要依据。南宋时，朱熹把它列为“四书”（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《孟子》、《中庸》、《大学》、《论语》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）之一，成为儒家的重要经典。宋朝宰相赵普曾赞颂说“半部《论语》治天下”。本文十则是儒家修身之言，讲的是做人之道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">
            <a:hlinkClick r:id="rId1" action="ppaction://hlinksldjump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7301" y="10925"/>
                </a:moveTo>
                <a:lnTo>
                  <a:pt x="17806" y="3918"/>
                </a:lnTo>
                <a:lnTo>
                  <a:pt x="17806" y="17931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5456" y="3918"/>
                </a:lnTo>
                <a:lnTo>
                  <a:pt x="5456" y="17931"/>
                </a:lnTo>
                <a:lnTo>
                  <a:pt x="3794" y="1793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792000" y="105264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曾子曰：“吾日三省乎吾身——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2637000"/>
            <a:ext cx="97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为人谋而不忠乎？　与朋友交而不信乎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2920" y="422100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楷体_GB2312"/>
              </a:rPr>
              <a:t>传不习乎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440000" y="19162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曾子说：“我每天三次反省自己—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501336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（老师）传授的知识不去复习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50028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替别人出谋划策却不诚心诚意吗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221440" y="35575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与朋友交往却不诚实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427640" y="47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Arial"/>
              </a:rPr>
              <a:t>ĭ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849636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0" h="21600">
                <a:moveTo>
                  <a:pt x="10274" y="3794"/>
                </a:moveTo>
                <a:lnTo>
                  <a:pt x="24286" y="10800"/>
                </a:lnTo>
                <a:lnTo>
                  <a:pt x="1027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07:13:18Z</dcterms:created>
  <dc:creator>现代信息技术中心</dc:creator>
  <dc:description/>
  <dc:language>en-US</dc:language>
  <cp:lastModifiedBy>现代信息技术中心</cp:lastModifiedBy>
  <dcterms:modified xsi:type="dcterms:W3CDTF">2005-10-11T04:41:49Z</dcterms:modified>
  <cp:revision>40</cp:revision>
  <dc:subject/>
  <dc:title>幻灯片 1</dc:title>
</cp:coreProperties>
</file>