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whoosh.wav" ContentType="audio/x-wav"/>
  <Override PartName="/ppt/media/image9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045-4036-4860-B7F3-3E4116F0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C90-11DB-4879-B462-72D89E79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4C0-30DF-40DD-8299-EA265372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4FE-E8C5-4BA2-989D-236D4651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C1DC-43DE-458F-863F-E7CE7A22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EED1-8556-484C-BBEC-61EA5F1E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5AF8-5A88-4A97-AC8D-9C1712C9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DCD5-639E-4C33-B6C8-FE21A021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2FB3-6834-44A5-ABF5-AEE7D2DD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79F2-F43A-4E51-BB84-19CB2742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8686-8A4E-49B0-9803-2341A066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384-A8E4-40BC-B69F-74829A7C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BD83-709C-48BA-9B3D-4EC54986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262F-92E3-4F09-BEF6-7CBBFE3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1FC2-8FEC-45C5-85A3-17860847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DABB-F136-4016-9080-DDA95899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496E-30A9-41DC-BE39-97B14823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6F0-511E-4070-8AE5-E30F9B2E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939-D94D-485E-83AC-B4426F8C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9A0-934C-4BAC-BB93-6E6BB61F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D6C-B65B-44FF-91B5-4F240740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40F-59C9-4479-8E69-91C0451B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B89-1DB5-40CB-86CB-AF7E17B4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746-3ED7-4C4F-BFBD-7A057F3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6174-2C56-4EA2-B9F4-D293FD76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8107-174A-42FD-9680-C422015BCEC5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ushucheng.com/book/1572640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 rot="5400000">
            <a:off x="4834440" y="2662920"/>
            <a:ext cx="61722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普罗米修斯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Picture 4" descr="普"/>
          <p:cNvPicPr/>
          <p:nvPr/>
        </p:nvPicPr>
        <p:blipFill>
          <a:blip r:embed="rId1"/>
          <a:stretch/>
        </p:blipFill>
        <p:spPr>
          <a:xfrm>
            <a:off x="0" y="0"/>
            <a:ext cx="698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1447920" y="1523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Picture 7" descr="普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2004928232536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英雄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203640" y="3068640"/>
            <a:ext cx="2448000" cy="792000"/>
          </a:xfrm>
          <a:prstGeom prst="rect">
            <a:avLst/>
          </a:pr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普罗米修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692360" y="1916280"/>
            <a:ext cx="1438200" cy="792000"/>
          </a:xfrm>
          <a:prstGeom prst="flowChartAlternateProcess">
            <a:avLst/>
          </a:pr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善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5867280" y="1916280"/>
            <a:ext cx="1441440" cy="863280"/>
          </a:xfrm>
          <a:prstGeom prst="flowChartAlternateProcess">
            <a:avLst/>
          </a:pr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勇敢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1187280" y="4149720"/>
            <a:ext cx="1584360" cy="863640"/>
          </a:xfrm>
          <a:prstGeom prst="flowChartAlternateProcess">
            <a:avLst/>
          </a:pr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不屈不挠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780000" y="5013360"/>
            <a:ext cx="1511280" cy="792000"/>
          </a:xfrm>
          <a:prstGeom prst="flowChartAlternateProcess">
            <a:avLst/>
          </a:pr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正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6300720" y="4292640"/>
            <a:ext cx="1584360" cy="863640"/>
          </a:xfrm>
          <a:prstGeom prst="flowChartAlternateProcess">
            <a:avLst/>
          </a:pr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智慧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916000" y="-360"/>
            <a:ext cx="7272360" cy="65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普罗米修斯赞歌    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雪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谁？让漫漫黑夜跳跃希望的火苗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谁？让蛮荒时代沐浴文明的曙光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谁？甘愿触犯天条也要救人类于水火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谁？身受酷刑却无怨无悔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啊！巨人，是你给人类带来火种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送来光和热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送来人类新的纪元！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尽管上天和你蓄意为敌－－－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高山险峻、铁链加身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烈日如火、暴雨如注．．．．．．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但沉重的铁链只能锁住你的躯体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却怎能锁住那颗坦荡无私的心！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难道仅仅是物质的火种吗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不，你给予我们的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生生不息的精神火种！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勇敢、坚强、博爱、无私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这就是你－－－普罗米修斯！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1640" y="907560"/>
            <a:ext cx="4273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作业：写话练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写写你想对普罗米修斯说的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学习雪莱，写一写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32292" t="541" r="29916" b="0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63640" y="549000"/>
            <a:ext cx="309564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那里有更多有趣的故事等着你们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03280" y="1483920"/>
            <a:ext cx="4572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7" name="Picture 9" descr="古希腊神话与传说(含盘) - 图书城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自学要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通读课文，读准生字生词的音。借助工具书理解课文中新词的意思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想一想，课文讲了一个什么故事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736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火焰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yàn) 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lǐng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袖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xiù) 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惩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chéng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罚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fá) 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吩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fēn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咐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fù) 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敬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jìng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佩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pèi) 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饶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ráo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恕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shù) 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wéi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抗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kàng)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狠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hěn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心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鹫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jiù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鹰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yīng) 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双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xī) 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gān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脏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zàng) 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锁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suǒ) 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押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yā)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驱寒取暖                       气急败坏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3203640" y="333360"/>
            <a:ext cx="2361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暴风截屏20080420135803"/>
          <p:cNvPicPr/>
          <p:nvPr/>
        </p:nvPicPr>
        <p:blipFill>
          <a:blip r:embed="rId1">
            <a:lum bright="18000"/>
          </a:blip>
          <a:srcRect l="18404" t="14866" r="26297" b="7433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040" y="685440"/>
            <a:ext cx="2135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97080" y="1125360"/>
            <a:ext cx="6553080" cy="51818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普罗米修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6732720" y="476280"/>
            <a:ext cx="1582560" cy="934920"/>
          </a:xfrm>
          <a:prstGeom prst="flowChartAlternateProcess">
            <a:avLst/>
          </a:pr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取火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732720" y="2708280"/>
            <a:ext cx="1584360" cy="934920"/>
          </a:xfrm>
          <a:prstGeom prst="flowChartAlternateProcess">
            <a:avLst/>
          </a:pr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受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6732720" y="4941720"/>
            <a:ext cx="1584360" cy="935280"/>
          </a:xfrm>
          <a:prstGeom prst="flowChartAlternateProcess">
            <a:avLst/>
          </a:pr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获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7308720" y="184464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7308720" y="407664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58920" y="764640"/>
            <a:ext cx="3986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普罗米修斯是一位什么样的神？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或者说他有哪些性格特征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00444.mpg" descr=""/>
          <p:cNvPicPr/>
          <p:nvPr/>
        </p:nvPicPr>
        <p:blipFill>
          <a:blip r:embed="rId1"/>
          <a:srcRect l="0" t="0" r="22702" b="0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2004928232536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很久很久以前，地面上没有火，人们只好吃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生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的东西，在无边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黑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中度过一个又一个长夜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有一位名叫普罗米修斯的天神来到了人间，看到人类没有火的悲惨情景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决心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冒着生命危险，到太阳神阿波罗那里去拿取火种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2004928232536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066680" y="990720"/>
            <a:ext cx="5105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4920" y="32767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　　普罗米修斯摇摇头，坚定地回答：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为人类造福，有什么错？我可以忍受各种痛苦，但决不会承认错误，更不会归还火种！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200" y="5335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　　火神很敬佩普罗米修斯，受刑前曾悄悄地对他说：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只要你向宙斯承认错误，归还火种，我一定请求他饶恕你。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635280" y="404280"/>
            <a:ext cx="518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火神不敢违抗宙斯的命令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只好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普罗米修斯押到高加索山上。普罗米修斯的双手和双脚戴着铁环，被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死死地锁在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高高的悬崖上。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既不能动弹，也不能睡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日夜遭受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风吹雨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痛苦。尽管如此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普罗米修斯就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向宙斯屈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492360" y="333360"/>
            <a:ext cx="53532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狠心的宙斯又派了一只凶恶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鹫鹰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每天站在普罗米修斯的双膝上，用它尖利的嘴巴，啄食他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肝脏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白天，他的肝脏被吃光了，可是一到晚上，肝脏又重新长了起来。这样，普罗米修斯所承受的痛苦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永远没有尽头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3:34:44Z</dcterms:created>
  <dc:creator>user</dc:creator>
  <dc:description/>
  <dc:language>en-US</dc:language>
  <cp:lastModifiedBy>xbany</cp:lastModifiedBy>
  <dcterms:modified xsi:type="dcterms:W3CDTF">2018-01-04T07:56:25Z</dcterms:modified>
  <cp:revision>52</cp:revision>
  <dc:subject/>
  <dc:title>PowerPoint 演示文稿</dc:title>
</cp:coreProperties>
</file>