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DE7-DFD7-41F2-A37E-57B36D96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DB7-403A-4496-B098-8A26B4D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904-7B4E-4FC6-9773-AE7177B8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851-0839-45DD-A31A-68BD4BE4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71AB-1369-4990-A8F1-2C703C1F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F732-7A40-40ED-869D-6BE7F16A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301B-5C8A-458F-AE59-7EFC82DB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26F8-9055-4F6B-AB47-CC2AA134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46A7-7332-4401-A834-89A63C8A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2650-2F79-4F9A-A560-D4A9DDBA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7444-78FC-438F-88E6-8CF54F17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DA7-9A47-4973-AD0B-D0011D99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A32B-F4F3-471D-A55E-5C3F7C1A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B249-D31E-4D0E-8BE5-923C8C1D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42BD-DB93-4640-82C3-27B2EE4C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A170-EEEA-4455-A404-198EA95B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377E-607F-458F-8794-23849921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863-39DC-4079-A884-981442D2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B2F-081E-4E9E-9E34-3410B108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8EF-0CE6-408B-839E-56D5E7C6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D5A-BF4A-411D-9375-385F56E6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A67-6B18-480F-97F8-D8FC7BE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51E-C384-4AE0-B914-0A788AF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C38-F76D-495B-B466-4D9F778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0A01-6DD6-4FC9-9FD6-ABC4BAE7C0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D33D-02E5-4B73-99B8-2406CAFEEA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09080" cy="676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8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梅花是我们中华民族与中国的精神象征，具有强大而普遍的感染力和推动力。梅花象征坚韧不拔，不屈不挠，奋勇当先，自强不息的精神品质。迎雪吐艳，凌寒飘香，铁骨冰心的崇高品质和坚贞气节鼓励了一代又一代中国人不畏艰险，奋勇开拓，创造了优秀的生活与文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4000" y="117360"/>
            <a:ext cx="41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朱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里清江醉墨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寒枝瘦凛冰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今白黑浑休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作人间时世妆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04400" cy="6981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4880" y="0"/>
            <a:ext cx="2131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树寒梅白玉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临村路傍溪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近水花先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是经冬雪未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44280"/>
            <a:ext cx="3382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梅花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无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见寒梅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开汉水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春色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是弄珠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34920" y="-98280"/>
            <a:ext cx="9102600" cy="698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35280" y="333360"/>
            <a:ext cx="381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家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里已知春信至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梅点缀琼枝腻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脸半开娇旖旎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庭际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人浴出新妆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76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260280"/>
            <a:ext cx="60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卜算子•咏梅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泽东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雨送春归，飞雪迎春到。已是悬崖百丈冰，犹有花枝俏。 　　俏也不争春，只把春来报。待到山花烂漫时，她在丛中笑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9036000" cy="676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60360" y="260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江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 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庭院深深深几许，云窗雾阁春迟，为谁憔悴损芳姿。夜来清梦好，应是发南枝。    玉瘦檀轻无限恨，南楼羌管休吹。浓香吹尽有谁知，暖风迟日也，别到杏花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2-11-24T07:12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