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29.png" ContentType="image/png"/>
  <Override PartName="/ppt/media/image31.png" ContentType="image/png"/>
  <Override PartName="/ppt/media/image3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CA6-C0B8-4703-A266-4FD92A36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D5B-D80C-4B8D-8BFE-FF4B2AB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A48-D2FB-4662-8824-FA051DB9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135-AB6B-4C7D-AD9B-A47B668F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3A21-612A-4454-9215-C28707B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92B-66CB-4705-BDBC-59A583C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419-1C0A-4A29-937F-7748B97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99E-CCEB-440F-B0D8-DE6EE0A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745-58F1-4C0E-A99B-9CB4995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C5E-6276-4A7D-97C9-C776086C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2705-9BE6-4917-B55E-D428219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873-08E3-4A64-95E3-23BF39A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CD9-3EEC-44EE-B42B-82FE5DA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719-E11A-490A-97ED-27CFD96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E8EF-DE65-4559-965D-27426F3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28F-D75A-4BF3-99A5-9277A40A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C733-5271-45F6-880D-222E5B77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D05-9D35-4B16-BFA7-2A3BDE1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CB2-ECDF-4B4B-B16D-A446510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180-99B2-495F-99D6-1FC994AF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B85-B054-426C-821B-A22F0829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A14-2C44-4D6B-8A8C-377DE0F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DD3-9799-4EDD-BC50-254F4371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8F0-5ADD-4BC4-AFD2-796F7BF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27A-5154-4A17-BDCA-C6E7B3D8F2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97A-7EFE-4E07-94F0-9A08628014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5.png"/><Relationship Id="rId10" Type="http://schemas.openxmlformats.org/officeDocument/2006/relationships/slide" Target="slide3.xm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3.png"/><Relationship Id="rId5" Type="http://schemas.openxmlformats.org/officeDocument/2006/relationships/image" Target="../media/image39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8.png"/><Relationship Id="rId6" Type="http://schemas.openxmlformats.org/officeDocument/2006/relationships/slide" Target="slide6.xml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4.png"/><Relationship Id="rId12" Type="http://schemas.openxmlformats.org/officeDocument/2006/relationships/slide" Target="slide3.xm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image" Target="../media/image10.png"/><Relationship Id="rId6" Type="http://schemas.openxmlformats.org/officeDocument/2006/relationships/slide" Target="slide10.xml"/><Relationship Id="rId7" Type="http://schemas.openxmlformats.org/officeDocument/2006/relationships/image" Target="../media/image9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4.png"/><Relationship Id="rId12" Type="http://schemas.openxmlformats.org/officeDocument/2006/relationships/slide" Target="slide2.xml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" Target="slide4.xml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image" Target="../media/image17.png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" Target="slide1.xml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slide" Target="slide1.xml"/><Relationship Id="rId3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6.png"/><Relationship Id="rId19" Type="http://schemas.openxmlformats.org/officeDocument/2006/relationships/image" Target="../media/image2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8" descr="未标题-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9" descr="ji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0" descr="工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12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2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共"/>
          <p:cNvPicPr/>
          <p:nvPr/>
        </p:nvPicPr>
        <p:blipFill>
          <a:blip r:embed="rId1"/>
          <a:srcRect l="44209" t="0" r="4270" b="45483"/>
          <a:stretch/>
        </p:blipFill>
        <p:spPr>
          <a:xfrm>
            <a:off x="-30240" y="0"/>
            <a:ext cx="4143600" cy="28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共"/>
          <p:cNvPicPr/>
          <p:nvPr/>
        </p:nvPicPr>
        <p:blipFill>
          <a:blip r:embed="rId2"/>
          <a:srcRect l="45752" t="0" r="4270" b="45483"/>
          <a:stretch/>
        </p:blipFill>
        <p:spPr>
          <a:xfrm>
            <a:off x="406728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共"/>
          <p:cNvPicPr/>
          <p:nvPr/>
        </p:nvPicPr>
        <p:blipFill>
          <a:blip r:embed="rId3"/>
          <a:srcRect l="45752" t="0" r="4270" b="45483"/>
          <a:stretch/>
        </p:blipFill>
        <p:spPr>
          <a:xfrm>
            <a:off x="547524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共"/>
          <p:cNvPicPr/>
          <p:nvPr/>
        </p:nvPicPr>
        <p:blipFill>
          <a:blip r:embed="rId4"/>
          <a:srcRect l="45752" t="2615" r="4270" b="45483"/>
          <a:stretch/>
        </p:blipFill>
        <p:spPr>
          <a:xfrm>
            <a:off x="5334120" y="2494080"/>
            <a:ext cx="4025880" cy="2670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共"/>
          <p:cNvPicPr/>
          <p:nvPr/>
        </p:nvPicPr>
        <p:blipFill>
          <a:blip r:embed="rId5"/>
          <a:srcRect l="45752" t="2416" r="4270" b="45483"/>
          <a:stretch/>
        </p:blipFill>
        <p:spPr>
          <a:xfrm>
            <a:off x="2374920" y="2484360"/>
            <a:ext cx="4025880" cy="2679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共"/>
          <p:cNvPicPr/>
          <p:nvPr/>
        </p:nvPicPr>
        <p:blipFill>
          <a:blip r:embed="rId6"/>
          <a:srcRect l="45752" t="2761" r="4270" b="45483"/>
          <a:stretch/>
        </p:blipFill>
        <p:spPr>
          <a:xfrm>
            <a:off x="-41400" y="2502000"/>
            <a:ext cx="4017960" cy="2662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79480"/>
            <a:ext cx="21193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298" name="Picture 9" descr=""/>
          <p:cNvPicPr/>
          <p:nvPr/>
        </p:nvPicPr>
        <p:blipFill>
          <a:blip r:embed="rId8"/>
          <a:stretch/>
        </p:blipFill>
        <p:spPr>
          <a:xfrm>
            <a:off x="826920" y="1779480"/>
            <a:ext cx="21193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299" name="Picture 10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3508200" y="1779480"/>
            <a:ext cx="2121120" cy="20876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0" name="Picture 11" descr="op"/>
          <p:cNvPicPr/>
          <p:nvPr/>
        </p:nvPicPr>
        <p:blipFill>
          <a:blip r:embed="rId10"/>
          <a:stretch/>
        </p:blipFill>
        <p:spPr>
          <a:xfrm>
            <a:off x="1116000" y="0"/>
            <a:ext cx="6534000" cy="971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工"/>
          <p:cNvPicPr/>
          <p:nvPr/>
        </p:nvPicPr>
        <p:blipFill>
          <a:blip r:embed="rId11"/>
          <a:stretch/>
        </p:blipFill>
        <p:spPr>
          <a:xfrm>
            <a:off x="3635280" y="-14400"/>
            <a:ext cx="1522440" cy="13273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3"/>
          <p:cNvSpPr/>
          <p:nvPr/>
        </p:nvSpPr>
        <p:spPr>
          <a:xfrm>
            <a:off x="514440" y="3554280"/>
            <a:ext cx="7648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-13566600" y="41112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05" name="Text Box 1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04"/>
          <p:cNvPicPr/>
          <p:nvPr/>
        </p:nvPicPr>
        <p:blipFill>
          <a:blip r:embed="rId1"/>
          <a:srcRect l="0" t="0" r="0" b="-70"/>
          <a:stretch/>
        </p:blipFill>
        <p:spPr>
          <a:xfrm>
            <a:off x="-22320" y="-87480"/>
            <a:ext cx="9129960" cy="54500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264960" y="120600"/>
            <a:ext cx="8412480" cy="4827600"/>
          </a:xfrm>
          <a:prstGeom prst="rect">
            <a:avLst/>
          </a:prstGeom>
          <a:noFill/>
          <a:ln w="22320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3120" cy="16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0" name="Text Box 5"/>
          <p:cNvSpPr/>
          <p:nvPr/>
        </p:nvSpPr>
        <p:spPr>
          <a:xfrm>
            <a:off x="479520" y="755640"/>
            <a:ext cx="727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与制作电动车项目开发申请专利，获全国科技创新一等奖， 参与棋类制作项目研发并申请专利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模特之星大赛，获得最佳表演奖；参加浐霸房产代言人选拔前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强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大学生广告艺术大赛学院奖，独立制作汉王绘图板策划，获得西北赛区三等奖，平面水墨篇获西北赛区三等奖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大学生艺术团并担任外宣部社长，策划多次纳新活动，迎春晚会，迎新生晚会，和外校联谊活动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参加中国策大赛，制作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kappa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策划；参加全国大学生广告大赛，与同学共同制作宝达鞋业策划，七度空间平面，获全国佳作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获得全国网卡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ID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设计全国佳作奖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成为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2+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广告社社长，将社员发展到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180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余人，带领组织同学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201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年广告节进行广告交流，参加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oneshow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，金犊，学院奖等多项大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12" name="Text Box 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未标题-1"/>
          <p:cNvPicPr/>
          <p:nvPr/>
        </p:nvPicPr>
        <p:blipFill>
          <a:blip r:embed="rId1"/>
          <a:stretch/>
        </p:blipFill>
        <p:spPr>
          <a:xfrm>
            <a:off x="-755640" y="-434880"/>
            <a:ext cx="10659960" cy="58150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808360" y="0"/>
            <a:ext cx="59641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技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WOR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EXCEL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等办公软件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设计软件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S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AI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PT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3D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，并掌握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2DCG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插画，游戏场景设计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熟练掌握摄影技术，后期修图及相册制作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服装表演经验丰富；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仿制古代印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4251960" y="2139840"/>
            <a:ext cx="637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爱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书、旅行、绘画、摄影、音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_MG_1204副本"/>
          <p:cNvPicPr/>
          <p:nvPr/>
        </p:nvPicPr>
        <p:blipFill>
          <a:blip r:embed="rId2"/>
          <a:stretch/>
        </p:blipFill>
        <p:spPr>
          <a:xfrm>
            <a:off x="0" y="3281400"/>
            <a:ext cx="1403280" cy="88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7"/>
          <p:cNvSpPr/>
          <p:nvPr/>
        </p:nvSpPr>
        <p:spPr>
          <a:xfrm>
            <a:off x="3240" y="2933640"/>
            <a:ext cx="5637240" cy="2478240"/>
          </a:xfrm>
          <a:prstGeom prst="roundRect">
            <a:avLst>
              <a:gd name="adj" fmla="val 16667"/>
            </a:avLst>
          </a:prstGeom>
          <a:solidFill>
            <a:srgbClr val="80808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yiyi"/>
          <p:cNvPicPr/>
          <p:nvPr/>
        </p:nvPicPr>
        <p:blipFill>
          <a:blip r:embed="rId3"/>
          <a:stretch/>
        </p:blipFill>
        <p:spPr>
          <a:xfrm>
            <a:off x="1440" y="4084560"/>
            <a:ext cx="1416240" cy="8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未标题-5"/>
          <p:cNvPicPr/>
          <p:nvPr/>
        </p:nvPicPr>
        <p:blipFill>
          <a:blip r:embed="rId4"/>
          <a:stretch/>
        </p:blipFill>
        <p:spPr>
          <a:xfrm>
            <a:off x="534960" y="266760"/>
            <a:ext cx="2273400" cy="1919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2" name="AutoShape 10"/>
          <p:cNvSpPr/>
          <p:nvPr/>
        </p:nvSpPr>
        <p:spPr>
          <a:xfrm>
            <a:off x="5632560" y="2943360"/>
            <a:ext cx="3512880" cy="2462040"/>
          </a:xfrm>
          <a:prstGeom prst="roundRect">
            <a:avLst>
              <a:gd name="adj" fmla="val 16667"/>
            </a:avLst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1" descr="_MG_1204副本"/>
          <p:cNvPicPr/>
          <p:nvPr/>
        </p:nvPicPr>
        <p:blipFill>
          <a:blip r:embed="rId5"/>
          <a:stretch/>
        </p:blipFill>
        <p:spPr>
          <a:xfrm>
            <a:off x="0" y="3289320"/>
            <a:ext cx="1403280" cy="88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DSC00392"/>
          <p:cNvPicPr/>
          <p:nvPr/>
        </p:nvPicPr>
        <p:blipFill>
          <a:blip r:embed="rId6"/>
          <a:stretch/>
        </p:blipFill>
        <p:spPr>
          <a:xfrm>
            <a:off x="8097840" y="3289320"/>
            <a:ext cx="1082520" cy="1717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娱乐至死"/>
          <p:cNvPicPr/>
          <p:nvPr/>
        </p:nvPicPr>
        <p:blipFill>
          <a:blip r:embed="rId7"/>
          <a:stretch/>
        </p:blipFill>
        <p:spPr>
          <a:xfrm>
            <a:off x="1403280" y="3292560"/>
            <a:ext cx="133344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未命名-1"/>
          <p:cNvPicPr/>
          <p:nvPr/>
        </p:nvPicPr>
        <p:blipFill>
          <a:blip r:embed="rId8"/>
          <a:stretch/>
        </p:blipFill>
        <p:spPr>
          <a:xfrm>
            <a:off x="2720880" y="3292560"/>
            <a:ext cx="951120" cy="1714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作品"/>
          <p:cNvPicPr/>
          <p:nvPr/>
        </p:nvPicPr>
        <p:blipFill>
          <a:blip r:embed="rId9"/>
          <a:stretch/>
        </p:blipFill>
        <p:spPr>
          <a:xfrm>
            <a:off x="4699080" y="3289320"/>
            <a:ext cx="9525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16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29" name="Text Box 17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19" descr="clare-500x706"/>
          <p:cNvPicPr/>
          <p:nvPr/>
        </p:nvPicPr>
        <p:blipFill>
          <a:blip r:embed="rId10"/>
          <a:srcRect l="0" t="0" r="-3243" b="0"/>
          <a:stretch/>
        </p:blipFill>
        <p:spPr>
          <a:xfrm>
            <a:off x="3672000" y="3289320"/>
            <a:ext cx="1084320" cy="1717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_MG_6994"/>
          <p:cNvPicPr/>
          <p:nvPr/>
        </p:nvPicPr>
        <p:blipFill>
          <a:blip r:embed="rId11"/>
          <a:stretch/>
        </p:blipFill>
        <p:spPr>
          <a:xfrm>
            <a:off x="5635800" y="3289320"/>
            <a:ext cx="2465280" cy="17175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1"/>
          <p:cNvSpPr/>
          <p:nvPr/>
        </p:nvSpPr>
        <p:spPr>
          <a:xfrm>
            <a:off x="395280" y="29336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95280" y="2943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588960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2808360" y="266760"/>
            <a:ext cx="6156360" cy="2520720"/>
          </a:xfrm>
          <a:prstGeom prst="rect">
            <a:avLst/>
          </a:prstGeom>
          <a:noFill/>
          <a:ln w="1908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590544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品展示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568440" y="1577880"/>
            <a:ext cx="4003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</a:rPr>
              <a:t>联系方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电话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邮箱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QQ</a:t>
            </a:r>
            <a:r>
              <a:rPr b="1" lang="zh-CN" sz="2000" spc="-1" strike="noStrike">
                <a:solidFill>
                  <a:srgbClr val="292929"/>
                </a:solidFill>
                <a:latin typeface="黑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41" name="Text Box 5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7" descr="df"/>
          <p:cNvPicPr/>
          <p:nvPr/>
        </p:nvPicPr>
        <p:blipFill>
          <a:blip r:embed="rId3"/>
          <a:stretch/>
        </p:blipFill>
        <p:spPr>
          <a:xfrm>
            <a:off x="0" y="0"/>
            <a:ext cx="201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187280" y="1911240"/>
            <a:ext cx="55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347" name="Text Box 5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6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i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60720" y="2571840"/>
            <a:ext cx="2465280" cy="241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46400" y="42116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1" descr="工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12" descr=""/>
          <p:cNvPicPr/>
          <p:nvPr/>
        </p:nvPicPr>
        <p:blipFill>
          <a:blip r:embed="rId14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工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341960" y="1149480"/>
            <a:ext cx="2135160" cy="203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8" descr="xv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48360" y="25718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未标题-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Picture 10" descr="未标题-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11" descr="ji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1" descr=""/>
          <p:cNvPicPr/>
          <p:nvPr/>
        </p:nvPicPr>
        <p:blipFill>
          <a:blip r:embed="rId14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未标题-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89560" y="314280"/>
            <a:ext cx="1606680" cy="18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" name="Picture 8" descr="xv"/>
          <p:cNvPicPr/>
          <p:nvPr/>
        </p:nvPicPr>
        <p:blipFill>
          <a:blip r:embed="rId6"/>
          <a:stretch/>
        </p:blipFill>
        <p:spPr>
          <a:xfrm>
            <a:off x="6804000" y="1635120"/>
            <a:ext cx="59040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未标题-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47120" y="123840"/>
            <a:ext cx="152388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3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864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Picture 12" descr=""/>
          <p:cNvPicPr/>
          <p:nvPr/>
        </p:nvPicPr>
        <p:blipFill>
          <a:blip r:embed="rId13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f">
            <a:hlinkClick r:id="rId2" action="ppaction://hlinksldjump"/>
          </p:cNvPr>
          <p:cNvPicPr/>
          <p:nvPr/>
        </p:nvPicPr>
        <p:blipFill>
          <a:blip r:embed="rId3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未标题-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23200" y="0"/>
            <a:ext cx="1720800" cy="1452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8" descr="xv"/>
          <p:cNvPicPr/>
          <p:nvPr/>
        </p:nvPicPr>
        <p:blipFill>
          <a:blip r:embed="rId6"/>
          <a:stretch/>
        </p:blipFill>
        <p:spPr>
          <a:xfrm>
            <a:off x="7956720" y="106848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未标题-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8164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Picture 10" descr="ji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11" descr="工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13"/>
          <a:stretch/>
        </p:blipFill>
        <p:spPr>
          <a:xfrm>
            <a:off x="676440" y="312840"/>
            <a:ext cx="1950840" cy="3028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614880" y="7333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8c93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197720" y="7668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XXXXXX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20520" cy="549576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1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42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46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55640" y="482760"/>
            <a:ext cx="7035840" cy="119124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姓名：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年龄：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性别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工作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55640" y="2016000"/>
            <a:ext cx="5626080" cy="18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教育背景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2008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学习内容包括平面设计</a:t>
            </a:r>
            <a:r>
              <a:rPr b="1" lang="en-US" sz="1400" spc="-1" strike="noStrike">
                <a:solidFill>
                  <a:srgbClr val="ffffff"/>
                </a:solidFill>
                <a:latin typeface="黑体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英语程度是专业八级；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普通话水平一级甲等</a:t>
            </a:r>
            <a:r>
              <a:rPr b="1" lang="zh-CN" sz="1400" spc="-1" strike="noStrike">
                <a:solidFill>
                  <a:srgbClr val="ffffff"/>
                </a:solidFill>
                <a:latin typeface="黑体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154" name="Text Box 28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9">
              <a:hlinkClick r:id="rId19" action="ppaction://hlinksldjump"/>
            </p:cNvPr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hape" descr=""/>
          <p:cNvPicPr/>
          <p:nvPr/>
        </p:nvPicPr>
        <p:blipFill>
          <a:blip r:embed="rId20"/>
          <a:stretch/>
        </p:blipFill>
        <p:spPr>
          <a:xfrm>
            <a:off x="-608040" y="339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6659640" y="482760"/>
            <a:ext cx="958680" cy="11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6cd"/>
                </a:solidFill>
                <a:latin typeface="Arial"/>
              </a:rPr>
              <a:t>照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1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4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0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40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71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72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76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Text Box 24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-1832040" y="339840"/>
            <a:ext cx="642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93560" y="1101600"/>
            <a:ext cx="924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性格开朗，擅长与人交际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-1844640" y="-14400"/>
            <a:ext cx="8461080" cy="790560"/>
            <a:chOff x="-1844640" y="-14400"/>
            <a:chExt cx="8461080" cy="790560"/>
          </a:xfrm>
        </p:grpSpPr>
        <p:sp>
          <p:nvSpPr>
            <p:cNvPr id="184" name="Text Box 28"/>
            <p:cNvSpPr/>
            <p:nvPr/>
          </p:nvSpPr>
          <p:spPr>
            <a:xfrm>
              <a:off x="183960" y="-14400"/>
              <a:ext cx="643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06a66"/>
                  </a:solidFill>
                  <a:latin typeface="黑体"/>
                </a:rPr>
                <a:t>自我评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9"/>
            <p:cNvSpPr/>
            <p:nvPr/>
          </p:nvSpPr>
          <p:spPr>
            <a:xfrm>
              <a:off x="-1844640" y="11880"/>
              <a:ext cx="64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黑体"/>
                </a:rPr>
                <a:t>自我评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30"/>
          <p:cNvSpPr/>
          <p:nvPr/>
        </p:nvSpPr>
        <p:spPr>
          <a:xfrm>
            <a:off x="3236760" y="1924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洞察力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1506240" y="277812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工作积极主动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办事靠谱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2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189" name="Text Box 33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34">
              <a:hlinkClick r:id="rId19" action="ppaction://hlinksldjump"/>
            </p:cNvPr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7120" cy="525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960" cy="768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755640" y="346392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2286000" y="344664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340000" y="349092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3120" cy="16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960" cy="185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40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04" name="Group 15"/>
          <p:cNvGrpSpPr/>
          <p:nvPr/>
        </p:nvGrpSpPr>
        <p:grpSpPr>
          <a:xfrm>
            <a:off x="-38160" y="4199040"/>
            <a:ext cx="6913800" cy="826920"/>
            <a:chOff x="-38160" y="4199040"/>
            <a:chExt cx="6913800" cy="826920"/>
          </a:xfrm>
        </p:grpSpPr>
        <p:pic>
          <p:nvPicPr>
            <p:cNvPr id="205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4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160" y="4199040"/>
              <a:ext cx="3331080" cy="8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4560" y="4199040"/>
              <a:ext cx="3331080" cy="8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9"/>
          <p:cNvGrpSpPr/>
          <p:nvPr/>
        </p:nvGrpSpPr>
        <p:grpSpPr>
          <a:xfrm>
            <a:off x="8422920" y="-200160"/>
            <a:ext cx="825480" cy="6915240"/>
            <a:chOff x="8422920" y="-200160"/>
            <a:chExt cx="825480" cy="6915240"/>
          </a:xfrm>
        </p:grpSpPr>
        <p:pic>
          <p:nvPicPr>
            <p:cNvPr id="209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1760" y="-18900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0200" y="1842120"/>
              <a:ext cx="3331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0200" y="4646880"/>
              <a:ext cx="333180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480" cy="315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Text Box 24"/>
          <p:cNvSpPr/>
          <p:nvPr/>
        </p:nvSpPr>
        <p:spPr>
          <a:xfrm>
            <a:off x="755640" y="195120"/>
            <a:ext cx="42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6"/>
          <p:cNvSpPr/>
          <p:nvPr/>
        </p:nvSpPr>
        <p:spPr>
          <a:xfrm>
            <a:off x="3345840" y="33984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"/>
          <p:cNvSpPr/>
          <p:nvPr/>
        </p:nvSpPr>
        <p:spPr>
          <a:xfrm rot="1033200">
            <a:off x="7276680" y="1409760"/>
            <a:ext cx="250920" cy="4302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"/>
          <p:cNvSpPr/>
          <p:nvPr/>
        </p:nvSpPr>
        <p:spPr>
          <a:xfrm rot="447600">
            <a:off x="5270400" y="1118880"/>
            <a:ext cx="346320" cy="590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 rot="19805400">
            <a:off x="1676160" y="1398600"/>
            <a:ext cx="269640" cy="46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0"/>
          <p:cNvSpPr/>
          <p:nvPr/>
        </p:nvSpPr>
        <p:spPr>
          <a:xfrm>
            <a:off x="3533400" y="38880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1"/>
          <p:cNvSpPr/>
          <p:nvPr/>
        </p:nvSpPr>
        <p:spPr>
          <a:xfrm flipH="1">
            <a:off x="2999880" y="137484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2"/>
          <p:cNvSpPr/>
          <p:nvPr/>
        </p:nvSpPr>
        <p:spPr>
          <a:xfrm flipH="1">
            <a:off x="2999880" y="304632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3"/>
          <p:cNvSpPr/>
          <p:nvPr/>
        </p:nvSpPr>
        <p:spPr>
          <a:xfrm>
            <a:off x="3071880" y="1379520"/>
            <a:ext cx="0" cy="165564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2491920" y="1036800"/>
            <a:ext cx="14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5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35" name="组合 33" descr=""/>
            <p:cNvPicPr/>
            <p:nvPr/>
          </p:nvPicPr>
          <p:blipFill>
            <a:blip r:embed="rId28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560" cy="3971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4520" cy="663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360" cy="109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4240" cy="3222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7"/>
          <p:cNvSpPr/>
          <p:nvPr/>
        </p:nvSpPr>
        <p:spPr>
          <a:xfrm>
            <a:off x="2791800" y="1646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8"/>
          <p:cNvGrpSpPr/>
          <p:nvPr/>
        </p:nvGrpSpPr>
        <p:grpSpPr>
          <a:xfrm>
            <a:off x="396000" y="4444920"/>
            <a:ext cx="1032120" cy="337320"/>
            <a:chOff x="396000" y="4444920"/>
            <a:chExt cx="1032120" cy="337320"/>
          </a:xfrm>
        </p:grpSpPr>
        <p:sp>
          <p:nvSpPr>
            <p:cNvPr id="248" name="Text Box 59"/>
            <p:cNvSpPr/>
            <p:nvPr/>
          </p:nvSpPr>
          <p:spPr>
            <a:xfrm>
              <a:off x="396000" y="44449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0">
              <a:hlinkClick r:id="rId33" action="ppaction://hlinksldjump"/>
            </p:cNvPr>
            <p:cNvSpPr/>
            <p:nvPr/>
          </p:nvSpPr>
          <p:spPr>
            <a:xfrm rot="5400000">
              <a:off x="1196280" y="45291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61"/>
          <p:cNvSpPr/>
          <p:nvPr/>
        </p:nvSpPr>
        <p:spPr>
          <a:xfrm>
            <a:off x="3930120" y="5467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象有标示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685080" y="5243400"/>
            <a:ext cx="27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4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4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5084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8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a6acad"/>
              </a:gs>
              <a:gs pos="100000">
                <a:srgbClr val="eef7f8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3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0160" cy="5502240"/>
          </a:xfrm>
          <a:prstGeom prst="rect">
            <a:avLst/>
          </a:prstGeom>
          <a:ln w="0">
            <a:noFill/>
          </a:ln>
          <a:effectLst>
            <a:outerShdw dist="117181" dir="13238369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65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266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480" cy="841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3160" cy="333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3160" cy="3335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3" name="Text Box 23"/>
          <p:cNvSpPr/>
          <p:nvPr/>
        </p:nvSpPr>
        <p:spPr>
          <a:xfrm>
            <a:off x="755640" y="312840"/>
            <a:ext cx="4269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7"/>
          <p:cNvSpPr/>
          <p:nvPr/>
        </p:nvSpPr>
        <p:spPr>
          <a:xfrm>
            <a:off x="1896120" y="34574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8"/>
          <p:cNvSpPr/>
          <p:nvPr/>
        </p:nvSpPr>
        <p:spPr>
          <a:xfrm rot="21317400">
            <a:off x="1581840" y="844200"/>
            <a:ext cx="41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8"/>
          <p:cNvGrpSpPr/>
          <p:nvPr/>
        </p:nvGrpSpPr>
        <p:grpSpPr>
          <a:xfrm>
            <a:off x="396000" y="4540320"/>
            <a:ext cx="1032120" cy="337320"/>
            <a:chOff x="396000" y="4540320"/>
            <a:chExt cx="1032120" cy="337320"/>
          </a:xfrm>
        </p:grpSpPr>
        <p:sp>
          <p:nvSpPr>
            <p:cNvPr id="289" name="Text Box 39"/>
            <p:cNvSpPr/>
            <p:nvPr/>
          </p:nvSpPr>
          <p:spPr>
            <a:xfrm>
              <a:off x="396000" y="4540320"/>
              <a:ext cx="777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17181" dir="243836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0"/>
            <p:cNvSpPr/>
            <p:nvPr/>
          </p:nvSpPr>
          <p:spPr>
            <a:xfrm rot="5400000">
              <a:off x="1196280" y="4624560"/>
              <a:ext cx="2095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6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50Z</dcterms:created>
  <dc:creator>Administrator</dc:creator>
  <dc:description/>
  <dc:language>en-US</dc:language>
  <cp:lastModifiedBy>tocky</cp:lastModifiedBy>
  <dcterms:modified xsi:type="dcterms:W3CDTF">2013-02-03T18:00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