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F8D-C074-4D3F-B485-95A6683D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B7A-DCB6-47DE-9984-4CD1698E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E3E-5CF1-41AD-8B51-01768458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6C8-3987-4663-BF63-AD98767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595-88F7-442E-82DB-5689B361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EC8-277E-432F-BE60-79E9F4F1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B79-CF82-4E88-BA3B-5261E572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ECB-D8CC-4560-92E4-7509CE90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04E-1602-4666-B9A2-B6F3AB34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093-2DC2-4042-B168-6ADBC05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182-E12A-400A-AFD6-E289EFBB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E7A-1590-4A90-9557-3A36416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5A25-2544-4173-8728-D0A66331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论（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ún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）语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十二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说：“学了（知识）又按时复习，不也是很高兴的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志同道合的人从远方来，不也是很快乐的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们不了解我，我却不怨恨生气，不也是一个品德高尚的人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1952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81952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的乐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819520" y="3886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人修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二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：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吾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省吾身：为人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不忠乎？与朋友交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不信乎？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习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曾子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身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忠乎？与朋友交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不习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819520" y="1295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114800" y="12333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每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715000" y="1219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多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81680" y="1219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反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5238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出主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6553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777240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诚实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52600" y="4343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传授的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曾子说：“我每天多次反省自己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替人家办事是否尽心尽力？和朋友交往是否诚实？传授的知识是否复习了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048040" y="4876920"/>
            <a:ext cx="379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强调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治学的人重视品德修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三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：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吾十有五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志于学，三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立，四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不惑，五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知天命，六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耳顺，七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从心所欲，不逾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吾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五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志于学，三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四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五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六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耳顺，七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从心所欲，不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9548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“又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34340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162920" y="1752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28600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76720" y="31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迷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9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独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80060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5867280" y="3200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然规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858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30481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94360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超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7010280" y="4648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规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析文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十五岁开始立志学习，三十岁能自立于世，四十岁遇事能通达事理，不为外物所迷惑，五十岁我知道哪些是不能为人力所支配的事情，六十岁对各种言论能明辨是非，到七十岁能随心所欲，又不会超出规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一课时（前六章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04920" y="144792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利用工具书注音、解义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了解作品及作者相关知识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理解课文所蕴含的深刻哲理，并把所学知识、道理付诸于实践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达标分数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971800" y="54864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孔子自述他学习和提高修养的过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来看，学习和修养的过程可分为几个阶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十五岁到四十岁：学习领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十、六十岁：安心立命，不受外界左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七十：主观意识和做人规则融合为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道德修养的最高境界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思想与言行融合，自觉遵守道德规范，而不是勉强去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我们从这一章中可以得到什么启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道德修养并非一朝一夕可以完成，要经过长时间的学习，循序渐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911160"/>
            <a:ext cx="71629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第四章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：按学案上的要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后完成，然后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相核对答案，在规定时间内完成的小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随机抽问，回答正确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画出朗读节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温故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知新，可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师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知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师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复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124080" y="19191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旧的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791320" y="19191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8600" y="3214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的领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95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88620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凭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876920" y="3200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成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翻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孔子说：在温习旧知识后，能有新体会、新发现，可以成为老师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497960" y="480060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章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方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五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055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思则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学则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590920" y="1371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91120" y="1386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迷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5410080" y="13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086600" y="13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2438280"/>
            <a:ext cx="86104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朗读节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而不思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罔，思而不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则殆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说：“只学习不思考，便会迷惑而无所得。只空想而不学习，就会疑惑不解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方法，阐述学习与思考的辩证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99036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六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节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 贤哉，回也！一箪食，一瓢饮，在陋巷，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堪其忧，回也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改其乐。贤哉，回也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380880" y="852480"/>
            <a:ext cx="8763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孔子（公元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51-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公元前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79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，名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时期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国人，春秋末期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家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家、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家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，    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相传他有弟子三千，贤者七十二人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孔子被后世统治者尊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“     ”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战国时期儒家代表人物孟子与孔子并称“孔孟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932920" y="1457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907160" y="1405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仲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988320" y="1371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春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747000" y="20239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150240" y="20289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44760" y="2647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教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2644920" y="2671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政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087880" y="264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儒家思想的创始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36040" y="385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圣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析文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哉，回也！一箪食，一瓢饮，在陋巷，人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忧，回也不改其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贤哉，回也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057400" y="1676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品质高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86200" y="3276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忍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3520" y="46483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于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说：“颜回的品质是多么高尚啊！一箪饭，一瓢水，住在简陋的小屋里，别人都忍受不了这种清苦，颜回却仍然自得其乐。颜回的品质是多么高尚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赞扬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颜回乐于学习、安于贫困的品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6"/>
          <p:cNvSpPr/>
          <p:nvPr/>
        </p:nvSpPr>
        <p:spPr>
          <a:xfrm>
            <a:off x="457200" y="304920"/>
            <a:ext cx="822960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完成相关练习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默写前六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这节课你们小组达标了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二课时（后六章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04920" y="144792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利用工具书注音、解义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、理解课文所蕴含的深刻哲理，并把所学知识、道理付诸于实践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达标分数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971800" y="4800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七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节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知之者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如好之者，好之者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如乐之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知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如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者，好之者不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者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514600" y="1447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词，学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952880" y="1523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629400" y="1523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喜欢、爱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971800" y="2986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乐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孔子说：“对于学习，了解怎么学习的人，不如爱好学习的人；爱好学习的人，又不如以学习为乐的人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阐述了学习态度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学习为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讲学习的三个层次：知、好、乐，层层推进，使说理更加透彻，令人信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八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22096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）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经典著作之一，由孔子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编撰而成。它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主，记录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孟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称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“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5159520" y="2157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儒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5290200" y="27576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弟子及再传弟子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039560" y="338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录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1201680" y="4095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孔子及其弟子言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2206800" y="54291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节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子曰：“饭疏食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水，曲肱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而枕之，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亦在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其中矣。不义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富且贵，于我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浮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饮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曲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枕之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亦在其中矣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富且贵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如浮云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82880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吃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词作动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038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粗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181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冷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019920" y="1523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弯着胳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772400" y="1523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05120" y="3124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648320" y="30481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正当手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7543800" y="304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孔子说：“吃粗粮，喝冷水，弯着胳膊当枕头，乐趣也就在这中间了。用不正当的手段得来的富贵，对于我来讲就像是天上的浮云一样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本章讲人的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道德修养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723924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九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节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人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有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师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善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从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不善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改之。”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必有我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择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者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其不善者而改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0" y="1523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几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4120" y="1371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124080" y="30812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114800" y="30621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跟从、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286080" y="15145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752832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961560" y="3024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优点、长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320" y="3805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个人一起走路，其中必定有可以作我的老师的人。我选择他们的优点来学习，（看到自己也有）他们那些短处就要改正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习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向一切人学习。不但要学习别人的长处，还要借鉴别人的短处，反省自己有没有类似的毛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十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夫，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昼夜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676520" y="1371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3581280" y="1371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流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905360" y="137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400800" y="137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舍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28600" y="29718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节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在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川上曰：“逝者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斯夫，不舍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昼夜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在河边感叹道：“一去不复返的时光就像这河水一样，日夜不停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时光易逝，应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流水日夜不停、一去不返比喻时间的飞逝，指明时间的宝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2074680" y="1523880"/>
            <a:ext cx="5301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论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体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录体：仅指明是孔子的话，不写出说话的环境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大多是关于学习、道德修养、为人处事的一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原则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话体：记录孔子对弟子（或其他人）的问题的回答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叙事体：多少有一点情节，但也往往是以记录孔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话为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42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十一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夺帅也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匹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夺志也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209680" y="1219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军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876920" y="1219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普通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89080" y="2514600"/>
            <a:ext cx="8702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节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三军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夺帅也，匹夫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可夺志也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孔子说：“军队的主帅可以改变，普通人的志气却不可改变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章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个人应当坚定信念、矢志不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十二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示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夏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志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近思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其中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514600" y="99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广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581280" y="990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并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724280" y="990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坚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943600" y="990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恳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219320" y="23623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仁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7010280" y="990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表并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76320" y="3429000"/>
            <a:ext cx="9067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朗读节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夏曰：“博学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笃志，切问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近思，仁在其中矣。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夏说：“广泛地学习，坚守自己的志向，遇不明事能恳切地向别人发问，多考虑当前的问题，仁德就在其中了。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章讲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坚定信念、广泛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457200" y="304920"/>
            <a:ext cx="82296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完成相关练习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默写后六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这节课你们小组达标了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第三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04920" y="1447920"/>
            <a:ext cx="83818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目标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、掌握文言文重要的词语（通假字、古今异义、词类活用、一词多义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、在理解课文的基础上，默写课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、掌握关于学习方法与学习态度的名言警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达标分数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971800" y="4800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通假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后完成，然后“双星报喜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-C,B-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互相核对答案，随机抽问。在规定时间内完成的小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回答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同悦，喜悦、愉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而志于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：同又，放在整数与零数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12204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古今异义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完成，然后“双星报喜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-B,C-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互相核对答案，随机抽问。在规定时间内完成的小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回答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道德上有修养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泛指品德高尚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可以、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可能、许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粗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疏通、疏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疏食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冷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色无味无臭的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普通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学识、无智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数词，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给下列加横线的字注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乎    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吾身    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矩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笃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而不思则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曲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枕    一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而不学则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殆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者    人不知而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7631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词类活用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完成，然后“双星报喜”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-A, C-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互相核对答案，随机抽问。在规定时间内完成的小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回答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习之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：名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状语，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吾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省吾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：名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状语，每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、新：形容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词，旧的知识、新的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：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词，传授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疏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饭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，吃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之者不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动。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1825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完成，然后“双星报喜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- D,B-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互相核对答案，随机抽问。在规定时间内完成的小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回答正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62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、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886200" y="3487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581280" y="52624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576600" y="58053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懂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6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博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笃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181480" y="1905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181480" y="2514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181480" y="3124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特殊句式</a:t>
            </a:r>
            <a:br>
              <a:rPr sz="36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后完成，然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-B-C-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轮流讲，在规定时间内完成的小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。随机抽问，回答正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省略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为师矣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面省略代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不善者而改之。句首省略动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判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贤哉，回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可夺帅也，匹夫不可夺志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7"/>
          <p:cNvSpPr/>
          <p:nvPr/>
        </p:nvSpPr>
        <p:spPr>
          <a:xfrm>
            <a:off x="76320" y="0"/>
            <a:ext cx="86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当堂训练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试按学习方法、学习态度、品德修养将课文中的句子进行分类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提示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分钟后完成，然后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A-B-C-D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轮流讲，在规定时间内完成的小组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分。随机抽问，回答正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152280" y="307800"/>
            <a:ext cx="89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学习方法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学而时习之。 学而不思则罔，思而不学则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温故而知新。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博学而笃志，切问而近思，仁在其中矣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习态度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之者不如好之者，好之者不如乐之者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人行，必有我师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品德修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人不知而不愠，不亦君子乎？ 吾日三省乎吾身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饭疏食饮水、曲肱而枕之，乐亦在其中矣。不义而富且贵，于我如浮云。   三人行，必有我师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军可夺帅也，匹夫不可夺志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3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8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1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6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2" dur="500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152280"/>
            <a:ext cx="891540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准确翻译句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提示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后完成，然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-B-C-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轮流讲，在规定时间内完成的小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。随机抽问，回答正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+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。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人不知而不愠，不亦君子乎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为人谋而不忠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朋友交而不信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不习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六十而耳顺，七十而从心所欲，不逾矩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人不堪其忧，回也不改其乐。贤哉回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457200" y="304920"/>
            <a:ext cx="82296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完成相关练习：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习指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这节课你们小组达标了吗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第一章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：按学案上的要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后完成，然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互相核对答案，在规定时间内完成的小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随机抽问，回答正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时习之，不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说乎？有朋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远方来，不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乎？人不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不愠，不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君子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有朋自远方来，不亦乐乎？人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不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不亦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209680" y="1295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648320" y="1295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按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6324480" y="1295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复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752480" y="2743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悦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yuè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高兴，愉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200400" y="1295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4382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543480" y="4343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怨恨生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09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也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137628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了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514840" y="431496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品德高尚的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T天空</cp:lastModifiedBy>
  <dcterms:modified xsi:type="dcterms:W3CDTF">2014-10-22T08:47:0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