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B3E-887C-4B5B-9F5F-3840D403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335-BEC4-4132-9F13-495DB0D5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466-545C-45C1-9BBA-6397DF11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D7B-53F4-4D99-964A-88DBE87C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5773-91D3-47E0-99BD-7E050D12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B41-4F80-4841-A200-E409DAE3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0CF0-14D9-471C-9690-5F377672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6D58-F2E0-454C-AAF5-A908101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0C9-B026-425F-A974-D0A4401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AE0E-6C40-4FB6-97A9-B96E8A9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28E0-730E-4601-86A3-BEC9999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F76-83BE-45E4-B5EE-94527CF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A12-649E-46F4-8A1A-42E58FE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65E-C059-4890-BCEC-EAB4343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8535-E17B-4E66-AF0E-B133EA18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335-F2B7-48A7-A333-9F32D79A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DF5F-9ABB-4E54-B07D-F0CECDB4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B33C-A507-4CD3-BDA2-DB8DE04D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455F-5836-4C0E-A556-70A02D8E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FDE4-E97C-4D52-89FB-38954BF8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48A7-D8A1-41CD-9281-17BC9441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CF6A-914B-4A3B-93F9-639980A9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F1F-56D6-4C04-9638-B7B65710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AB71-E3B6-4FEF-9F57-034316AF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BF63-8246-40B7-8045-AC37772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6868-4FC2-4A83-B208-06B669D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2019-AC63-43ED-9399-7E2421B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182A-6677-42D1-BC01-87AA37B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1CE2-21BD-4B8E-B14F-5E2D8499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A2A6-323E-4B02-9C8F-ECC16666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8A43-9EE0-44FA-8A24-B8A25F0B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0D21-72C9-4C8E-9A48-71343BAA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62BE-2852-4D3C-8F7A-177E790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332-E331-4541-A608-86DCE47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2B63-4F2C-431C-B43D-E3C4D2C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49431-4A92-4A84-86BA-5DBC33FF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D22E-B9C3-4B06-BB5A-1A0EEA7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3DF9-7BF1-4026-BEB3-B477511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01D6-03D1-4722-90E6-7E7FEFF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E3D5-1673-4388-B63C-E01DEF6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53E0-04E3-4C42-A4AE-AD3512A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7CF3-3ABB-4DB9-9765-D29B76C8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2BC5-416B-4EAA-9559-A7F4C95A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1211-14E5-4A3F-ADBC-4DEA4DA6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1BE-6BAB-4366-A812-F9BDF77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A5F0-931D-44E6-8CDE-7C0D5C0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69CC-9146-48A9-B815-02D31B7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04F5B-56BA-441A-A989-A1AD46A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5F7D-0177-49CE-A6C0-E6863B1E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FBEA-D4A4-4F43-B159-87C28E6D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A9B8-D9EC-4454-9098-D173B57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B790-D7FE-4250-8464-B7CF211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A4B6-659C-4581-92DD-859E444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076C9-711D-4269-ADC0-E5941D1F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B39F-138D-4D8B-90BB-D5C2E0F2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A27-276B-4F8D-8A9B-ECC9887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79DC-C641-46A8-A2EF-5838B77C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6DA-0F62-4E1E-836D-81F96479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DF9-2EC2-4E1B-A84E-1EC1923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A21-40D4-4BE0-B78C-597D6BB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7FEF-AE12-4E14-A077-B2D50A171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94A6-A905-439C-B7AE-8B5B465855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1C95-21B7-4861-AD29-9E0BE5DCA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C6E-4015-4B8A-825F-E44025264B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B59-46F2-4F7D-8D5C-5DEA0F2A297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620720" y="1550880"/>
            <a:ext cx="63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30646"/>
                </a:solidFill>
                <a:latin typeface="Arial"/>
                <a:ea typeface="华文行楷"/>
              </a:rPr>
              <a:t>《论语》十二章 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-146160" y="14436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温故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233880" y="144360"/>
            <a:ext cx="33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领悟，体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-309600" y="7239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可以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-309600" y="1303200"/>
            <a:ext cx="42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而不思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309600" y="1882800"/>
            <a:ext cx="39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人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-307800" y="2637000"/>
            <a:ext cx="88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不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，好之者不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-135000" y="3841920"/>
            <a:ext cx="67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三军可夺帅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匹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夺志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-307800" y="4938840"/>
            <a:ext cx="51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博学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志，切问而近思，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其中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292560" y="72396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当，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906720" y="13032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迷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348000" y="18828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忍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0" y="3216240"/>
            <a:ext cx="32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道，懂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2927520" y="321624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喜欢，爱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637240" y="32623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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为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6632640" y="37958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普通的人，男子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4933800" y="493884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忠实，坚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7864920" y="723960"/>
            <a:ext cx="667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4792680" y="567540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60480" y="0"/>
            <a:ext cx="9083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翻译下列文言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学而时习之，不亦说乎？ 有朋自远方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亦乐乎？人不知而不愠，不亦君子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曾子曰：吾日三省吾身：为人谋而不忠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朋友交而不信乎？传不习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280" y="13716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孔子说：“学习了（知识），然后按一定的时间间温习它，不也是很高兴吗？有志同道合的人从远处（到这里）来，不也是很快乐吗？别人不了解我，我却不怨恨，不也是君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280" y="4630680"/>
            <a:ext cx="816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曾子说：“我每天多次地反省自己：替别人办事是不是尽心竭力呢？跟朋友交往是不是诚实呢？老师传授的知识是不是复习过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890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6440" y="32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36440" y="195120"/>
            <a:ext cx="870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十有五而志于学，三十而立，四十而不 惑，五十而知天命，六十而耳顺，七十而从心所欲，不逾矩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故而知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为师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而不思则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而不学则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52280" y="1628640"/>
            <a:ext cx="895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十五岁就有志于做学问，三十岁就能独立做事情，四十岁能通达事理，不为外物所迷惑，五十岁的时候我知道哪些是不能为人力所支配的事情，六十岁能听得进不同意见，到七十岁能随心所欲，而不会越过规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36440" y="400680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孔子说：“温习旧的知识，能有新体会、新发现，就可以凭借这一点当老师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89080" y="547524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只读书却不思考，就会感到迷惑。只空想却不读书，就会有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36440" y="152280"/>
            <a:ext cx="877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贤哉，回也！一箪食，一瓢饮，在陋巷，人不堪其忧，回也不改其乐。贤哉，回也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者不如好之者，好之者不如乐之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饭疏食饮水，曲肱而枕之，乐亦在其中矣。不义而富且贵，于我如浮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280" y="106668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多么有贤德啊，颜回。一竹篮饭，一瓢水，住在简陋的小巷子里，别人都忍受不了那穷困的忧愁，颜回却依然自得其乐。多么有贤德啊，颜回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52280" y="3351240"/>
            <a:ext cx="885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孔子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于学习，知道怎么学习的人，不如爱好学习的人；爱好学习的人，又不如以学习为乐趣的人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8600" y="5334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吃粗粮，喝冷水，弯着胳膊当枕头，乐趣也就在其中了。用不正当的手段得来的富贵，对于我来讲就像是天上的浮云一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52280" y="12060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人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有我师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择其善者而从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不善者而改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在川上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逝者如斯夫，不舍昼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军可夺帅也，匹夫不可夺志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夏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博学而笃志，切问而近思，仁在其中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914400"/>
            <a:ext cx="906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孔子说：“几个人一同走路，其中必定有我的老师。我要选择他们的长处来学习，（看到自己也有）他们那些短处就要改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675960" y="286380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在河边说：“时光就像这流去的河水一样， 日夜不停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52280" y="4027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孔子说：“军队可以被夺去主帅，男子汉却不可被夺去志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280" y="5789520"/>
            <a:ext cx="89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子夏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广泛地学习，而且能坚守自己的志向，恳切地提问，多考虑当前的事，仁德就在其中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64960" y="34920"/>
            <a:ext cx="23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三、理解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-106200" y="492120"/>
            <a:ext cx="40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文中说学习方法的句子有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881520" y="49212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学而时习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580000" y="492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传不习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164360" y="4921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温故而知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43080" y="949320"/>
            <a:ext cx="45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学而不思则罔，思而不学则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36520" y="1406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择其善者而从之，其不善者而改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3652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文中说学习态度的句子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438120" y="2481120"/>
            <a:ext cx="34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三人行，必有我师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15880" y="3029040"/>
            <a:ext cx="42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439560" y="2984400"/>
            <a:ext cx="57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知之者不如好之者，好之者不如乐之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44440" y="3687840"/>
            <a:ext cx="49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、文中说道德修养的句子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236520" y="424980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有朋自远方来，不亦悦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321080" y="424980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人不知而不愠，不亦君子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152280" y="483552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吾日三省吾身：为人谋而不忠乎？与朋友交而不信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30320" y="53769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不义而富且贵，于我如浮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4168800" y="53769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逝者如斯夫，不舍昼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08000" y="600696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三军可夺帅也，匹夫不可夺志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4965840" y="595008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博学而笃志，切问而近思，仁在其中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629080" y="1793880"/>
            <a:ext cx="302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Arial"/>
                <a:ea typeface="华文行楷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755640" y="2300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30646"/>
                </a:solidFill>
                <a:latin typeface="Arial"/>
              </a:rPr>
              <a:t>一、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102708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孔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30160" y="162252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孔子 </a:t>
            </a: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名丘，字仲尼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秋时期鲁国人。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我国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古代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伟大的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思想家、 教育家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儒家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学派的创始人。 他首开私人讲学之风，主张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教无类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因材施教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 起到了普及文化知识的作用。他向往西周的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太平盛世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倡导施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仁政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。自汉朝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独尊儒术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以后，历代封建统治者都尊孔子为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圣人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孔子的学说也就成了封建文化的正统， 影响中国两千多年。 他被誉为 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万世师表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千古圣人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、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至圣”、“圣人”，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是世界十大思想家之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971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《论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71640" y="16765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属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语录体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（也叫格言体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散文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，成书于春秋战国之际，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是记录孔子弟子及其弟子言行的书，共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篇 。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其内容涉及政治、哲学、经济、教育、文艺等诸多方面，其理论从修身齐家，到治国平天下，政治、经济、军事、伦理、教育，几乎无所不包。内容非常丰富，是研究孔子思想的主要依据， 也是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儒学最主要的经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36440" y="250920"/>
            <a:ext cx="862668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文学常识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（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7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期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思想的创始人。相传他有弟子三千，贤者七十二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被后世统治者尊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战国时期儒家代表人物孟子与孔子并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儒家经典著作之一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主，记录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请写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686280" y="6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67680" y="100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仲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980800" y="1027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466960" y="103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7155720" y="10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822240" y="15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8917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085560" y="146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14296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政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37280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61880" y="27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006520" y="32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565040" y="38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755800" y="4235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的弟子及再传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143676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语录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03696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6232680" y="482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376680" y="4738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及其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035960" y="5653080"/>
            <a:ext cx="36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孟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中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117880" y="617220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375200" y="208080"/>
            <a:ext cx="2765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解释下列重点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而（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不亦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也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远方来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君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吾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吾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与朋友交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084120" y="623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先生，指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33520" y="1614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按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按一定的时间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989080" y="23004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委婉的反问语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悦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愉快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709800" y="3214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志同道合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52960" y="4052880"/>
            <a:ext cx="47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解，了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气，发怒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道德上有修养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425240" y="49528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称代词，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天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泛指多次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我检查，反省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多次进行自我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176000" y="534816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谋划，商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07760" y="5791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587760" y="61801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老师传授的知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36440" y="65160"/>
            <a:ext cx="824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吾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而志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十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四十而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五十而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六十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耳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逾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而不思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，好之者不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04960" y="45720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通“又”，加在两位数的整数和零数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317040" y="874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独立做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529800" y="133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迷惑，疑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205880" y="1766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能为人力所支配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761640" y="2224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能听得进不同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507480" y="266688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越过，超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规矩，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524400" y="306216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的知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领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507840" y="3451320"/>
            <a:ext cx="21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凭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370880" y="436572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感到迷茫而无所适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355920" y="4800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古代盛饭用的圆形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466440" y="519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忍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664080" y="5943600"/>
            <a:ext cx="276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，它。指学问和事业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喜欢，爱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828000" y="76320"/>
            <a:ext cx="2968200" cy="73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疏食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，（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曲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枕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如浮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有我师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择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善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，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匹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夺志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博学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其中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7a7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4520" y="44280"/>
            <a:ext cx="21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吃饭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冷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787200" y="4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胳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930840" y="882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，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031360" y="13176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泛指多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此，在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497840" y="179532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好的方面，优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跟从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3854880" y="217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河，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475960" y="26812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流逝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，指河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129920" y="30700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军队的通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447440" y="3519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普通的人，男子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3698280" y="3976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忠实，坚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330000" y="43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仁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74560" y="68724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重点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74560" y="114948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940120" y="1149480"/>
            <a:ext cx="53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亦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乎  通“悦”愉快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574560" y="172260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74560" y="2179800"/>
            <a:ext cx="4743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十而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舍昼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逝者如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匹夫不可夺其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择善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行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440" y="9810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解释加点词语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-539640" y="162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习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844720" y="1628640"/>
            <a:ext cx="24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按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-309600" y="2205000"/>
            <a:ext cx="30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309600" y="2781360"/>
            <a:ext cx="37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人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-309600" y="335772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君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-309600" y="4005360"/>
            <a:ext cx="39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三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-166680" y="4581360"/>
            <a:ext cx="43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谋而不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-309600" y="5229360"/>
            <a:ext cx="45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与朋友交而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556000" y="220500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通“悦”，愉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419640" y="28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了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5076720" y="2852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生气，发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2916360" y="342900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这里指道德上有修养的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348000" y="400536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932360" y="40053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泛指多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7308720" y="400536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自我检查，反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3995640" y="465300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211640" y="537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真诚，诚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7864920" y="723960"/>
            <a:ext cx="667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0:53:42Z</dcterms:created>
  <dc:creator>Administrator</dc:creator>
  <dc:description/>
  <cp:keywords/>
  <dc:language>en-US</dc:language>
  <cp:lastModifiedBy>admin</cp:lastModifiedBy>
  <dcterms:modified xsi:type="dcterms:W3CDTF">2014-12-29T06:53:1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