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B76-071C-47AC-988C-1232194C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558-A8A9-4B5D-95F6-39FA966F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D0337-D34B-48BD-A0C6-64E8A2C0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A9C8F-02A5-4FA4-BB9C-30643DA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4F2DC-589D-4292-85D1-9B664BF2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61C27-B690-40E3-8805-DFA6E996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AA57B-E4D2-484D-9197-E3B0ED40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37253-B6BC-4D22-BFBC-8BD81AAC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FF43C-1CC9-488C-AA09-1E125B0E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41138-7ADB-455A-A6DB-BFD71AF4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E51DE-E413-45BE-98DA-6DE6CE3D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BAA5B-0BEF-4A59-8C83-76F4BC7B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60B-92A4-4F61-8CCE-95772A2C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98838-6F1C-4D91-894E-5EB334B2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7BB95-6EC2-41FE-AEC5-6C373429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88759-7E55-44E8-8B27-3C2E9551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1117F-C1CB-4D32-8AED-0BA43B78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3D7E8-2138-484C-8BCF-FAA7A0A5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12379-D4DD-4371-8886-13A36A7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FF960-0C75-4C20-B9AE-970B33BB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5A93A-4FB5-4727-B9EC-534771CC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5CFCB-38CE-4066-B1BE-9B28043D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CFB80-DB92-4500-8148-470BBBA5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785-088C-4B38-9BCF-DA1D3920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389DF-74C8-4CB4-A3E6-BB2CA21C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3C36C-B4F7-4FFB-A994-B73D30D4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7BA18-E8B7-46AD-ADB8-48A2CBD4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D7B7B-4092-41C3-9EFC-8962E4ED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74057-C356-47DC-AA23-194E9349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B76BB-0552-4CCF-AFCA-ECA97DA1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0C086-D0C4-4ED2-8AE0-9559A881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7CD09-6735-4EFB-B72F-B22160FE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14811-8963-46EB-ACAD-470C147D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17AFD-DA0A-4F61-9903-633DE33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A19D-254A-4567-A634-83CAAB2A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A602C-DAEB-43A3-9CEF-E81BF885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705CC-A5B3-42B4-8D14-04068B5E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EB1E6-F039-47EA-8388-015EC5A3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15982-E3B8-4FB5-8045-18D0F55A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22739-CB41-4BFC-B020-00BA2F8F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D9B4F-F0B2-4C56-94E0-9D689C4D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3E6C1-CF89-4B60-B9C6-228E0530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E8EA0-7654-4853-9B70-5B7FEDEC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DE764-927A-43B0-BF9B-2BD89CBA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FADFD-BB0B-48D2-BF80-4E036C9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0528-3F49-4799-9E52-E207EAF0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7449B-8738-4702-98E1-885C9581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CF60A-EC54-4061-AD6F-30E8EE09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04B84-16A2-486D-B973-BE47BB2E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220E8-9451-499F-A96A-2C76AFE7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E12F4-7282-412C-AB49-3B426EDA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5C29C-DB93-457A-A80F-95800182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B6BFF-C1CC-4203-8C56-220D0750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E429E-A56F-4AF3-9AE0-5C5191F6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48F64-38F8-4424-8CD9-057B4236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F2990-6FEC-4C0E-A192-0E4B0E42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AF81-A182-472A-9E9C-D22EF6E1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B8C25-40C5-4B7C-A8BF-B7ADAB46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56A0D-E62B-4EE2-BA98-2CC630EB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C692A-4058-4C0D-A1FF-387791F9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74E6E-1B90-4EC6-9A91-E33491F5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C8D52-C1FF-44D2-8575-47475C3C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0A575-1B42-448B-9F69-A89B0A2D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8EDF4-C89A-425F-B763-275FC2E9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765B1-8642-47E3-9A84-860FFDE3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A4907-5483-48C3-B501-61FE2BE0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4ED97-2F61-458B-A731-89D42779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2A20-9A89-4D17-A77C-E3232735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06145-B4CD-44DD-B07D-48F1F06A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4D723-03E6-4A94-8F9E-60C59734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B8CF4-AA62-406A-A098-0DDCBD42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E77CB-57E2-4EA5-9604-B7E86D07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53835-B406-4147-A361-D28B19BA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6897C-2196-4104-88C5-847EC825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D35C7-D197-4B84-BF94-F5740EC2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EE304-87D5-46C1-826F-6377980E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84377-69EE-4C1F-9481-1A42FF05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E260E-C026-4027-A4FB-54DF855F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1D92-7B56-4BE3-AF45-CAEEC960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64C6F-A0C1-4EA9-9657-013DFFC0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57348-FAF4-4895-9DA3-D9828309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91AC7-5B7E-4546-A973-75AA8418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542D5-20A8-4561-AEA0-683E895D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ADB70-18B3-47E1-9F37-9D1679CA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459AC-8A1F-4191-9C09-D0B3B44B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1517C-8391-40C9-AD8D-83AD25AF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3288C-7552-4129-9451-EC2AC62D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67F6A-EF1D-45CC-80E0-F23724F3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06BAA-F1EB-4B10-8AE5-B56F87FA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54E1-1563-47F9-9561-A404F453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D6692-A0B8-4499-AC86-55B229C6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6811D-903A-4845-8384-CF92506A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EB59B1-3A26-40A8-9B04-041481BD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CACC8-3DB9-476A-8609-A3217E58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7499D-44B9-4542-9505-00697E65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AE86E-F3D8-447C-870C-474601B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86F67-EC20-4ECB-8C04-379CDA09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F497C-0234-44F7-BE9D-977F446D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D319C-AAE9-4232-B7BF-560C0412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C3E50-B416-47CF-A308-07B47D32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D50F-E327-453C-B08D-4A0431DB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DEDD8-9379-4966-A60C-720968B9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90222-A539-4033-A7AF-C580C483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D546D-D977-4A9F-A578-A2896188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ECE88-4AB0-4E71-9DDB-7A640C6D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6AE783-25E6-4F1F-9D8B-A826E87D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DF7CE-B19C-4D9E-BEE5-0C0F6436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22749-DCA3-4C38-B4DD-41924FF5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F7DA8-1D8A-405D-8A49-1C05E65B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947C9-3F7F-4D3B-9FD6-D22DCAF6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99B7A0-65C5-4D20-A5F6-4C4812DB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7B1-A543-47A5-9E34-7E838710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ADBD-53AC-4925-9A05-01441A0A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70D01-4793-4935-97D0-E4C4D3DB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73770-B30B-4BD2-A196-03F26BC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83558-BE13-4B2F-B2D8-0A8D76C2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763BA-F822-4CFF-A033-D5B1F1F0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0E5D0-A796-4188-9644-9E9E6589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9980-5309-4BEC-9BFB-4F4C3628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339D-C268-4C5A-8E69-89BA327D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7B0F-0F1D-4F82-AB29-67CDF701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CAAE-C3F1-4B26-8587-CA0A4306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BBCE-0813-4DD0-A03F-29FB95D8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FDBD-65B0-48DA-9FE7-31300B78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3AF3-36D2-4135-B3AF-B9E53778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BFFF-C386-4180-AEC9-DD593584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4A12-D911-4070-AAD1-1C3345C1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DF5-41B4-4D8B-A427-9471C33F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7992-4035-401A-9192-2B8EC189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6840-DA2B-4F14-B524-BEF1C936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6EFB-A57E-4D2F-8B58-E86CA31E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65CB-43E8-4BCC-8942-8EA5B619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32F2-613C-4AA6-B102-1248B9CE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E7C9-B96B-4613-95D3-11FB5D93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3768-7746-4CBF-A9AC-17ECF860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2877-A082-47DF-A3E4-7621C694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12FF-0296-453B-B02B-FBE58EA7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0C42-93A8-48A2-82D4-C43E8374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3EB-DE4F-417F-B25B-A5FBAE5F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E8B3-121A-4DCD-8270-9AEE88DA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B1AA8-F1A3-4FAF-907B-42EB145B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87244-D4A3-4B69-BA8B-A0A5B603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FC1C0-D7FB-4E35-9DB6-E08EE523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9AAD-1E5B-49FE-9DD0-F6F3E59F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90D93-D213-4CCC-8329-CEB1534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8A5D8-23C0-4D36-8553-2AA93951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7B98E-7DC5-4412-B2A7-A2F0832D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0D20-4515-479E-A260-236C9DDC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50DB-8580-4423-8849-D83567FE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A3C-79AD-4A31-AA69-F0F84629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0A9D1-98E6-4E84-B774-0D032B3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5F474-7B2C-4C87-B254-33C15AB6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AC051-8266-4798-AC11-057C927F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0C9BD-A2A0-40C9-9F93-7AF8098B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8E24-84E6-435E-A003-5E933E16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B5D77-C397-4CC2-BAF2-E89AC8D2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D6742-9A5D-409F-9DE5-21EFE73B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4918C-EBDC-4A4C-BD11-7214E109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6094A-718F-4E85-8DC5-F4C21C54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FDED6-2204-4BC8-B736-1D18F1DF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A03-BA29-441A-8690-AAB2F290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9BCF6-86AA-4218-9B7F-E981C216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088F3-530C-41AC-86BE-E557E6D3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A7C4D-434E-428D-BA27-A097DC4C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92732-C755-4F3A-9324-4E63CD4D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D0268-D422-4F1A-BC94-CE161960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9BF61-7E94-450C-8514-FA21255C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04FEC-94B7-4AA1-BC84-A11B7AB1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60713-F2C0-4E37-9ADF-6406BB7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33D54-E76C-42EE-87CF-28859E65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26D3E-DA7F-4A39-B0D1-0E2C0F2E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D67-D08D-4C32-8E18-B82AB647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4B810-BF79-4F73-9279-262DB407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D0773-72C3-4239-AB3B-9FEE9122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491B2-50C9-4E8C-AE00-217D8479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70455-8DB1-4E32-A100-F4851409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62DA7-883C-404B-8D00-9F651FAC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CCF1F-8D99-44BF-8F07-BEDFCF7A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C7E93-1B0F-4D08-838F-CD9170B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C5569-79AD-4609-B7E2-44CC9FAD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19DD5-865E-4C4C-8BC9-2DC0A98A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F041-8328-4DDB-8B6F-562B45B0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2C1-5972-4C07-9A29-452CF6FB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8E67B-99BE-4BA1-ADFD-C62E93BF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B1BC6-43C6-4A3C-9320-BD2AFA0A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CA641-6418-444C-A175-15C07543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2B011-3EF1-4F6E-A66B-1AF41EAA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80989-7A39-417E-9C57-D1B8747D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81233-6F7F-4FD3-B5CD-25D0ABBE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4F0F4-3482-47D7-B738-E370B348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7512B-AC0B-4740-BB4C-73635A7C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08ED7-86F0-4A2E-9767-8B2FA60A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C9A87-4450-4437-A724-EAD01450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F36-4699-469A-90E3-AB43C8ED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CAE3A-F00E-443A-85E5-FC2D2930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AD3B9-22DF-4ADF-A2E6-F71BBF28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1970D-5C92-4169-97B0-01A36AE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076DB-E186-414A-8CA9-2445072B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DF63C-CFFA-4A4C-A5E1-4B298E17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99A45-9C08-493C-984D-40167F9C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43589-DCE6-4CF4-9F0A-6154B8FC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9672F-3292-49AB-A9BA-95933AC6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20388-0985-4CCF-8F2E-71257C29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0C52B-007F-4B21-B218-F0D35151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400" y="626544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311-9102-4A78-99C0-434696F17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3D23-867E-44EC-A9E7-D1C7939A7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5F6A-C0AA-40AF-8ACD-A39ED1732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4"/>
          </p:nvPr>
        </p:nvSpPr>
        <p:spPr>
          <a:xfrm>
            <a:off x="122400" y="626544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2153-C3D8-4433-BD6A-EFC3E6BD9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2050-5A11-4608-8760-B82DCA1EC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F5EB-54E9-4B0F-B5B9-4639F9155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8879-E8F8-4447-B618-579750338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A06C-93D7-4E32-978D-B1BC81442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1D43-7B51-45C1-8C1C-C62ADAA6F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AE8D-8A5B-4F9F-AF43-3B6635A78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2D25-6104-4D0B-96F8-ACA7E72EF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C425-78D0-4A15-BA02-1929480E5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6896-F4CB-4183-9D5C-34F9B6668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DB82-F0CD-477C-A5F9-5069A0FF5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EB7F-6523-43CD-82FD-828E0811AB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22"/>
          </p:nvPr>
        </p:nvSpPr>
        <p:spPr>
          <a:xfrm>
            <a:off x="122400" y="626544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DAB6-870C-44C1-9A81-A6A6FE91F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83C9-66C6-44CD-A4C1-F3BD4D6F6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84360" y="477720"/>
            <a:ext cx="6986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1000"/>
                    </a:srgbClr>
                  </a:outerShdw>
                </a:effectLst>
                <a:latin typeface="华文新魏"/>
              </a:rPr>
              <a:t>《论语》十二章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1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68360" y="4437000"/>
            <a:ext cx="835344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温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过的知识，从中获得新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理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解与体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凭借这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可以当老师了。”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方法。强调温故知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95280" y="620640"/>
            <a:ext cx="835344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温故而知新，可以为师矣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1917720"/>
            <a:ext cx="8353440" cy="1557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重点字词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解释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温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温习，复习。   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故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旧的，原来的。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这里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指学过的知识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.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新：新的理解与体会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连词，表示顺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接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知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领悟，获得。     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可以。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凭借。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成为，做。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矣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语气词，表肯定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0920" y="6308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95280" y="4149720"/>
            <a:ext cx="835344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道学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却不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道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思考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会感到迷茫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无所适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只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道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思考而不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道学习，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思想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害。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方法。阐述学习和思考的辩证关系，强调学习与思考要相结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68360" y="692280"/>
            <a:ext cx="813600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五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学而不思则罔，思而不学则殆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68840" y="1989000"/>
            <a:ext cx="349632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重点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字词解释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：连词，表示转折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则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：连词，相当于“就”、“便”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罔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wǎng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）：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迷惑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，意思是感到迷茫而无所适从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殆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dài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）：本意是危险，这里指有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0920" y="6813720"/>
            <a:ext cx="1584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24000" y="1989000"/>
            <a:ext cx="842472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重点字词解释：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哉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感叹语气，多用于句子末尾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箪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dān)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古代盛饭的圆形竹器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巷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此处指颜回的住处。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堪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忍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回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颜回，字子渊，孔子的弟子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24000" y="3860640"/>
            <a:ext cx="84247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颜回的品质是多么高尚啊！一箪饭，一瓢水，住房在简陋的小屋里，别人都忍受不了这种穷困清苦，颜回却不改变他好学的乐趣，颜回的品质真高尚啊！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赞扬颜回乐于学习、贫贱（困）不移的精神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24000" y="476280"/>
            <a:ext cx="842472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六章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贤哉，回也！一箪食，一瓢饮，在陋巷，人不堪其忧，回也不改其乐。贤哉，回也！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20" y="6308640"/>
            <a:ext cx="1584360" cy="28908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50920" y="4653000"/>
            <a:ext cx="84265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道学习的人不如喜欢学习的人，喜欢学习的人不如以学习为乐趣的人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态度：以学习为快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七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子曰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之者不如好之者，好之者不如乐之者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50920" y="2349360"/>
            <a:ext cx="8569080" cy="180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字词解释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学问和事业。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者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代词，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......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好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ào)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喜欢，爱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乐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lè)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以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......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为乐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6237360"/>
            <a:ext cx="1979640" cy="4316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50920" y="4076640"/>
            <a:ext cx="849924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吃粗粮，喝冷水，弯曲着胳膊当枕头，乐趣也就在这中间了。用不正当的手段得来的富贵，对于我来讲就像是天上的浮云一样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道德修养。不义之财不能取，提倡“安贫乐道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的精神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52360" y="333360"/>
            <a:ext cx="835200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八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饭疏食饮水，曲肱而枕之，乐亦在其中矣。不义而富且贵，于我如浮云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50920" y="1917720"/>
            <a:ext cx="835344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字词解释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）饭：这里是吃饭的意思。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疏食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粗粮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）水：在古代汉语中，“水”指冷水；“汤”指热水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）曲肱：弯着胳膊。肱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gōng)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，胳膊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）于：对，对于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6237360"/>
            <a:ext cx="1979640" cy="4316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466560" y="3860640"/>
            <a:ext cx="806472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几个人在一起行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中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定有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当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老师的人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选择他们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优点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来学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于他们的缺点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如果自己也有）就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加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改正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态度。无论何时何地都要虚心向别人学习，学习别人的优点，克服自己的缺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66560" y="476280"/>
            <a:ext cx="799488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九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三人行，必有我师焉。择其善者而从之，其不善者而改之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66560" y="2060640"/>
            <a:ext cx="8052120" cy="1036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字词解释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）三人：几个人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）焉：于此，意思是“在其中”。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善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者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好的方面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优点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79280" y="6308640"/>
            <a:ext cx="180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39640" y="3645000"/>
            <a:ext cx="792180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在河边感叹道：“时光像流水一样流逝，日夜不停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态度。教育弟子要珍惜时间。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9640" y="692280"/>
            <a:ext cx="770436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十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　　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子在川上曰：“逝者如斯夫，不舍昼夜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161880" y="2060640"/>
            <a:ext cx="263412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词语解释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川：河，河流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逝者：指流逝的时光。逝，流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斯：代词，这，指河水。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舍：舍弃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9280" y="6308640"/>
            <a:ext cx="165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755640" y="3789360"/>
            <a:ext cx="777708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国军队的主帅可以被夺去，普通人的志向却不可改变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道德修养。一个人应该坚定信念，矢志不渝。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55640" y="549360"/>
            <a:ext cx="777708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十一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军可夺帅也，匹夫不可夺志也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57080" y="1989000"/>
            <a:ext cx="777564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字词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解释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） 三军：古制，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12500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人为一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）匹夫：普通的人，男子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50920" y="6237360"/>
            <a:ext cx="1584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466560" y="4221000"/>
            <a:ext cx="813780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夏说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广泛地学习，并且有坚定的志向，恳切地提问，多考虑当前的事，仁德就在其中啊。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方法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66560" y="333360"/>
            <a:ext cx="821088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十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夏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曰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博学而笃志，切问而近思，仁在其中矣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6560" y="1989000"/>
            <a:ext cx="821088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字词解释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子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夏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孔子的学生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笃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  <a:ea typeface="楷体_GB2312"/>
              </a:rPr>
              <a:t>ŭ)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  <a:ea typeface="楷体_GB2312"/>
              </a:rPr>
              <a:t>：忠实，坚守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切问而近思：恳切地提问，多考虑当前的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仁：仁德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0920" y="6308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c0c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5280" y="177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用课文中的语句回答：孔子在学习方法、学习态度和道德修养方面都有哪些主张？试就其中一点谈谈你的体会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82200" y="333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c0c"/>
                </a:solidFill>
                <a:latin typeface="Arial"/>
              </a:rPr>
              <a:t>自学指导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4211640" cy="400536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211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6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6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6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79280" y="6308640"/>
            <a:ext cx="1728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630880" y="1557360"/>
            <a:ext cx="377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学而时习之，不亦说乎？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（第一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温故而知新，可以为师矣。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（第四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学而不思则罔，思而不学则殆。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（第五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、博学而笃志，切问而近思（第十二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64680" y="620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学习方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79280" y="6308640"/>
            <a:ext cx="1728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09240" y="476280"/>
            <a:ext cx="856872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习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态度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人不堪其忧，回也不改其乐。（第六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知之者不如好之者，好之者不如乐之者</a:t>
            </a: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第七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三人行，必有我师焉。择其善者而从之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其不善者而改之。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           （第九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、逝者如斯夫，不舍昼夜。     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第十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381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修身做人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-28440" y="476280"/>
            <a:ext cx="89931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</a:t>
            </a:r>
            <a:r>
              <a:rPr b="1" lang="zh-CN" sz="3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人不知而不愠，不亦君子乎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第一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吾日三省吾身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第二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吾十有五而志于学……不逾矩（第三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人不堪其忧，回也不改其乐（第六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不义而富且贵，于我如浮云（第八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三军可夺帅也，匹夫不可夺志也（第十一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成语归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不亦乐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温故知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三十而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不舍昼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逝者如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匹夫不可夺其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择善而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三人行，必有我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  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c0c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95280" y="177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课文有的内容谈了学习方法和学习态度，有的内容谈了道德修养和为人处世之道，都有着深刻的教育意义。学过本文后我们要反省自己在哪些方面做得好些，哪些方面做得不好，应怎样改进。这样我们才能达到学习的目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孔子15"/>
          <p:cNvPicPr/>
          <p:nvPr/>
        </p:nvPicPr>
        <p:blipFill>
          <a:blip r:embed="rId2"/>
          <a:stretch/>
        </p:blipFill>
        <p:spPr>
          <a:xfrm>
            <a:off x="7068960" y="4508640"/>
            <a:ext cx="1783080" cy="192852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"/>
          <p:cNvSpPr/>
          <p:nvPr/>
        </p:nvSpPr>
        <p:spPr>
          <a:xfrm>
            <a:off x="250920" y="1413000"/>
            <a:ext cx="83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孔子学识渊博，但从不自傲。有一次他周游列国时，在去晋国的路上，遇见一个七岁的孩子拦路，要他回答两个问题才让路。一个问题是：鹅的叫声为什么大。孔子答道：鹅的脖子长，所以叫声大。孩子说：青蛙的脖子很短，为什么叫声也很大呢？孔子无言以对。他惭愧地对学生说：“我不如他，他可以做我的老师啊！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_x000b__x000c_"/>
              </a:rPr>
              <a:t> 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_x000b__x000c_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这个事例证实了课文中的哪一句话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900000" y="3718080"/>
            <a:ext cx="81378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人行，必有我师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314892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课堂练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4"/>
          <p:cNvSpPr/>
          <p:nvPr/>
        </p:nvSpPr>
        <p:spPr>
          <a:xfrm>
            <a:off x="32936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课堂练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50920" y="105264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请根据以下提示，从课文找出相对应的句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395280" y="2421000"/>
            <a:ext cx="806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Text Box 10"/>
          <p:cNvSpPr/>
          <p:nvPr/>
        </p:nvSpPr>
        <p:spPr>
          <a:xfrm>
            <a:off x="179280" y="51577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Text Box 11"/>
          <p:cNvSpPr/>
          <p:nvPr/>
        </p:nvSpPr>
        <p:spPr>
          <a:xfrm>
            <a:off x="971640" y="6093000"/>
            <a:ext cx="30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39640" y="2924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在全国中学生夏令营开营仪式上，主持人说：“ ————，————。对远道而来的朋友，我们感到由衷的高兴，欢迎大家来这里！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617840" y="1917720"/>
            <a:ext cx="496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孔子认为学习要时常复习的句子是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“————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 —————————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9640" y="436572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孔子强调虚心学习别人的长处，克服自己的短处的句子是：“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，——————”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c0c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4"/>
          <p:cNvSpPr/>
          <p:nvPr/>
        </p:nvSpPr>
        <p:spPr>
          <a:xfrm>
            <a:off x="322056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课堂练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250920" y="1268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请根据以下提示，从课文找出相对应的句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324000" y="2060640"/>
            <a:ext cx="806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）子曰：“吾尝终日不食，终夜不寝，以思，无益，不如学也。”这与本文哪一则内容相似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——————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179280" y="357336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语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中强调时间重要性的句子是：    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，——————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7" name="Text Box 10"/>
          <p:cNvSpPr/>
          <p:nvPr/>
        </p:nvSpPr>
        <p:spPr>
          <a:xfrm>
            <a:off x="34920" y="450864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）文中强调要经常进行自我反省的内容是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 “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？—————？——————？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8" name="Text Box 11"/>
          <p:cNvSpPr/>
          <p:nvPr/>
        </p:nvSpPr>
        <p:spPr>
          <a:xfrm>
            <a:off x="1044720" y="6093000"/>
            <a:ext cx="309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395280" y="836640"/>
            <a:ext cx="8423280" cy="5639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怎样对待“学习”与“思考”的关系？孔子 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说：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 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 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孔子对不义之财怎样看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—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 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在全国中学生夏令营开营仪式上，主持人说：“ ————，————。对远道而来的朋友，我们感到由衷的高兴，欢迎大家来这里！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孔子认为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读书与求学的态度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曾子以为治学的人应该重视品德修养的句子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是：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，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，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孔子认为学习要时常复习的句子是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 ————————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6308640"/>
            <a:ext cx="197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280680" y="117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  <a:ea typeface="楷体_GB2312"/>
              </a:rPr>
              <a:t>看谁填的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66560" y="909720"/>
            <a:ext cx="8064720" cy="43599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）《论语》中说向一切人学习，随时随地都要注意学习的句子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 </a:t>
            </a:r>
            <a:br>
              <a:rPr sz="2800"/>
            </a:b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孔子自述自己学习与修养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的句子是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 </a:t>
            </a:r>
            <a:br>
              <a:rPr sz="2800"/>
            </a:b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孔子教育学生要珍惜时间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的句子是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 </a:t>
            </a:r>
            <a:br>
              <a:rPr sz="2800"/>
            </a:b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） 孔子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告诉学生一个人应该坚定信念，矢志不渝是：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子夏的学习方法是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孔子强调虚心学习别人的长处，克服自己的短处的句子是：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28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79280" y="6237360"/>
            <a:ext cx="165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82200" y="442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  <a:ea typeface="楷体_GB2312"/>
              </a:rPr>
              <a:t>看谁填的对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目标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累文言词语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解孔子和《论语》的相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知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背诵并默写课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容并准确翻译每一句话和每一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点字的意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系自身学习经历，体会课文语言。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受孔子光辉的人格魅力，联系自身实际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端正学习态度，改进学习方法，提高自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修养，学习为人处事之道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324000" y="620640"/>
            <a:ext cx="8496000" cy="4972680"/>
          </a:xfrm>
          <a:prstGeom prst="rect">
            <a:avLst/>
          </a:prstGeom>
          <a:noFill/>
          <a:ln w="7632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论语》中阐述学习与思考关系的句子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而不思则罔，思而不学则殆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治学的人必须注重的品德修养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句子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吾日三省吾身：为人谋而不忠乎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朋友交而不信乎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不习乎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在生活中，表示应当向有长处的人学习的句子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人行，必有我师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.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随着年龄的增长思想境界逐步提高的句子是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吾十有五而志于学，三十而立，四十而不惑，五十而知天命，六十而耳顺，七十而从心所欲，不逾矩。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在学习中我们应奉行的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正确态度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知之者不如好之者，好之者不如乐之者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.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亚运在广州举办，全市人民喜迎各国嘉宾，《论语》中有一句话可以表达这种喜悦的句子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朋自远方来，不亦乐乎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.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别人不了解自己却不生气，也是有道德修养的人的句子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不知而不愠，不亦君子乎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.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面对不义之财，孔子的态度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义而富且贵，于我如浮云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6308640"/>
            <a:ext cx="1979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627280" y="-12600"/>
            <a:ext cx="2544840" cy="642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  <a:ea typeface="楷体_GB2312"/>
              </a:rPr>
              <a:t>看谁填的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7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7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7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7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2486160" y="692280"/>
            <a:ext cx="3527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59000"/>
                    </a:srgbClr>
                  </a:outerShdw>
                </a:effectLst>
                <a:latin typeface="华文新魏"/>
              </a:rPr>
              <a:t>再见</a:t>
            </a:r>
            <a:endParaRPr b="1" lang="en-US" sz="96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5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4920" y="-12600"/>
            <a:ext cx="69674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隶书"/>
              </a:rPr>
              <a:t>人物及作品简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0" y="1123920"/>
            <a:ext cx="2556000" cy="49690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556000" y="549360"/>
            <a:ext cx="65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71640" y="692280"/>
            <a:ext cx="6048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孔子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前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551—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前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479) 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，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丘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仲尼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，春秋时期鲁国人，我国历史上伟大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思想家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教育家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儒家学派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的创始人，被誉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万世师表”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千古圣人”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。是世界十大思想家之首，联合国教科文组织把他列为“世界十大名人之一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44720" y="3789360"/>
            <a:ext cx="61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《论语》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儒家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经典著作之一，由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孔子的弟子及再传弟子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而成。它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语录体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话体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为主，记录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孔子及其弟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言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《论语》与《大学》《中庸》《孟子》并称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四书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共二十篇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隶书"/>
              </a:rPr>
              <a:t>人物及作品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孔子曾大力宣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仁”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的学说，认为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仁”即“爱人”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，提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己所不欲，勿施于人”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；主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有教无类，因材施教”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，并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学而不厌，诲人不倦”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的精神。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《论语》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半部《论语》治天下”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之说，       可见其影响力极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题目解说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论语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&gt;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十二章》是从《论语》中节选的有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态度、学习方法、修身做人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的十二条语录，是孔子在不同时间与弟子们的谈话记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论”的意思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编纂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，《论语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记录孔子和他的弟子言行的书，以语录体和对话体为主，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儒家的经典著作之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395280" y="4292640"/>
            <a:ext cx="8424720" cy="1557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新的知识然后按照一定的时间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去复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习，不也是愉快的吗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志同道合的朋友从远方来，不也是高兴的吗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别人不了解我，我却不生气，不也是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道德修养的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吗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</a:rPr>
              <a:t>学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新宋体"/>
              </a:rPr>
              <a:t>习方法、学习乐趣和修身做人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4000" y="260280"/>
            <a:ext cx="849600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章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子曰：“学而时习之，不亦说乎？有朋自远方来，不亦乐乎？人不知而不愠，不亦君子乎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24000" y="1701720"/>
            <a:ext cx="849600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重点字词解释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1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子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先生，指孔子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2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连词，表顺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承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按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时 。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代所学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知识  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3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“悦”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愉快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 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4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朋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指志同道合的人。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亦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副词，也。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5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不知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别人不了解自己。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连词，表转折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却，但是。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6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愠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生气，发怒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7)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君子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指道德上有修养的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6237360"/>
            <a:ext cx="183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79280" y="1989000"/>
            <a:ext cx="878544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重点字词解释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每天 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三省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xǐng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）：多次反省。 三，泛指多次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替       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谋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出主意，策划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忠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：指对人应当尽心竭力。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忠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：真诚、诚实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传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：老师传授的知识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79280" y="4149720"/>
            <a:ext cx="856944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曾参说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每天多次地反省自己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替别人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出主意做事情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不是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忠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或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尽心尽力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呢 ？跟朋友交往是不是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诚实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呢？老师传授的知识是否复习了呢？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"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强调治学的人必须重视道德修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8000" y="436680"/>
            <a:ext cx="889308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曾子曰：“吾日三省吾身：为人谋而不忠乎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朋友交而不信乎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传不习乎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”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79280" y="6237360"/>
            <a:ext cx="172872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79280" y="1917720"/>
            <a:ext cx="878544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重点字词解释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十有五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指十五岁，“有”同“又”，用在整数和零数之间。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立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站立，站得住，这里可理解为独立做事情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惑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迷惑，疑惑。    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天命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指不能为人力所支配的事情。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(5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耳顺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能听进不同意见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从心所欲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随自己心意想怎样就怎样。   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(7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逾矩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逾，超过；矩，规矩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54160" y="4221000"/>
            <a:ext cx="871056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我十五岁立志学习，三十岁时有所成就，四十岁时掌握了知识而不致迷惑，五十岁了解并顺应了自然规律，六十岁听别人说话能明辨别是非真假，七十岁可能随心所欲，又不超过规矩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孔子自述他学习和修养的过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09440" y="117360"/>
            <a:ext cx="8893440" cy="1557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吾十有五而志于学，三十而立，四十而不惑，五十而知天命，六十而耳顺，七十而从心所欲，不逾矩。”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79280" y="6237360"/>
            <a:ext cx="172872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-801720" y="1341360"/>
            <a:ext cx="1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0:21:14Z</dcterms:created>
  <dc:creator>user</dc:creator>
  <dc:description/>
  <dc:language>en-US</dc:language>
  <cp:lastModifiedBy>li</cp:lastModifiedBy>
  <cp:lastPrinted>1899-12-30T00:00:00Z</cp:lastPrinted>
  <dcterms:modified xsi:type="dcterms:W3CDTF">2013-10-10T03:11:41Z</dcterms:modified>
  <cp:revision>114</cp:revision>
  <dc:subject/>
  <dc:title>论语十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