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877-EAD0-4968-902C-E980C8CF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786-D364-4EF5-BE99-F0A1BD02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362-5C1E-4741-9FBE-5EA827CC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91C-362C-43B0-8732-0204843E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459-E059-4D04-A3C2-91C64FF0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C1D-3C7D-4D1B-872E-783826F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904-AF17-4079-85F1-639E0C73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E01-F70B-4831-8882-5B34ABA4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4A9-7571-4DD6-A585-3DD75AEA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0F3-E7C9-454B-AD71-F0C5EBD8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749-DB7E-4418-89F8-B8B91937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E06-D546-4187-8E7A-6A3C0FC0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A83B-2C72-4524-A1CC-AD0308D0C5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RestrictedPermissionViewer?clid=2052" TargetMode="External"/><Relationship Id="rId3" Type="http://schemas.openxmlformats.org/officeDocument/2006/relationships/hyperlink" Target="http://r.office.microsoft.com/r/rlidRestrictedPermissionViewer?clid=2052" TargetMode="External"/><Relationship Id="rId4" Type="http://schemas.openxmlformats.org/officeDocument/2006/relationships/hyperlink" Target="http://r.office.microsoft.com/r/rlidRestrictedPermissionViewer?clid=2052" TargetMode="External"/><Relationship Id="rId5" Type="http://schemas.openxmlformats.org/officeDocument/2006/relationships/hyperlink" Target="http://r.office.microsoft.com/r/rlidRestrictedPermissionViewer?clid=2052" TargetMode="External"/><Relationship Id="rId6" Type="http://schemas.openxmlformats.org/officeDocument/2006/relationships/hyperlink" Target="http://r.office.microsoft.com/r/rlidRestrictedPermissionViewer?clid=2052" TargetMode="External"/><Relationship Id="rId7" Type="http://schemas.openxmlformats.org/officeDocument/2006/relationships/hyperlink" Target="http://r.office.microsoft.com/r/rlidRestrictedPermissionViewer?clid=2052" TargetMode="External"/><Relationship Id="rId8" Type="http://schemas.openxmlformats.org/officeDocument/2006/relationships/hyperlink" Target="http://r.office.microsoft.com/r/rlidDRMMoreInfoLicenseReq?clid=2052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97180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以阅读此演示文稿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8288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下载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3"/>
              </a:rPr>
              <a:t>“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4"/>
              </a:rPr>
              <a:t>用于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5"/>
              </a:rPr>
              <a:t>Internet Explorer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6"/>
              </a:rPr>
              <a:t>的权限管理加载项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7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5146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8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5:58Z</dcterms:modified>
  <cp:revision>84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24889819</vt:r8>
  </property>
</Properties>
</file>