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A01-CC98-4058-A4D6-6147FD39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9FD-409D-4834-8EB9-9A394139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4E1-27D6-4CEC-A47B-71756EE0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C69-53FD-40CE-82FC-F92ACC50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0AD-8928-49EB-B36B-EFDEAA9C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C71-67C3-4A4C-9F4C-C19C9266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F33-AA07-4872-83FA-E9A2394B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89C-1415-40AB-B4FA-CE98EFA9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904-D082-47CB-BEF7-FBE6029C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0E5-CB29-495F-AFCA-F6A27D17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8A9-5345-4BEC-8D61-D5BF839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391-BDC1-47C1-96CA-011B4464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1352-5ABA-47CB-BB4E-B144EF33F7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DRMMoreInfoLicenseReq?clid=2052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21004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对此演示文稿的权限当前受到限制。只有使用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Microsoft Office 2003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或更高版本才能打开该演示文稿。您可以向演示文稿的作者申请一份可以使用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nternet Explorer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的权限管理加载项”阅读的演示文稿副本。单击“视图”菜单的“幻灯片放映”可以打开此链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75248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2"/>
              </a:rPr>
              <a:t>了解关于受限权限文档的更多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4-10T10:54:53Z</dcterms:modified>
  <cp:revision>82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30526548</vt:r8>
  </property>
</Properties>
</file>