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1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7780-00C7-4C2B-B3A7-932DBEB0A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0C23-71EF-4C96-B964-820E4CD8E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C42D-9739-4EA8-9F2B-7D3CADBDF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B09D-81E8-48C4-B9B8-372411353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D1CB-82BB-43CA-8FB6-082CFAC88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478C-CCC4-41D0-8DB0-86BC8D0B3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E519-77FB-495B-85C6-876CB6249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D521-1A6C-4D90-A718-81B06B907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5620-DA25-48BF-8AA8-A0E5FD6D1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9E07-D6AC-4CA6-B284-56B48CD69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CC73-0E9E-4408-8881-6FC936328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D225-B6F9-44EF-A14A-9C164C555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8BAD4-956D-472E-B15F-0219355096A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image" Target="../media/image14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-90360"/>
            <a:ext cx="9144000" cy="6966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4788000" y="907920"/>
            <a:ext cx="3313080" cy="81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    </a:t>
            </a: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励   志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pic>
        <p:nvPicPr>
          <p:cNvPr id="45" name="许嵩 - 千百度" descr=""/>
          <p:cNvPicPr/>
          <p:nvPr/>
        </p:nvPicPr>
        <p:blipFill>
          <a:blip r:embed="rId2"/>
          <a:stretch/>
        </p:blipFill>
        <p:spPr>
          <a:xfrm>
            <a:off x="95400" y="64580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advTm="6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-28440"/>
            <a:ext cx="9253440" cy="69307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68360" y="549360"/>
            <a:ext cx="7488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n wind blows against a tree, its roots grow stronger. Just like you as the tree, and problems as the wind——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当风刮过，树根却更加坚固，把自己比作树，困难当成风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324000" y="5229360"/>
            <a:ext cx="849600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75000"/>
                    </a:srgbClr>
                  </a:outerShdw>
                </a:effectLst>
                <a:latin typeface="宋体"/>
              </a:rPr>
              <a:t>我可以接受失败，但决不能接受自己都未曾奋斗过。—乔丹</a:t>
            </a:r>
            <a:endParaRPr b="0" lang="en-US" sz="1800" spc="-1" strike="noStrike">
              <a:ln w="9360">
                <a:solidFill>
                  <a:srgbClr val="0066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 advTm="14000"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272880" y="390600"/>
            <a:ext cx="437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不必为昨夜的泪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去弄湿今天的阳光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1917720"/>
            <a:ext cx="452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前面的路还很远，你可能会哭，但是一定要走下去，一定不能停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68360" y="3573360"/>
            <a:ext cx="812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多数的错与失，是因为不努力，不坚持，不挽留。然后告诉自己一切都是命运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620720" y="5086440"/>
            <a:ext cx="5327640" cy="104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宋体"/>
              </a:rPr>
              <a:t>一些道理想通了是天堂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宋体"/>
              </a:rPr>
              <a:t>想不通就是地狱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</p:spTree>
  </p:cSld>
  <p:transition advTm="22000">
    <p:wheel spokes="2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350"/>
                            </p:stCondLst>
                            <p:childTnLst>
                              <p:par>
                                <p:cTn id="21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3350"/>
                            </p:stCondLst>
                            <p:childTnLst>
                              <p:par>
                                <p:cTn id="23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77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7" dur="77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9" dur="77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1" dur="77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1116000" y="5086440"/>
            <a:ext cx="685800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没有人能束缚我们，除了我们自己</a:t>
            </a:r>
            <a:endParaRPr b="0" i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</p:spTree>
  </p:cSld>
  <p:transition spd="med" advTm="9000">
    <p:split dir="in" orient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-27000" y="0"/>
            <a:ext cx="9209160" cy="6886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1692360" y="3718080"/>
            <a:ext cx="4114800" cy="156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38160" dir="5400000" blurRad="0" rotWithShape="0">
                    <a:srgbClr val="4d4d4d">
                      <a:alpha val="75000"/>
                    </a:srgbClr>
                  </a:outerShdw>
                </a:effectLst>
                <a:latin typeface="宋体"/>
              </a:rPr>
              <a:t>你将如何选择未来？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38160" dir="5400000" blurRad="0" rotWithShape="0">
                  <a:srgbClr val="4d4d4d">
                    <a:alpha val="75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38160" dir="5400000" blurRad="0" rotWithShape="0">
                    <a:srgbClr val="4d4d4d">
                      <a:alpha val="75000"/>
                    </a:srgbClr>
                  </a:outerShdw>
                </a:effectLst>
                <a:latin typeface="宋体"/>
              </a:rPr>
              <a:t>努力？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38160" dir="5400000" blurRad="0" rotWithShape="0">
                  <a:srgbClr val="4d4d4d">
                    <a:alpha val="75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38160" dir="5400000" blurRad="0" rotWithShape="0">
                    <a:srgbClr val="4d4d4d">
                      <a:alpha val="75000"/>
                    </a:srgbClr>
                  </a:outerShdw>
                </a:effectLst>
                <a:latin typeface="宋体"/>
              </a:rPr>
              <a:t>失败？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38160" dir="5400000" blurRad="0" rotWithShape="0">
                  <a:srgbClr val="4d4d4d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 advTm="11000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-30240" y="0"/>
            <a:ext cx="9205920" cy="68929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755640" y="4365720"/>
            <a:ext cx="1828800" cy="139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ln w="0">
                  <a:noFill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宋体"/>
              </a:rPr>
              <a:t>End</a:t>
            </a:r>
            <a:endParaRPr b="0" lang="en-US" sz="9600" spc="-1" strike="noStrike">
              <a:ln w="0">
                <a:noFill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宋体"/>
              <a:ea typeface="宋体"/>
            </a:endParaRPr>
          </a:p>
        </p:txBody>
      </p:sp>
    </p:spTree>
  </p:cSld>
  <p:transition advTm="7000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53964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贪婪是最真实的贫穷，满足是最真实的财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你可以用爱得到全世界，你也可以用恨失去全世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-100080" y="-19080"/>
            <a:ext cx="9745560" cy="73072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971640" y="2997360"/>
            <a:ext cx="63561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贪婪是最真实的贫穷，满足是最真实的财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你可以用爱得到全世界，你也可以用恨失去全世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403280" y="1341360"/>
            <a:ext cx="209556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楷体"/>
              </a:rPr>
              <a:t>满足 </a:t>
            </a:r>
            <a:endParaRPr b="1" lang="en-US" sz="66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楷体"/>
              <a:ea typeface="楷体"/>
            </a:endParaRPr>
          </a:p>
        </p:txBody>
      </p:sp>
    </p:spTree>
  </p:cSld>
  <p:transition advTm="14000"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过去不等于未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-28440" y="-19080"/>
            <a:ext cx="9745560" cy="73072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935000" y="2498760"/>
            <a:ext cx="24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771640" y="549360"/>
            <a:ext cx="320040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336699"/>
                </a:solidFill>
                <a:effectLst>
                  <a:outerShdw dist="38160" dir="0" blurRad="0" rotWithShape="0">
                    <a:srgbClr val="b2b2b2">
                      <a:alpha val="75000"/>
                    </a:srgbClr>
                  </a:outerShdw>
                </a:effectLst>
                <a:latin typeface="宋体"/>
              </a:rPr>
              <a:t>过去不等于未来</a:t>
            </a:r>
            <a:endParaRPr b="0" lang="en-US" sz="1800" spc="-1" strike="noStrike">
              <a:ln w="0">
                <a:noFill/>
              </a:ln>
              <a:solidFill>
                <a:srgbClr val="336699"/>
              </a:solidFill>
              <a:effectLst>
                <a:outerShdw dist="38160" dir="0" blurRad="0" rotWithShape="0">
                  <a:srgbClr val="b2b2b2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4" name=""/>
          <p:cNvSpPr/>
          <p:nvPr/>
        </p:nvSpPr>
        <p:spPr>
          <a:xfrm>
            <a:off x="179280" y="1486080"/>
            <a:ext cx="88185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00"/>
                </a:solidFill>
                <a:latin typeface="Arial"/>
              </a:rPr>
              <a:t>在新泽西州市郊的一座小镇上，一个由</a:t>
            </a:r>
            <a:r>
              <a:rPr b="0" lang="zh-CN" sz="2800" spc="-1" strike="noStrike">
                <a:solidFill>
                  <a:srgbClr val="333300"/>
                </a:solidFill>
                <a:latin typeface="Arial"/>
              </a:rPr>
              <a:t>26</a:t>
            </a:r>
            <a:r>
              <a:rPr b="0" lang="zh-CN" sz="2800" spc="-1" strike="noStrike">
                <a:solidFill>
                  <a:srgbClr val="333300"/>
                </a:solidFill>
                <a:latin typeface="Arial"/>
              </a:rPr>
              <a:t>个孩子组成的班级被安排在教学楼最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00"/>
                </a:solidFill>
                <a:latin typeface="Arial"/>
              </a:rPr>
              <a:t>面一间光线昏暗的教室里。他们中所有的人都有过不光彩的历史；基本上所有人都进过管教所</a:t>
            </a:r>
            <a:r>
              <a:rPr b="0" lang="zh-CN" sz="2800" spc="-1" strike="noStrike">
                <a:solidFill>
                  <a:srgbClr val="3333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00"/>
                </a:solidFill>
                <a:latin typeface="Arial"/>
              </a:rPr>
              <a:t>家长拿他们没办法，老师和学校也几乎放弃了他们。就在这个时候，一个叫菲拉的女教师担任了这个班的辅导老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00"/>
                </a:solidFill>
                <a:latin typeface="Arial"/>
              </a:rPr>
              <a:t>新学年开始的第一天，菲拉没有像以前的老师那样，首先对这些孩子进行一顿训斥，给他们一个下马威，而是为大家出了一道题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0">
    <p:zoom dir="ou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5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5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2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2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-5997600" y="1844640"/>
            <a:ext cx="6753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67676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24000" y="406440"/>
            <a:ext cx="84247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00"/>
                </a:solidFill>
                <a:latin typeface="Arial"/>
              </a:rPr>
              <a:t>有</a:t>
            </a: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333300"/>
                </a:solidFill>
                <a:latin typeface="Arial"/>
              </a:rPr>
              <a:t>个候选人，他们分别是─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00"/>
                </a:solidFill>
                <a:latin typeface="Arial"/>
              </a:rPr>
              <a:t>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00"/>
                </a:solidFill>
                <a:latin typeface="Arial"/>
              </a:rPr>
              <a:t>　　</a:t>
            </a: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A</a:t>
            </a:r>
            <a:r>
              <a:rPr b="0" lang="zh-CN" sz="3200" spc="-1" strike="noStrike">
                <a:solidFill>
                  <a:srgbClr val="333300"/>
                </a:solidFill>
                <a:latin typeface="Arial"/>
              </a:rPr>
              <a:t>：笃信巫医，有多年的吸烟史，而且嗜酒如命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00"/>
                </a:solidFill>
                <a:latin typeface="Arial"/>
              </a:rPr>
              <a:t>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00"/>
                </a:solidFill>
                <a:latin typeface="Arial"/>
              </a:rPr>
              <a:t>　　</a:t>
            </a: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B</a:t>
            </a:r>
            <a:r>
              <a:rPr b="0" lang="zh-CN" sz="3200" spc="-1" strike="noStrike">
                <a:solidFill>
                  <a:srgbClr val="333300"/>
                </a:solidFill>
                <a:latin typeface="Arial"/>
              </a:rPr>
              <a:t>：曾经两次被赶出办公室，每天要到中午才起床，每晚都要喝大约</a:t>
            </a: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333300"/>
                </a:solidFill>
                <a:latin typeface="Arial"/>
              </a:rPr>
              <a:t>公升的白兰地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00"/>
                </a:solidFill>
                <a:latin typeface="Arial"/>
              </a:rPr>
              <a:t>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00"/>
                </a:solidFill>
                <a:latin typeface="Arial"/>
              </a:rPr>
              <a:t>　　</a:t>
            </a: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C</a:t>
            </a:r>
            <a:r>
              <a:rPr b="0" lang="zh-CN" sz="3200" spc="-1" strike="noStrike">
                <a:solidFill>
                  <a:srgbClr val="333300"/>
                </a:solidFill>
                <a:latin typeface="Arial"/>
              </a:rPr>
              <a:t>：曾是国家的战斗英雄，一直保持素食习惯，热爱艺术，偶尔喝点酒，年轻时从未做过违法的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8000">
    <p:cover dir="rd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2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000"/>
                            </p:stCondLst>
                            <p:childTnLst>
                              <p:par>
                                <p:cTn id="5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1800"/>
                            </p:stCondLst>
                            <p:childTnLst>
                              <p:par>
                                <p:cTn id="58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12360" y="2204640"/>
            <a:ext cx="830124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-531720" y="-19080"/>
            <a:ext cx="9744120" cy="73072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95280" y="765000"/>
            <a:ext cx="8497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00"/>
                </a:solidFill>
                <a:latin typeface="Arial"/>
              </a:rPr>
              <a:t>菲拉给孩子们的问题是：</a:t>
            </a:r>
            <a:br>
              <a:rPr sz="2800"/>
            </a:br>
            <a:r>
              <a:rPr b="1" lang="zh-CN" sz="2800" spc="-1" strike="noStrike">
                <a:solidFill>
                  <a:srgbClr val="333300"/>
                </a:solidFill>
                <a:latin typeface="Arial"/>
              </a:rPr>
              <a:t>　　</a:t>
            </a:r>
            <a:br>
              <a:rPr sz="2800"/>
            </a:br>
            <a:r>
              <a:rPr b="1" lang="zh-CN" sz="2800" spc="-1" strike="noStrike">
                <a:solidFill>
                  <a:srgbClr val="333300"/>
                </a:solidFill>
                <a:latin typeface="Arial"/>
              </a:rPr>
              <a:t>　　如果我告诉你们，在这</a:t>
            </a: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333300"/>
                </a:solidFill>
                <a:latin typeface="Arial"/>
              </a:rPr>
              <a:t>个人中，有一位会成为众人敬仰的伟人，你们认为会是谁？猜想一下，这</a:t>
            </a: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333300"/>
                </a:solidFill>
                <a:latin typeface="Arial"/>
              </a:rPr>
              <a:t>个人将来各自会有什么样的命运？</a:t>
            </a:r>
            <a:br>
              <a:rPr sz="2800"/>
            </a:br>
            <a:r>
              <a:rPr b="1" lang="zh-CN" sz="2800" spc="-1" strike="noStrike">
                <a:solidFill>
                  <a:srgbClr val="333300"/>
                </a:solidFill>
                <a:latin typeface="Arial"/>
              </a:rPr>
              <a:t>　　</a:t>
            </a:r>
            <a:br>
              <a:rPr sz="2800"/>
            </a:br>
            <a:r>
              <a:rPr b="1" lang="zh-CN" sz="2800" spc="-1" strike="noStrike">
                <a:solidFill>
                  <a:srgbClr val="333300"/>
                </a:solidFill>
                <a:latin typeface="Arial"/>
              </a:rPr>
              <a:t>　　对于第一个问题，毋庸置疑，孩子们都选择了</a:t>
            </a: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333300"/>
                </a:solidFill>
                <a:latin typeface="Arial"/>
              </a:rPr>
              <a:t>；对于第二个问题，大家的推论也几乎一致：</a:t>
            </a: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333300"/>
                </a:solidFill>
                <a:latin typeface="Arial"/>
              </a:rPr>
              <a:t>和</a:t>
            </a: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333300"/>
                </a:solidFill>
                <a:latin typeface="Arial"/>
              </a:rPr>
              <a:t>的命运肯定不妙，要么成为罪犯，要么就是需要社会照顾的废物。而</a:t>
            </a: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333300"/>
                </a:solidFill>
                <a:latin typeface="Arial"/>
              </a:rPr>
              <a:t>呢，一定是一个品德高尚的人，注定会成为精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5000">
    <p:wheel spokes="8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-19080" y="0"/>
            <a:ext cx="9164520" cy="69022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539640" y="692280"/>
            <a:ext cx="8064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然而，菲拉的答案却让人大吃一惊。“孩子们，你们的结论也许符合一般的判断，但事实是，你们都错了。这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个人大家都很熟悉，他们是二战时期的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个著名人物─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是富兰克林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罗斯福，他身残志坚，连任四届美国总统；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是温斯顿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丘吉尔，英国历史上最著名的首相；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的名字大家也很熟悉，他叫阿道夫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希特勒，一个夺去了几千万无辜生命的法西斯元首。”学生们都呆呆地瞅着菲拉，他们简直不相信自己的耳朵。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“孩子们，”菲拉接着说，“你们的人生才刚刚开始，以往的过错和耻辱只能代表过去，真正能代表一个人一生的，是他现在和将来的所作所为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0">
    <p:plus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403848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2360" y="909720"/>
            <a:ext cx="864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-20520"/>
            <a:ext cx="9217080" cy="69069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95280" y="1413000"/>
            <a:ext cx="8209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每个人都不是完人，连伟人也有过错。从过去的阴影里走出来吧，从现在开始，努力做自己最想做的事情，你们都将成为了不起的优秀的人才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……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　　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　　菲拉的这番话，改变了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6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个孩子一生的命运。如今这些孩子都已长大成人，他们中有的做了心理医生、有的做了法官、有的做了飞机驾驶员。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　　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　　值得一提的是，当年班里那个个子最矮也最爱捣乱的学生罗伯特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哈里森，后来成了华尔街上最年轻的基金经理人。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　　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　　“原来我们都觉得自己已经无可救药，因为所有的人都这么认为。是菲拉老师第一次让我们觉醒：过去并不重要，我们还有可以把握的现在和将来。”孩子们长大后这样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8000">
    <p:fade thruBlk="true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41">
                                  <p:stCondLst>
                                    <p:cond delay="3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4920" y="44280"/>
            <a:ext cx="9072720" cy="76424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611280" y="692280"/>
            <a:ext cx="7993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8b5e3"/>
                </a:solidFill>
                <a:latin typeface="Arial"/>
              </a:rPr>
              <a:t>我们总是提到我们的过去，自豪，遗憾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8b5e3"/>
                </a:solidFill>
                <a:latin typeface="Arial"/>
              </a:rPr>
              <a:t>但是这不代表你以后会怎么发展，你自己已经放弃了自己，放任自己，不加以约束。认为自己不行。你就不行。现在的你不代表未来的你。但是奇迹只会出在勤奋者身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8b5e3"/>
                </a:solidFill>
                <a:latin typeface="Arial"/>
              </a:rPr>
              <a:t>今天你进步了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8b5e3"/>
                </a:solidFill>
                <a:latin typeface="Arial"/>
              </a:rPr>
              <a:t>还是无所事事的度过了一天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8b5e3"/>
                </a:solidFill>
                <a:latin typeface="Arial"/>
              </a:rPr>
              <a:t>看看那些值得你学习的人。</a:t>
            </a:r>
            <a:r>
              <a:rPr b="1" lang="zh-CN" sz="2800" spc="-1" strike="noStrike">
                <a:solidFill>
                  <a:srgbClr val="b8b5e3"/>
                </a:solidFill>
                <a:latin typeface="Arial"/>
              </a:rPr>
              <a:t>TA</a:t>
            </a:r>
            <a:r>
              <a:rPr b="1" lang="zh-CN" sz="2800" spc="-1" strike="noStrike">
                <a:solidFill>
                  <a:srgbClr val="b8b5e3"/>
                </a:solidFill>
                <a:latin typeface="Arial"/>
              </a:rPr>
              <a:t>与你的差距。世界上没有懒惰的天才，只有勤奋的天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4000">
    <p:circle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-316080" y="-379440"/>
            <a:ext cx="9529920" cy="74818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806400" y="798480"/>
            <a:ext cx="7221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昨天并不代表什么，关键的是现在，是未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一个人满足与以前，或失落与昨天。遗忘了今天。那么明天的今天你会叹息，然后日复一日，年复一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        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日子匆匆闪过，不留痕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073160" y="3132000"/>
            <a:ext cx="681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人生的一半掌握在上帝手中，另一半掌握在自己手中，真正的成功就是拿自己手中的一半去赢上帝手中的另一半</a:t>
            </a:r>
            <a:r>
              <a:rPr b="0" lang="zh-CN" sz="3600" spc="-1" strike="noStrike">
                <a:solidFill>
                  <a:srgbClr val="ffffcc"/>
                </a:solidFill>
                <a:latin typeface="Arial"/>
              </a:rPr>
              <a:t>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5000">
    <p:blinds dir="horz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6" dur="1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1" dur="1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6" dur="10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000"/>
                            </p:stCondLst>
                            <p:childTnLst>
                              <p:par>
                                <p:cTn id="19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2T12:25:34Z</dcterms:created>
  <dc:creator>Administrator</dc:creator>
  <dc:description/>
  <cp:keywords/>
  <dc:language>en-US</dc:language>
  <cp:lastModifiedBy>GZB</cp:lastModifiedBy>
  <cp:lastPrinted>1899-12-30T00:00:00Z</cp:lastPrinted>
  <dcterms:modified xsi:type="dcterms:W3CDTF">2012-09-09T03:18:33Z</dcterms:modified>
  <cp:revision>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945</vt:lpwstr>
  </property>
  <property fmtid="{D5CDD505-2E9C-101B-9397-08002B2CF9AE}" pid="3" name="NXTAG2">
    <vt:lpwstr>0008009a0d000000000001024140</vt:lpwstr>
  </property>
</Properties>
</file>