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11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4.jpeg" ContentType="image/jpeg"/>
  <Override PartName="/ppt/media/image2.png" ContentType="image/png"/>
  <Override PartName="/ppt/media/image8.png" ContentType="image/png"/>
  <Override PartName="/ppt/media/image1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F1DB-D6A6-4C38-B346-5AAEE9573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8A46-F5BB-47A2-A84E-4333151F8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EC4B-362C-4F95-90C7-D200368EB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6974-4190-4899-8DE2-182A2C170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FE2C-4A19-4740-9D76-B4B291C3E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92BC-D507-4568-A460-46673243A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CB03-4EC5-47D3-9256-1AF60A829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BB90-D1AD-40A6-8E57-740F5C14F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2759-EEAE-4D54-A5C6-56C1F4AEC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19B6-B6D4-4B7A-923D-25FD0576C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3F72-9BBB-4B9E-A0FF-6ACC90506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D9CF-F699-4180-96B7-0F2489C71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2EF88-5B30-4B49-9C2C-98171720B6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2286000"/>
            <a:ext cx="8458200" cy="25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课堂提问系统软件简介</a:t>
            </a:r>
            <a:br>
              <a:rPr sz="4400"/>
            </a:br>
            <a:br>
              <a:rPr sz="4400"/>
            </a:b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作者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QQ:  869321632</a:t>
            </a:r>
            <a:br>
              <a:rPr sz="3200"/>
            </a:b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微信：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gudianxiaoshuo</a:t>
            </a:r>
            <a:br>
              <a:rPr sz="3200"/>
            </a:b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官网：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www.gudianxiaoshuo.com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01680" y="1071360"/>
            <a:ext cx="854064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如果该学生未旷课，则点击未旷课按钮，跳出如下对话框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4"/>
          <p:cNvPicPr/>
          <p:nvPr/>
        </p:nvPicPr>
        <p:blipFill>
          <a:blip r:embed="rId1"/>
          <a:stretch/>
        </p:blipFill>
        <p:spPr>
          <a:xfrm>
            <a:off x="1908000" y="2357280"/>
            <a:ext cx="4810320" cy="4025880"/>
          </a:xfrm>
          <a:prstGeom prst="rect">
            <a:avLst/>
          </a:prstGeom>
          <a:ln w="0">
            <a:noFill/>
          </a:ln>
        </p:spPr>
      </p:pic>
      <p:sp>
        <p:nvSpPr>
          <p:cNvPr id="64" name="TextBox 3"/>
          <p:cNvSpPr/>
          <p:nvPr/>
        </p:nvSpPr>
        <p:spPr>
          <a:xfrm>
            <a:off x="642960" y="214200"/>
            <a:ext cx="71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主界面功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2428920"/>
            <a:ext cx="854064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zh-CN" sz="4000" spc="-1" strike="noStrike">
                <a:solidFill>
                  <a:srgbClr val="000099"/>
                </a:solidFill>
                <a:latin typeface="Arial"/>
              </a:rPr>
              <a:t>其他操作类似，每次操作完成后，都会有魔法表情跳出，以吸引学生关注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TextBox 2"/>
          <p:cNvSpPr/>
          <p:nvPr/>
        </p:nvSpPr>
        <p:spPr>
          <a:xfrm>
            <a:off x="642960" y="214200"/>
            <a:ext cx="71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主界面功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01680" y="1500120"/>
            <a:ext cx="854064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下课后，按保存成绩并退出软件按钮，以保存学生的成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"/>
          <p:cNvSpPr/>
          <p:nvPr/>
        </p:nvSpPr>
        <p:spPr>
          <a:xfrm>
            <a:off x="642960" y="214200"/>
            <a:ext cx="71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主界面功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01680" y="1142640"/>
            <a:ext cx="854064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学生名册保存路径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未注册版本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只支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班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班级名册保存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X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班级名称为：课堂成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保存在安装目录下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“成绩”文件夹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2"/>
          <p:cNvSpPr/>
          <p:nvPr/>
        </p:nvSpPr>
        <p:spPr>
          <a:xfrm>
            <a:off x="642960" y="214200"/>
            <a:ext cx="71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学生名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7929720" cy="2928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2"/>
          <a:stretch/>
        </p:blipFill>
        <p:spPr>
          <a:xfrm>
            <a:off x="785880" y="3357720"/>
            <a:ext cx="1947960" cy="3214440"/>
          </a:xfrm>
          <a:prstGeom prst="rect">
            <a:avLst/>
          </a:prstGeom>
          <a:ln w="0">
            <a:noFill/>
          </a:ln>
        </p:spPr>
      </p:pic>
      <p:sp>
        <p:nvSpPr>
          <p:cNvPr id="73" name="TextBox 5"/>
          <p:cNvSpPr/>
          <p:nvPr/>
        </p:nvSpPr>
        <p:spPr>
          <a:xfrm>
            <a:off x="3571920" y="371484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示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个学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6"/>
          <p:cNvSpPr/>
          <p:nvPr/>
        </p:nvSpPr>
        <p:spPr>
          <a:xfrm>
            <a:off x="3571920" y="4286160"/>
            <a:ext cx="55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这是初始值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务必要设置，表示记录几次课堂分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7"/>
          <p:cNvSpPr/>
          <p:nvPr/>
        </p:nvSpPr>
        <p:spPr>
          <a:xfrm>
            <a:off x="3571920" y="4857840"/>
            <a:ext cx="521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下面的依次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个学生名单，一个学生一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01680" y="404280"/>
            <a:ext cx="854064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课堂成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txt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设置格式：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路丹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王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吕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其中，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60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代表本班有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60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位同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代表记录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次课堂成绩，路丹丹等为学生名字，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每人一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此处，一定要注意 将班级人数写正确，否则可能会出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04920" y="609120"/>
            <a:ext cx="8540640" cy="54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课堂记录如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1571760" y="1557360"/>
            <a:ext cx="5219640" cy="42289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62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设置功能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85840" y="1213920"/>
            <a:ext cx="8540640" cy="5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点击设置后，会跳出如下对话框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2143080" y="1928880"/>
            <a:ext cx="4300560" cy="47149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14200"/>
            <a:ext cx="854064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注册功能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01680" y="1071720"/>
            <a:ext cx="854064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未注册版本只能使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更改背景图功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注册版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可设置多门课程，可设置合堂班级（最多可设置六个班合堂），可设置分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\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盘下新建一个文件夹“语文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“语文”文件夹中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新建课堂成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tx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课堂成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tx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注册功能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01680" y="1785600"/>
            <a:ext cx="8540640" cy="43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加载课程存放路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加载后就可以使用此文件夹下的学生名册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1"/>
          <a:stretch/>
        </p:blipFill>
        <p:spPr>
          <a:xfrm>
            <a:off x="714240" y="2643120"/>
            <a:ext cx="7286760" cy="17146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214200" y="1989000"/>
            <a:ext cx="8715600" cy="43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本软件旨在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通过在课堂上随机提问学生，并记录课堂成绩，跳出拟人化魔法表情，从而提高学生积极回答问题的兴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此成绩 可以作为平时成绩考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2"/>
          <p:cNvSpPr/>
          <p:nvPr/>
        </p:nvSpPr>
        <p:spPr>
          <a:xfrm>
            <a:off x="714240" y="642960"/>
            <a:ext cx="71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主界面功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24000" y="62028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作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Q:  8693216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欢迎大家使用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另有两款不同的课堂软件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Q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界面的快乐课堂、教案问题学生信息集合的课堂助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更多软件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gudianxiaoshuo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快乐课堂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内容占位符 3" descr=""/>
          <p:cNvPicPr/>
          <p:nvPr/>
        </p:nvPicPr>
        <p:blipFill>
          <a:blip r:embed="rId1"/>
          <a:stretch/>
        </p:blipFill>
        <p:spPr>
          <a:xfrm>
            <a:off x="1104840" y="1600200"/>
            <a:ext cx="6934320" cy="44989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1" name="内容占位符 3" descr=""/>
          <p:cNvPicPr/>
          <p:nvPr/>
        </p:nvPicPr>
        <p:blipFill>
          <a:blip r:embed="rId1"/>
          <a:stretch/>
        </p:blipFill>
        <p:spPr>
          <a:xfrm>
            <a:off x="345960" y="1600200"/>
            <a:ext cx="8452080" cy="44989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3" name="内容占位符 3" descr=""/>
          <p:cNvPicPr/>
          <p:nvPr/>
        </p:nvPicPr>
        <p:blipFill>
          <a:blip r:embed="rId1"/>
          <a:stretch/>
        </p:blipFill>
        <p:spPr>
          <a:xfrm>
            <a:off x="725400" y="1600200"/>
            <a:ext cx="7693200" cy="44989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5" name="内容占位符 3" descr=""/>
          <p:cNvPicPr/>
          <p:nvPr/>
        </p:nvPicPr>
        <p:blipFill>
          <a:blip r:embed="rId1"/>
          <a:stretch/>
        </p:blipFill>
        <p:spPr>
          <a:xfrm>
            <a:off x="3360600" y="1600200"/>
            <a:ext cx="2422800" cy="44989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带数据库的课堂助手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01680" y="1599840"/>
            <a:ext cx="8540640" cy="4498920"/>
          </a:xfrm>
          <a:prstGeom prst="rect">
            <a:avLst/>
          </a:prstGeom>
          <a:ln w="0">
            <a:noFill/>
          </a:ln>
        </p:spPr>
      </p:pic>
      <p:pic>
        <p:nvPicPr>
          <p:cNvPr id="98" name="图片 3" descr=""/>
          <p:cNvPicPr/>
          <p:nvPr/>
        </p:nvPicPr>
        <p:blipFill>
          <a:blip r:embed="rId2"/>
          <a:stretch/>
        </p:blipFill>
        <p:spPr>
          <a:xfrm>
            <a:off x="1935000" y="3252960"/>
            <a:ext cx="5274000" cy="3520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01680" y="1599840"/>
            <a:ext cx="8540640" cy="449892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3" descr=""/>
          <p:cNvPicPr/>
          <p:nvPr/>
        </p:nvPicPr>
        <p:blipFill>
          <a:blip r:embed="rId2"/>
          <a:stretch/>
        </p:blipFill>
        <p:spPr>
          <a:xfrm>
            <a:off x="611280" y="1362240"/>
            <a:ext cx="7532640" cy="47037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01680" y="1599840"/>
            <a:ext cx="8540640" cy="4498920"/>
          </a:xfrm>
          <a:prstGeom prst="rect">
            <a:avLst/>
          </a:prstGeom>
          <a:ln w="0">
            <a:noFill/>
          </a:ln>
        </p:spPr>
      </p:pic>
      <p:pic>
        <p:nvPicPr>
          <p:cNvPr id="104" name="图片 3" descr=""/>
          <p:cNvPicPr/>
          <p:nvPr/>
        </p:nvPicPr>
        <p:blipFill>
          <a:blip r:embed="rId2"/>
          <a:stretch/>
        </p:blipFill>
        <p:spPr>
          <a:xfrm>
            <a:off x="301680" y="404640"/>
            <a:ext cx="8540640" cy="56944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01680" y="1599840"/>
            <a:ext cx="8540640" cy="4498920"/>
          </a:xfrm>
          <a:prstGeom prst="rect">
            <a:avLst/>
          </a:prstGeom>
          <a:ln w="0">
            <a:noFill/>
          </a:ln>
        </p:spPr>
      </p:pic>
      <p:pic>
        <p:nvPicPr>
          <p:cNvPr id="107" name="图片 3" descr=""/>
          <p:cNvPicPr/>
          <p:nvPr/>
        </p:nvPicPr>
        <p:blipFill>
          <a:blip r:embed="rId2"/>
          <a:stretch/>
        </p:blipFill>
        <p:spPr>
          <a:xfrm>
            <a:off x="0" y="228600"/>
            <a:ext cx="8842320" cy="58705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01680" y="1214280"/>
            <a:ext cx="854064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软件功能介绍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SzPct val="80000"/>
              <a:buFont typeface="Wingding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  随机挑选一位同学回答问题，使每位同学都有可能被提问到，减少了主观因素影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SzPct val="80000"/>
              <a:buFont typeface="Wingding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 对指定的某位同学进行抽查   以便实现根据具体情况  有所重点检查的目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2"/>
          <p:cNvSpPr/>
          <p:nvPr/>
        </p:nvSpPr>
        <p:spPr>
          <a:xfrm>
            <a:off x="642960" y="214200"/>
            <a:ext cx="71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主界面功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85840" y="1571760"/>
            <a:ext cx="8540640" cy="35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分数设定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若旷课，则将此节课的成绩置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若未旷课，则根据三种回答情况（回答错误、基本正确、完全正确）分别给予不同的分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2"/>
          <p:cNvSpPr/>
          <p:nvPr/>
        </p:nvSpPr>
        <p:spPr>
          <a:xfrm>
            <a:off x="642960" y="214200"/>
            <a:ext cx="71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主界面功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01680" y="1785600"/>
            <a:ext cx="8540640" cy="43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成绩保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课堂成绩记录保存成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x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文本文件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文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642960" y="214200"/>
            <a:ext cx="71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主界面功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01680" y="1071360"/>
            <a:ext cx="85406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软件界面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266760" y="1714680"/>
            <a:ext cx="8610480" cy="4929120"/>
          </a:xfrm>
          <a:prstGeom prst="rect">
            <a:avLst/>
          </a:prstGeom>
          <a:ln w="0">
            <a:noFill/>
          </a:ln>
        </p:spPr>
      </p:pic>
      <p:sp>
        <p:nvSpPr>
          <p:cNvPr id="52" name="TextBox 4"/>
          <p:cNvSpPr/>
          <p:nvPr/>
        </p:nvSpPr>
        <p:spPr>
          <a:xfrm>
            <a:off x="642960" y="214200"/>
            <a:ext cx="71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主界面功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01680" y="1143000"/>
            <a:ext cx="85406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操作介绍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随机挑选同学回答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按钮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点击此按钮后，系统生成一个随机数，此数范围在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~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班级人数），并显示其姓名及成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成绩分为两项：一是这节课的成绩，一是所有次课的总成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1285920" y="4500720"/>
            <a:ext cx="6296040" cy="1409400"/>
          </a:xfrm>
          <a:prstGeom prst="rect">
            <a:avLst/>
          </a:prstGeom>
          <a:ln w="0">
            <a:noFill/>
          </a:ln>
        </p:spPr>
      </p:pic>
      <p:sp>
        <p:nvSpPr>
          <p:cNvPr id="55" name="TextBox 5"/>
          <p:cNvSpPr/>
          <p:nvPr/>
        </p:nvSpPr>
        <p:spPr>
          <a:xfrm>
            <a:off x="642960" y="214200"/>
            <a:ext cx="71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主界面功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01680" y="1071360"/>
            <a:ext cx="854064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如果该学生旷课了，则点击旷课按钮，跳出如下对话框，选择确定，则确认其旷课，本节课成绩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2"/>
          <p:cNvPicPr/>
          <p:nvPr/>
        </p:nvPicPr>
        <p:blipFill>
          <a:blip r:embed="rId1"/>
          <a:stretch/>
        </p:blipFill>
        <p:spPr>
          <a:xfrm>
            <a:off x="755640" y="2637000"/>
            <a:ext cx="7448400" cy="3419280"/>
          </a:xfrm>
          <a:prstGeom prst="rect">
            <a:avLst/>
          </a:prstGeom>
          <a:ln w="0">
            <a:noFill/>
          </a:ln>
        </p:spPr>
      </p:pic>
      <p:sp>
        <p:nvSpPr>
          <p:cNvPr id="58" name="TextBox 3"/>
          <p:cNvSpPr/>
          <p:nvPr/>
        </p:nvSpPr>
        <p:spPr>
          <a:xfrm>
            <a:off x="642960" y="214200"/>
            <a:ext cx="71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主界面功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01680" y="1142640"/>
            <a:ext cx="854064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并跳出魔法表情，以提高学生关注的兴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3"/>
          <p:cNvPicPr/>
          <p:nvPr/>
        </p:nvPicPr>
        <p:blipFill>
          <a:blip r:embed="rId1"/>
          <a:stretch/>
        </p:blipFill>
        <p:spPr>
          <a:xfrm>
            <a:off x="971640" y="2205000"/>
            <a:ext cx="6696000" cy="4340160"/>
          </a:xfrm>
          <a:prstGeom prst="rect">
            <a:avLst/>
          </a:prstGeom>
          <a:ln w="0">
            <a:noFill/>
          </a:ln>
        </p:spPr>
      </p:pic>
      <p:sp>
        <p:nvSpPr>
          <p:cNvPr id="61" name="TextBox 3"/>
          <p:cNvSpPr/>
          <p:nvPr/>
        </p:nvSpPr>
        <p:spPr>
          <a:xfrm>
            <a:off x="642960" y="214200"/>
            <a:ext cx="71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主界面功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7T11:08:14Z</dcterms:created>
  <dc:creator>in9</dc:creator>
  <dc:description/>
  <dc:language>en-US</dc:language>
  <cp:lastModifiedBy>shuilan shuilan</cp:lastModifiedBy>
  <dcterms:modified xsi:type="dcterms:W3CDTF">2016-09-13T04:25:22Z</dcterms:modified>
  <cp:revision>42</cp:revision>
  <dc:subject/>
  <dc:title>课堂提问系统软件简介  作者QQ:  86932163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