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A24-0263-4063-AA97-8B104D05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6CA-DBD9-4E2A-B31E-083E2EE5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180C4-7DE0-4473-B27A-30635FF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1B7A4-EC1A-4962-867A-2F88642C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31D20-A989-4E98-98C3-0AEF034A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E06CB-9EE4-496E-9F45-DE11D3CB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22FBB-38CD-4170-BCF8-D66FC353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97938-6BA5-497D-AC16-C89D51E7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A7027-10BC-431F-8195-26E28B0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FF4A5-7B88-4A59-A784-4C5AE4DD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BA0ED-5335-4D8A-98B6-603FAC6C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82AD4-970B-4E44-B6E5-EC2A7B20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328-2CC3-4434-B10C-8A971771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04308-6526-4AD6-8F18-73CD6659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06018-5F91-4FE3-8F95-7BC4484B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262F5-CFEF-47AB-BE1D-ECFC552A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0706D-3890-43FB-906C-86599A48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8EC86-0F9C-4EA0-AA0D-8BF7ECAB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0F67D-1742-4148-B654-9E214508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439D3-C215-44F6-9EE5-32A3CA5A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480C1-2F8C-42BB-89A4-678B2A9E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110F4-8BAB-4F63-9DB5-8C61A0E0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CB7BE-5EC7-45E6-AFB0-378AAAAD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E19-D9BD-4717-B613-27F81213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E9326-46B5-41B8-AE86-AC3146D3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74E01-4F20-4ED3-B6B4-4BB3F569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D7BDD-D67D-49E9-BBF4-4B80DB0B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A1A69-27CA-46E3-8163-8060C6BD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FFB4A-C50F-4A37-9A06-5583DCC2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2A12D-DF3D-4712-AD05-19AB3F49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6B381-7000-4D4C-A69A-ADB103DB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9061A-BDCB-41C4-8BF5-F81BEA78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3CEA8-2284-415A-B46F-C7104C1B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C3837-EC53-4175-A4A2-CDC7E01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5B96-E9F0-4E70-9424-8E5EC204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3B6FF-18DB-4AB3-9AC9-E8AC4043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8796F-E345-49A5-B867-241E320C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86E53-6D99-493F-BAC2-0C69B69F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D73CF-7C98-4FCC-8C44-73E2BCE0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5051A-7667-49C8-8C08-45448223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18CD6-228A-4FFD-BF3A-BE29051B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6E8EB-994C-46FF-B9F8-AF4CA87C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1706F-9427-4191-9E62-1733D2B4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84B41-B40E-49B0-870C-A8B1FEFB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3D3F3-3402-459C-81FF-3D489099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687D-7E18-43B5-A00F-2FF51BF5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1DED4-E9F0-4EEF-A9E2-78E04897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F9A0A-63E5-4323-8BBB-C0AC82DD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A73A9-77D9-44BA-92C6-DA85D406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B7F64-1B08-4B75-B9C5-981216D2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B39D1-2646-4E51-84D1-0D0BD55F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262DE-009B-47CE-BEDD-920991E2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D52FA-FF4B-459E-A054-EBE5B177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B16ED-5939-4CE4-8F53-81C9F82A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AD1F0-E0A7-4F1B-8C55-878CF67E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E035B-24B8-4CBF-83F3-6C2A1ECF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AC0A-2FF0-4E83-B37A-DB37BB93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713BE-67F6-4BCB-AB2B-714746A1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E3335-9B68-4119-8CDE-108D813A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AB8FA-E367-49E4-98D8-35456F4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BE231-4B28-41E0-8E70-4D8EF18C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E4C68-877E-4F93-A28B-B05C4EE1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EB0B6-4845-4929-8F91-AF8AE25B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59721-0B6A-430A-B3F1-95689E3A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2EEF-BDA7-45B6-8972-C68244B7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1148-50A1-4F79-9B1D-E8C3389B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A72E-AD59-40EC-B925-68CE144F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930A-2EF4-4DFD-8817-AB2BB34A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731-73BE-4C2D-90B8-A292FF09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8FCF-48B2-4B90-8133-2B97130F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9E32-103D-42DD-B857-1E9EF434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BAF5-B841-4157-85E1-53C5E2BC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2DC2-368E-4DCF-B1BA-80D209D0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A46B-A4BF-4B93-817C-B63B3F39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DFAAB-0D8F-42F2-8AFA-EF485F4E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56C1-3F19-45CC-A19A-382F9049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663D8-3FA3-444A-9E6C-06E759E5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D216-045C-46DC-B578-800EA1D6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62B5-0D53-414F-8E81-A2BA14A5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FDA-051D-4288-96A4-E74E569C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E0A8D-D7E7-49F2-9228-DD18E3A6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7D4E0-BB9E-4121-B81D-D5BF1F85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4C99-405D-4F9B-A9DB-9ACDC253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F23A7-BFA7-4A06-A647-AD08C4F5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C129F-056B-4A3A-98AC-A0B9A79F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990B-D979-4D72-89CD-EDF362A6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BBB1-FFAE-46BE-BDD2-2FB381C1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8A78E-EEA0-46AC-B189-843B70DC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3900-6160-43C5-9C93-E9631F4E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39EF-0891-40C9-B776-AA10BFD5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50E-DE33-4CB1-A8E4-8558CD35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EB9FA-7EE9-491C-976F-B3A97E85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80B56-478A-4E60-B45E-9EBBE202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B8268-60F6-4945-A9D7-1DF28268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7DACE-B400-4CAA-9D19-7BF5105E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CBFE1-E755-480B-AC88-5C022AA6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E3989-BB3E-4662-9992-9DB3F822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54031-5631-4700-A25B-D6AE4865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00AB7-BA8F-4AEC-8009-82BEB02F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2FCF-2094-4AF0-8053-E323D6F4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1A28D-E817-4136-B6FF-4FFE01E3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1B0-F551-4C59-9192-CCE3995E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3454E-2CBE-42DC-8647-49A00BD1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2C9FE-F9BF-42F6-8B83-59C83568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57A0-AA65-433B-8087-9B9E9370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76E12-8FB1-4F74-8264-24555809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6A277-67CE-4F2F-AB49-0EA630D1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CC2E9-732E-4F9F-A73C-C040452E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274EA-2C26-4C4D-BC5D-93BF5534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09F1A-205C-46B7-88AB-F9E54F69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7A9A4-D3C2-43C1-918B-E49F6346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64104-584F-43D2-B310-1C1EE3A8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7B3-4EAB-4595-A88D-CDFCDAA4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E62B9-E73C-41EC-A2DC-4ECB3A0C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95CED-70B8-47C7-8237-C3E80B23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9348F-3997-4F46-ADE9-1FABAA39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C63D5-8E2F-4DED-A55A-E713009F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9F60-D798-499C-8D18-55603886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90B3A-743F-4146-8AEE-BACCD26E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C72D-C945-4BF9-B70A-7D04533F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C201A-6435-4405-BF5F-D40B5186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40F8-6E79-4B35-AF4B-80924F65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3576B-B476-4DDF-91D5-B908197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959-42B3-48FD-B82E-06D33890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CDBF7-04BF-4BEF-ACAC-398D29D6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83EB9-C00E-4E6F-B936-A851CF6A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50326-6EBB-4BC1-9F19-B58DE4B3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49B6A-8814-49B0-82A1-1AD5744D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975C4-134D-4312-9FFD-E65EFD38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2B2A-0C44-4E18-9227-FF5902C0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19C15-BE42-4C77-8A8F-6BD6E195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0B791-5D5E-4E82-B491-AA5643BB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887B7-A1CF-46CA-992D-2BC7C68F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6984-C856-48D9-A209-271A9CDF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7F2-A96E-47A0-BFF1-5D9D15F4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DB5BD-C707-45A3-B252-59460B52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902AC-7EFB-4146-AD2F-E6F9025F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2DFEF-9148-4B27-8324-B9997C73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2C43D-A3F3-46E6-9279-146DE480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6BB79-6D20-4810-973F-6044FD0C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68ADD-17E6-4B7E-9ACC-0C348145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6D1CE-8F6D-4172-8A88-BA941F03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0A3C6-EE97-4C0C-9885-517663DE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FDAA9-68FD-4D2C-ADDE-A45B61B8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553CE-5A97-4B74-95C0-05395ABD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EF2-87D8-4614-BA81-40E30009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6BB25-6F06-49B0-8084-97FCD8C1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91DD6-5BEA-4B2D-9829-D483A20B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59B79-332D-4C9A-9015-4FECAB1C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67EDD-E01A-4735-99E1-65A90F58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646CA-F1B9-465B-AA18-D6E789A7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06D9-BF20-4B10-BC0A-81705F1C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4448B-F805-44B3-B326-A880F887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3015B-3F8F-4D11-B070-0BC2F501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A1DC4-2B20-49AF-9B19-A64009EE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8DF30-C2D0-435D-AD7B-4FCB2018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6111-5D5A-4DCB-84B0-CE74FC79D11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999A-3412-4D25-9417-4B15CA2C97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EDF5-C05E-4C55-A450-C3AD9311F4C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D5EE-AD68-4329-9494-600B7D01CD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25E5-C5ED-454D-959A-5986D8F4BF2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1B3-0167-4B20-8EC2-2EDFCFE3FA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3F36-F430-417F-9290-6E027EAC87B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0856-1146-4E81-98DF-CF1D472D44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C090-75A7-4CCF-AD3C-4590983A44F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E48E-4928-4DC9-A319-FCA8A1C0A0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EC3B-37F3-4B45-90D4-B5EC359C0A4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EEF3-571C-4809-BA2A-0F4922CF14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C5AF-3DE5-48BB-8CDB-A65BBEBDD8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B895-79C0-47BF-A3F6-79A663CC26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0EA9-7890-4E19-9216-D067B382243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C15E-C440-4F70-9CBA-207CF29DBD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D3A9-D6AD-4A22-B320-860243E97F2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DB29-B668-4DBC-BEDF-C384F43830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E393-95DA-450C-9EEB-D67D710F24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F66D-87DD-4584-B907-8588B49AC8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F49A-EBB8-4B7D-89E9-70C5AE51E79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04F0-1907-4EE5-BE5B-883BAD82E2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E40A-1E94-47CE-B983-05DAD76A25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6786-A3EB-4AB3-ADAC-E5A97BBA55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5C11-DCFB-4327-A946-C0E4A41F544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D8A7-3AAA-4826-9B74-9500469846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造字工房悦黑体验版纤细体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造字工房悦黑体验版纤细体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3997080"/>
                <a:gd name="textAreaBottom" fmla="*/ 3997440 h 3997080"/>
              </a:gdLst>
              <a:ahLst/>
              <a:rect l="textAreaLeft" t="textAreaTop" r="textAreaRight" b="textAreaBottom"/>
              <a:pathLst>
                <a:path w="936104" h="3996384">
                  <a:moveTo>
                    <a:pt x="468052" y="0"/>
                  </a:moveTo>
                  <a:cubicBezTo>
                    <a:pt x="617451" y="0"/>
                    <a:pt x="738562" y="120883"/>
                    <a:pt x="738562" y="270000"/>
                  </a:cubicBezTo>
                  <a:lnTo>
                    <a:pt x="733111" y="323976"/>
                  </a:lnTo>
                  <a:lnTo>
                    <a:pt x="738562" y="323976"/>
                  </a:lnTo>
                  <a:lnTo>
                    <a:pt x="738562" y="3114787"/>
                  </a:lnTo>
                  <a:lnTo>
                    <a:pt x="799015" y="3166587"/>
                  </a:lnTo>
                  <a:cubicBezTo>
                    <a:pt x="883716" y="3254551"/>
                    <a:pt x="936104" y="3376072"/>
                    <a:pt x="936104" y="3510300"/>
                  </a:cubicBezTo>
                  <a:cubicBezTo>
                    <a:pt x="936104" y="3778757"/>
                    <a:pt x="726550" y="3996384"/>
                    <a:pt x="468052" y="3996384"/>
                  </a:cubicBezTo>
                  <a:cubicBezTo>
                    <a:pt x="209554" y="3996384"/>
                    <a:pt x="0" y="3778757"/>
                    <a:pt x="0" y="3510300"/>
                  </a:cubicBezTo>
                  <a:cubicBezTo>
                    <a:pt x="0" y="3376072"/>
                    <a:pt x="52388" y="3254551"/>
                    <a:pt x="137089" y="3166587"/>
                  </a:cubicBezTo>
                  <a:lnTo>
                    <a:pt x="198562" y="3113913"/>
                  </a:lnTo>
                  <a:lnTo>
                    <a:pt x="198562" y="323976"/>
                  </a:lnTo>
                  <a:lnTo>
                    <a:pt x="202994" y="323976"/>
                  </a:lnTo>
                  <a:lnTo>
                    <a:pt x="197542" y="270000"/>
                  </a:lnTo>
                  <a:cubicBezTo>
                    <a:pt x="197542" y="120883"/>
                    <a:pt x="318653" y="0"/>
                    <a:pt x="468052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223720"/>
                <a:gd name="textAreaBottom" fmla="*/ 2224080 h 2223720"/>
              </a:gdLst>
              <a:ahLst/>
              <a:rect l="textAreaLeft" t="textAreaTop" r="textAreaRight" b="textAreaBottom"/>
              <a:pathLst>
                <a:path w="720000" h="2223180">
                  <a:moveTo>
                    <a:pt x="360000" y="0"/>
                  </a:moveTo>
                  <a:cubicBezTo>
                    <a:pt x="449470" y="0"/>
                    <a:pt x="522000" y="72530"/>
                    <a:pt x="522000" y="162000"/>
                  </a:cubicBezTo>
                  <a:lnTo>
                    <a:pt x="522000" y="1543342"/>
                  </a:lnTo>
                  <a:lnTo>
                    <a:pt x="561280" y="1564662"/>
                  </a:lnTo>
                  <a:cubicBezTo>
                    <a:pt x="657040" y="1629357"/>
                    <a:pt x="720000" y="1738916"/>
                    <a:pt x="720000" y="1863180"/>
                  </a:cubicBezTo>
                  <a:cubicBezTo>
                    <a:pt x="720000" y="2062003"/>
                    <a:pt x="558823" y="2223180"/>
                    <a:pt x="360000" y="2223180"/>
                  </a:cubicBezTo>
                  <a:cubicBezTo>
                    <a:pt x="161177" y="2223180"/>
                    <a:pt x="0" y="2062003"/>
                    <a:pt x="0" y="1863180"/>
                  </a:cubicBezTo>
                  <a:cubicBezTo>
                    <a:pt x="0" y="1738916"/>
                    <a:pt x="62960" y="1629357"/>
                    <a:pt x="158720" y="1564662"/>
                  </a:cubicBezTo>
                  <a:lnTo>
                    <a:pt x="198000" y="1543342"/>
                  </a:lnTo>
                  <a:lnTo>
                    <a:pt x="198000" y="162000"/>
                  </a:lnTo>
                  <a:cubicBezTo>
                    <a:pt x="198000" y="72530"/>
                    <a:pt x="270530" y="0"/>
                    <a:pt x="36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custGeom>
            <a:avLst/>
            <a:gdLst>
              <a:gd name="textAreaLeft" fmla="*/ 0 w 936360"/>
              <a:gd name="textAreaRight" fmla="*/ 936720 w 93636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936104" h="3996384">
                <a:moveTo>
                  <a:pt x="468052" y="0"/>
                </a:moveTo>
                <a:cubicBezTo>
                  <a:pt x="617451" y="0"/>
                  <a:pt x="738562" y="120883"/>
                  <a:pt x="738562" y="270000"/>
                </a:cubicBezTo>
                <a:lnTo>
                  <a:pt x="733111" y="323976"/>
                </a:lnTo>
                <a:lnTo>
                  <a:pt x="738562" y="323976"/>
                </a:lnTo>
                <a:lnTo>
                  <a:pt x="738562" y="3114787"/>
                </a:lnTo>
                <a:lnTo>
                  <a:pt x="799015" y="3166587"/>
                </a:lnTo>
                <a:cubicBezTo>
                  <a:pt x="883716" y="3254551"/>
                  <a:pt x="936104" y="3376072"/>
                  <a:pt x="936104" y="3510300"/>
                </a:cubicBezTo>
                <a:cubicBezTo>
                  <a:pt x="936104" y="3778757"/>
                  <a:pt x="726550" y="3996384"/>
                  <a:pt x="468052" y="3996384"/>
                </a:cubicBezTo>
                <a:cubicBezTo>
                  <a:pt x="209554" y="3996384"/>
                  <a:pt x="0" y="3778757"/>
                  <a:pt x="0" y="3510300"/>
                </a:cubicBezTo>
                <a:cubicBezTo>
                  <a:pt x="0" y="3376072"/>
                  <a:pt x="52388" y="3254551"/>
                  <a:pt x="137089" y="3166587"/>
                </a:cubicBezTo>
                <a:lnTo>
                  <a:pt x="198562" y="3113913"/>
                </a:lnTo>
                <a:lnTo>
                  <a:pt x="198562" y="323976"/>
                </a:lnTo>
                <a:lnTo>
                  <a:pt x="202994" y="323976"/>
                </a:lnTo>
                <a:lnTo>
                  <a:pt x="197542" y="270000"/>
                </a:lnTo>
                <a:cubicBezTo>
                  <a:pt x="197542" y="120883"/>
                  <a:pt x="318653" y="0"/>
                  <a:pt x="468052" y="0"/>
                </a:cubicBezTo>
                <a:close/>
              </a:path>
            </a:pathLst>
          </a:cu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custGeom>
            <a:avLst/>
            <a:gdLst>
              <a:gd name="textAreaLeft" fmla="*/ 0 w 720720"/>
              <a:gd name="textAreaRight" fmla="*/ 721080 w 720720"/>
              <a:gd name="textAreaTop" fmla="*/ 0 h 2955600"/>
              <a:gd name="textAreaBottom" fmla="*/ 2955960 h 2955600"/>
            </a:gdLst>
            <a:ahLst/>
            <a:rect l="textAreaLeft" t="textAreaTop" r="textAreaRight" b="textAreaBottom"/>
            <a:pathLst>
              <a:path w="720000" h="2955756">
                <a:moveTo>
                  <a:pt x="360000" y="0"/>
                </a:moveTo>
                <a:cubicBezTo>
                  <a:pt x="427110" y="0"/>
                  <a:pt x="484690" y="42329"/>
                  <a:pt x="509286" y="102654"/>
                </a:cubicBezTo>
                <a:lnTo>
                  <a:pt x="517336" y="144016"/>
                </a:lnTo>
                <a:lnTo>
                  <a:pt x="522018" y="144016"/>
                </a:lnTo>
                <a:lnTo>
                  <a:pt x="522018" y="168078"/>
                </a:lnTo>
                <a:lnTo>
                  <a:pt x="522018" y="2272616"/>
                </a:lnTo>
                <a:lnTo>
                  <a:pt x="561280" y="2294030"/>
                </a:lnTo>
                <a:cubicBezTo>
                  <a:pt x="657040" y="2359040"/>
                  <a:pt x="720000" y="2469133"/>
                  <a:pt x="720000" y="2594002"/>
                </a:cubicBezTo>
                <a:cubicBezTo>
                  <a:pt x="720000" y="2793793"/>
                  <a:pt x="558823" y="2955756"/>
                  <a:pt x="360000" y="2955756"/>
                </a:cubicBezTo>
                <a:cubicBezTo>
                  <a:pt x="161177" y="2955756"/>
                  <a:pt x="0" y="2793793"/>
                  <a:pt x="0" y="2594002"/>
                </a:cubicBezTo>
                <a:cubicBezTo>
                  <a:pt x="0" y="2469133"/>
                  <a:pt x="62960" y="2359040"/>
                  <a:pt x="158720" y="2294030"/>
                </a:cubicBezTo>
                <a:lnTo>
                  <a:pt x="198018" y="2272596"/>
                </a:lnTo>
                <a:lnTo>
                  <a:pt x="198018" y="168263"/>
                </a:lnTo>
                <a:lnTo>
                  <a:pt x="197982" y="168078"/>
                </a:lnTo>
                <a:lnTo>
                  <a:pt x="198018" y="167893"/>
                </a:lnTo>
                <a:lnTo>
                  <a:pt x="198018" y="144016"/>
                </a:lnTo>
                <a:lnTo>
                  <a:pt x="202665" y="144016"/>
                </a:lnTo>
                <a:lnTo>
                  <a:pt x="210714" y="102654"/>
                </a:lnTo>
                <a:cubicBezTo>
                  <a:pt x="235310" y="42329"/>
                  <a:pt x="292890" y="0"/>
                  <a:pt x="3600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custGeom>
            <a:avLst/>
            <a:gdLst>
              <a:gd name="textAreaLeft" fmla="*/ 0 w 9245520"/>
              <a:gd name="textAreaRight" fmla="*/ 9245880 w 924552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9245080" h="4397330">
                <a:moveTo>
                  <a:pt x="4536504" y="0"/>
                </a:moveTo>
                <a:cubicBezTo>
                  <a:pt x="5113089" y="0"/>
                  <a:pt x="5580504" y="467415"/>
                  <a:pt x="5580504" y="1044000"/>
                </a:cubicBezTo>
                <a:lnTo>
                  <a:pt x="5579928" y="1050102"/>
                </a:lnTo>
                <a:lnTo>
                  <a:pt x="5597171" y="1021918"/>
                </a:lnTo>
                <a:cubicBezTo>
                  <a:pt x="5955551" y="495176"/>
                  <a:pt x="6562462" y="148858"/>
                  <a:pt x="7250832" y="148858"/>
                </a:cubicBezTo>
                <a:cubicBezTo>
                  <a:pt x="8352225" y="148858"/>
                  <a:pt x="9245080" y="1035433"/>
                  <a:pt x="9245080" y="2129078"/>
                </a:cubicBezTo>
                <a:cubicBezTo>
                  <a:pt x="9245080" y="3222723"/>
                  <a:pt x="8352225" y="4109298"/>
                  <a:pt x="7250832" y="4109298"/>
                </a:cubicBezTo>
                <a:cubicBezTo>
                  <a:pt x="6149439" y="4109298"/>
                  <a:pt x="5256584" y="3222723"/>
                  <a:pt x="5256584" y="2129078"/>
                </a:cubicBezTo>
                <a:cubicBezTo>
                  <a:pt x="5256584" y="2060725"/>
                  <a:pt x="5260072" y="1993181"/>
                  <a:pt x="5266880" y="1926612"/>
                </a:cubicBezTo>
                <a:lnTo>
                  <a:pt x="5292235" y="1761650"/>
                </a:lnTo>
                <a:lnTo>
                  <a:pt x="5171148" y="1873020"/>
                </a:lnTo>
                <a:cubicBezTo>
                  <a:pt x="5021819" y="1987509"/>
                  <a:pt x="4840663" y="2062561"/>
                  <a:pt x="4643247" y="2082610"/>
                </a:cubicBezTo>
                <a:lnTo>
                  <a:pt x="4549906" y="2087323"/>
                </a:lnTo>
                <a:lnTo>
                  <a:pt x="4611207" y="2133163"/>
                </a:lnTo>
                <a:cubicBezTo>
                  <a:pt x="4895239" y="2367567"/>
                  <a:pt x="5076280" y="2722306"/>
                  <a:pt x="5076280" y="3119330"/>
                </a:cubicBezTo>
                <a:cubicBezTo>
                  <a:pt x="5076280" y="3825150"/>
                  <a:pt x="4504100" y="4397330"/>
                  <a:pt x="3798280" y="4397330"/>
                </a:cubicBezTo>
                <a:cubicBezTo>
                  <a:pt x="3092460" y="4397330"/>
                  <a:pt x="2520280" y="3825150"/>
                  <a:pt x="2520280" y="3119330"/>
                </a:cubicBezTo>
                <a:cubicBezTo>
                  <a:pt x="2520280" y="3075217"/>
                  <a:pt x="2522516" y="3031625"/>
                  <a:pt x="2526878" y="2988662"/>
                </a:cubicBezTo>
                <a:lnTo>
                  <a:pt x="2533624" y="2944463"/>
                </a:lnTo>
                <a:lnTo>
                  <a:pt x="2469630" y="2992317"/>
                </a:lnTo>
                <a:cubicBezTo>
                  <a:pt x="2216822" y="3163111"/>
                  <a:pt x="1912057" y="3262839"/>
                  <a:pt x="1584000" y="3262839"/>
                </a:cubicBezTo>
                <a:cubicBezTo>
                  <a:pt x="709181" y="3262839"/>
                  <a:pt x="0" y="2553658"/>
                  <a:pt x="0" y="1678839"/>
                </a:cubicBezTo>
                <a:cubicBezTo>
                  <a:pt x="0" y="804020"/>
                  <a:pt x="709181" y="94839"/>
                  <a:pt x="1584000" y="94839"/>
                </a:cubicBezTo>
                <a:cubicBezTo>
                  <a:pt x="2458819" y="94839"/>
                  <a:pt x="3168000" y="804020"/>
                  <a:pt x="3168000" y="1678839"/>
                </a:cubicBezTo>
                <a:cubicBezTo>
                  <a:pt x="3168000" y="1788192"/>
                  <a:pt x="3156919" y="1894956"/>
                  <a:pt x="3135819" y="1998070"/>
                </a:cubicBezTo>
                <a:lnTo>
                  <a:pt x="3126713" y="2033485"/>
                </a:lnTo>
                <a:lnTo>
                  <a:pt x="3189110" y="1995578"/>
                </a:lnTo>
                <a:cubicBezTo>
                  <a:pt x="3370194" y="1897207"/>
                  <a:pt x="3577712" y="1841330"/>
                  <a:pt x="3798280" y="1841330"/>
                </a:cubicBezTo>
                <a:lnTo>
                  <a:pt x="3867149" y="1844808"/>
                </a:lnTo>
                <a:lnTo>
                  <a:pt x="3798285" y="1782220"/>
                </a:lnTo>
                <a:cubicBezTo>
                  <a:pt x="3609358" y="1593293"/>
                  <a:pt x="3492504" y="1332293"/>
                  <a:pt x="3492504" y="1044000"/>
                </a:cubicBezTo>
                <a:cubicBezTo>
                  <a:pt x="3492504" y="467415"/>
                  <a:pt x="3959919" y="0"/>
                  <a:pt x="4536504" y="0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custGeom>
              <a:avLst/>
              <a:gdLst>
                <a:gd name="textAreaLeft" fmla="*/ 144720 w 1662120"/>
                <a:gd name="textAreaRight" fmla="*/ 1517400 w 1662120"/>
                <a:gd name="textAreaTop" fmla="*/ 4320 h 50040"/>
                <a:gd name="textAreaBottom" fmla="*/ 45720 h 5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custGeom>
              <a:avLst/>
              <a:gdLst>
                <a:gd name="textAreaLeft" fmla="*/ 18720 w 186840"/>
                <a:gd name="textAreaRight" fmla="*/ 168120 w 186840"/>
                <a:gd name="textAreaTop" fmla="*/ 2520 h 24840"/>
                <a:gd name="textAreaBottom" fmla="*/ 22320 h 2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27" y="21600"/>
                  </a:lnTo>
                  <a:lnTo>
                    <a:pt x="2087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5-03-02T03:16:05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