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9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5.gif" ContentType="image/gif"/>
  <Override PartName="/ppt/media/type.wav" ContentType="audio/x-wav"/>
  <Override PartName="/ppt/media/image6.jpeg" ContentType="image/jpeg"/>
  <Override PartName="/ppt/media/applause.wav" ContentType="audio/x-wav"/>
  <Override PartName="/ppt/media/image7.jpeg" ContentType="image/jpeg"/>
  <Override PartName="/ppt/media/clap.wav" ContentType="audio/x-wav"/>
  <Override PartName="/ppt/media/image16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3.png" ContentType="image/png"/>
  <Override PartName="/ppt/media/image19.gif" ContentType="image/gif"/>
  <Override PartName="/ppt/media/image14.jpeg" ContentType="image/jpeg"/>
  <Override PartName="/ppt/media/image15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D0D7-C9D2-4602-91DF-FE7E54BA7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C946-91D8-4A1B-B1CA-C58B068F2EF9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05D0-3350-43B0-8095-3C08C0EE9637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A8D8-5EDF-4A02-8626-9CB11F98C853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5009-A2EB-40EC-867B-44E340343097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5815-8A16-4D47-BB55-FC78025EC7EA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B531-872B-49F1-82F4-86E59B488250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219-8E7D-4961-91D8-7E114FBF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685-CD52-438E-96D0-46D2FB74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7A9-86E9-4BC3-9D3A-28B1D0BC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16B-2E5D-49DA-8D4B-CB72C3D3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8DF-D1F3-4D0C-A586-4CC48EAD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9A7C-82F5-4754-B9BF-889DC806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EAC1-B8A2-448D-8A87-9C57C2F0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CA00-E9BD-4081-B60A-0815C415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FC67-5996-4A84-A65C-EC4DE3E0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D2EA-A16D-4CA1-99E9-3B217768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7AC8-CCA5-44E7-B49D-A41253E4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656-5234-4805-8D8D-6F53C081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8154-1715-4A12-B2EF-82DA1092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4F9-058E-422A-8F36-5DBEF511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C158-C0CE-4007-A5C7-90F27931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AE7A-B9E1-4275-9691-F8D6FDCC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6917-0937-4A33-A050-1302863C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03A1-D4AE-4084-B5CC-72F264BF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4F6B-8DB0-4CE6-8764-632C655C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F5BAC-921A-4E7A-B518-1002AF8E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18296-0268-4258-8D26-7C08681A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5F47-5584-4E6B-8B03-679008AD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6A0-FF4E-4D18-B759-16DB027A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E579A-0F38-485A-BF2E-500B768E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5F03-4F75-4239-A4E5-6881E8CA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2941D-D9AF-4DFB-8D67-199A4211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733A-0EC3-4059-BDF3-B4122E3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EADA-A23C-471D-815A-A42363E4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43538-2547-4151-B8F4-9CD470D9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97560-0688-437F-B673-9175AFB8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8C91-B989-4DF1-A783-036A9FBE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68568-463B-4E30-9905-DE3CA4A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9CB0-02AE-40C2-86EB-F361D67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CDA-2418-45B8-BE37-6874CC3B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C5D7-24AB-4482-A867-69EF11F6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9FDBF-2804-424D-AF39-79B4A485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C467F-1A7C-435C-91A2-DABAEAA0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25C5-95C0-4F16-8417-C102C894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A4BC-09CF-4959-BFED-DDAAEFD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95B1-1AAC-4180-BD61-124582E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29139-5F77-4682-AE0D-2F9E0710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06DD-B24E-42E3-B1D3-58D3CDEA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1B1D-B567-455B-9E96-D53F344D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EB1-0CD3-4B2A-A71E-84D0EA0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F28-4700-48A4-898E-6A6300CF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17D-F73F-4E92-9107-74965DC2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03E-EC30-475B-AC78-8EE09B1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687-136E-4463-9AA6-6FF3105D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96DA-0D53-4A7E-AB6A-9A2DE727505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9AED-724D-488C-A8E5-26B54ACF6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2010240" y="245880"/>
            <a:ext cx="6896880" cy="5451840"/>
            <a:chOff x="2010240" y="245880"/>
            <a:chExt cx="6896880" cy="5451840"/>
          </a:xfrm>
        </p:grpSpPr>
        <p:grpSp>
          <p:nvGrpSpPr>
            <p:cNvPr id="222" name="Group 3"/>
            <p:cNvGrpSpPr/>
            <p:nvPr/>
          </p:nvGrpSpPr>
          <p:grpSpPr>
            <a:xfrm>
              <a:off x="3483000" y="954720"/>
              <a:ext cx="946080" cy="708480"/>
              <a:chOff x="3483000" y="954720"/>
              <a:chExt cx="946080" cy="708480"/>
            </a:xfrm>
          </p:grpSpPr>
          <p:sp>
            <p:nvSpPr>
              <p:cNvPr id="223" name="Oval 4"/>
              <p:cNvSpPr/>
              <p:nvPr/>
            </p:nvSpPr>
            <p:spPr>
              <a:xfrm>
                <a:off x="3483000" y="954720"/>
                <a:ext cx="946080" cy="708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24" name="Oval 5"/>
              <p:cNvSpPr/>
              <p:nvPr/>
            </p:nvSpPr>
            <p:spPr>
              <a:xfrm>
                <a:off x="3822840" y="1265760"/>
                <a:ext cx="230400" cy="131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6"/>
            <p:cNvGrpSpPr/>
            <p:nvPr/>
          </p:nvGrpSpPr>
          <p:grpSpPr>
            <a:xfrm>
              <a:off x="2010240" y="245880"/>
              <a:ext cx="6896880" cy="5451840"/>
              <a:chOff x="2010240" y="245880"/>
              <a:chExt cx="6896880" cy="5451840"/>
            </a:xfrm>
          </p:grpSpPr>
          <p:grpSp>
            <p:nvGrpSpPr>
              <p:cNvPr id="226" name="Group 7"/>
              <p:cNvGrpSpPr/>
              <p:nvPr/>
            </p:nvGrpSpPr>
            <p:grpSpPr>
              <a:xfrm>
                <a:off x="2010240" y="245880"/>
                <a:ext cx="6891840" cy="5451840"/>
                <a:chOff x="2010240" y="245880"/>
                <a:chExt cx="6891840" cy="5451840"/>
              </a:xfrm>
            </p:grpSpPr>
            <p:grpSp>
              <p:nvGrpSpPr>
                <p:cNvPr id="227" name="Group 8"/>
                <p:cNvGrpSpPr/>
                <p:nvPr/>
              </p:nvGrpSpPr>
              <p:grpSpPr>
                <a:xfrm>
                  <a:off x="3735720" y="1263600"/>
                  <a:ext cx="3601800" cy="2651760"/>
                  <a:chOff x="3735720" y="1263600"/>
                  <a:chExt cx="3601800" cy="2651760"/>
                </a:xfrm>
              </p:grpSpPr>
              <p:sp>
                <p:nvSpPr>
                  <p:cNvPr id="228" name="Oval 9"/>
                  <p:cNvSpPr/>
                  <p:nvPr/>
                </p:nvSpPr>
                <p:spPr>
                  <a:xfrm>
                    <a:off x="3735720" y="1263600"/>
                    <a:ext cx="3601800" cy="2651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10"/>
                  <p:cNvSpPr/>
                  <p:nvPr/>
                </p:nvSpPr>
                <p:spPr>
                  <a:xfrm>
                    <a:off x="5110560" y="2235240"/>
                    <a:ext cx="71388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11"/>
                <p:cNvGrpSpPr/>
                <p:nvPr/>
              </p:nvGrpSpPr>
              <p:grpSpPr>
                <a:xfrm>
                  <a:off x="2010240" y="245880"/>
                  <a:ext cx="6891840" cy="5451840"/>
                  <a:chOff x="2010240" y="245880"/>
                  <a:chExt cx="6891840" cy="5451840"/>
                </a:xfrm>
              </p:grpSpPr>
              <p:grpSp>
                <p:nvGrpSpPr>
                  <p:cNvPr id="231" name="Group 12"/>
                  <p:cNvGrpSpPr/>
                  <p:nvPr/>
                </p:nvGrpSpPr>
                <p:grpSpPr>
                  <a:xfrm>
                    <a:off x="5762880" y="2320560"/>
                    <a:ext cx="2557800" cy="2736000"/>
                    <a:chOff x="5762880" y="2320560"/>
                    <a:chExt cx="2557800" cy="2736000"/>
                  </a:xfrm>
                </p:grpSpPr>
                <p:sp>
                  <p:nvSpPr>
                    <p:cNvPr id="232" name="Freeform 13"/>
                    <p:cNvSpPr/>
                    <p:nvPr/>
                  </p:nvSpPr>
                  <p:spPr>
                    <a:xfrm rot="2711400">
                      <a:off x="5585040" y="3018240"/>
                      <a:ext cx="212760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Freeform 14"/>
                    <p:cNvSpPr/>
                    <p:nvPr/>
                  </p:nvSpPr>
                  <p:spPr>
                    <a:xfrm rot="2711400">
                      <a:off x="7135920" y="4137480"/>
                      <a:ext cx="11383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Group 15"/>
                  <p:cNvGrpSpPr/>
                  <p:nvPr/>
                </p:nvGrpSpPr>
                <p:grpSpPr>
                  <a:xfrm>
                    <a:off x="5788080" y="2148840"/>
                    <a:ext cx="3040560" cy="2528640"/>
                    <a:chOff x="5788080" y="2148840"/>
                    <a:chExt cx="3040560" cy="2528640"/>
                  </a:xfrm>
                </p:grpSpPr>
                <p:sp>
                  <p:nvSpPr>
                    <p:cNvPr id="235" name="Freeform 16"/>
                    <p:cNvSpPr/>
                    <p:nvPr/>
                  </p:nvSpPr>
                  <p:spPr>
                    <a:xfrm rot="2103600">
                      <a:off x="5707080" y="2752560"/>
                      <a:ext cx="223668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Freeform 17"/>
                    <p:cNvSpPr/>
                    <p:nvPr/>
                  </p:nvSpPr>
                  <p:spPr>
                    <a:xfrm rot="2103600">
                      <a:off x="7542000" y="371916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Group 18"/>
                  <p:cNvGrpSpPr/>
                  <p:nvPr/>
                </p:nvGrpSpPr>
                <p:grpSpPr>
                  <a:xfrm>
                    <a:off x="5775480" y="2064960"/>
                    <a:ext cx="3097080" cy="1992240"/>
                    <a:chOff x="5775480" y="2064960"/>
                    <a:chExt cx="3097080" cy="1992240"/>
                  </a:xfrm>
                </p:grpSpPr>
                <p:sp>
                  <p:nvSpPr>
                    <p:cNvPr id="238" name="Freeform 19"/>
                    <p:cNvSpPr/>
                    <p:nvPr/>
                  </p:nvSpPr>
                  <p:spPr>
                    <a:xfrm rot="1582800">
                      <a:off x="5747400" y="2520360"/>
                      <a:ext cx="2139480" cy="37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Group 21"/>
                  <p:cNvGrpSpPr/>
                  <p:nvPr/>
                </p:nvGrpSpPr>
                <p:grpSpPr>
                  <a:xfrm>
                    <a:off x="5767920" y="1968480"/>
                    <a:ext cx="3134160" cy="1607040"/>
                    <a:chOff x="5767920" y="1968480"/>
                    <a:chExt cx="3134160" cy="1607040"/>
                  </a:xfrm>
                </p:grpSpPr>
                <p:sp>
                  <p:nvSpPr>
                    <p:cNvPr id="241" name="Freeform 22"/>
                    <p:cNvSpPr/>
                    <p:nvPr/>
                  </p:nvSpPr>
                  <p:spPr>
                    <a:xfrm rot="1080000">
                      <a:off x="5780880" y="2277720"/>
                      <a:ext cx="2067480" cy="41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Freeform 23"/>
                    <p:cNvSpPr/>
                    <p:nvPr/>
                  </p:nvSpPr>
                  <p:spPr>
                    <a:xfrm rot="1080000">
                      <a:off x="7718400" y="2770920"/>
                      <a:ext cx="1110600" cy="648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Group 24"/>
                  <p:cNvGrpSpPr/>
                  <p:nvPr/>
                </p:nvGrpSpPr>
                <p:grpSpPr>
                  <a:xfrm>
                    <a:off x="5805720" y="1878840"/>
                    <a:ext cx="2937960" cy="997920"/>
                    <a:chOff x="5805720" y="1878840"/>
                    <a:chExt cx="2937960" cy="997920"/>
                  </a:xfrm>
                </p:grpSpPr>
                <p:sp>
                  <p:nvSpPr>
                    <p:cNvPr id="244" name="Freeform 25"/>
                    <p:cNvSpPr/>
                    <p:nvPr/>
                  </p:nvSpPr>
                  <p:spPr>
                    <a:xfrm rot="463200">
                      <a:off x="5822640" y="2004840"/>
                      <a:ext cx="19047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Freeform 26"/>
                    <p:cNvSpPr/>
                    <p:nvPr/>
                  </p:nvSpPr>
                  <p:spPr>
                    <a:xfrm rot="463200">
                      <a:off x="7686000" y="2210400"/>
                      <a:ext cx="1022040" cy="600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Group 27"/>
                  <p:cNvGrpSpPr/>
                  <p:nvPr/>
                </p:nvGrpSpPr>
                <p:grpSpPr>
                  <a:xfrm>
                    <a:off x="5851080" y="1812240"/>
                    <a:ext cx="2658960" cy="444600"/>
                    <a:chOff x="5851080" y="1812240"/>
                    <a:chExt cx="2658960" cy="444600"/>
                  </a:xfrm>
                </p:grpSpPr>
                <p:sp>
                  <p:nvSpPr>
                    <p:cNvPr id="247" name="Freeform 28"/>
                    <p:cNvSpPr/>
                    <p:nvPr/>
                  </p:nvSpPr>
                  <p:spPr>
                    <a:xfrm rot="21515400">
                      <a:off x="5853960" y="1848960"/>
                      <a:ext cx="1730880" cy="27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Freeform 29"/>
                    <p:cNvSpPr/>
                    <p:nvPr/>
                  </p:nvSpPr>
                  <p:spPr>
                    <a:xfrm rot="21515400">
                      <a:off x="7575480" y="1823760"/>
                      <a:ext cx="929520" cy="42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Group 30"/>
                  <p:cNvGrpSpPr/>
                  <p:nvPr/>
                </p:nvGrpSpPr>
                <p:grpSpPr>
                  <a:xfrm>
                    <a:off x="5788440" y="1304280"/>
                    <a:ext cx="2364120" cy="786960"/>
                    <a:chOff x="5788440" y="1304280"/>
                    <a:chExt cx="2364120" cy="786960"/>
                  </a:xfrm>
                </p:grpSpPr>
                <p:sp>
                  <p:nvSpPr>
                    <p:cNvPr id="250" name="Freeform 31"/>
                    <p:cNvSpPr/>
                    <p:nvPr/>
                  </p:nvSpPr>
                  <p:spPr>
                    <a:xfrm rot="20797200">
                      <a:off x="5798160" y="165384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Freeform 32"/>
                    <p:cNvSpPr/>
                    <p:nvPr/>
                  </p:nvSpPr>
                  <p:spPr>
                    <a:xfrm rot="20797200">
                      <a:off x="7299000" y="1392840"/>
                      <a:ext cx="81648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Group 33"/>
                  <p:cNvGrpSpPr/>
                  <p:nvPr/>
                </p:nvGrpSpPr>
                <p:grpSpPr>
                  <a:xfrm>
                    <a:off x="2646000" y="2475000"/>
                    <a:ext cx="2557080" cy="2739240"/>
                    <a:chOff x="2646000" y="2475000"/>
                    <a:chExt cx="2557080" cy="2739240"/>
                  </a:xfrm>
                </p:grpSpPr>
                <p:sp>
                  <p:nvSpPr>
                    <p:cNvPr id="253" name="Freeform 34"/>
                    <p:cNvSpPr/>
                    <p:nvPr/>
                  </p:nvSpPr>
                  <p:spPr>
                    <a:xfrm flipH="1" rot="18888600">
                      <a:off x="3254760" y="3171600"/>
                      <a:ext cx="21250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Freeform 35"/>
                    <p:cNvSpPr/>
                    <p:nvPr/>
                  </p:nvSpPr>
                  <p:spPr>
                    <a:xfrm flipH="1" rot="18888600">
                      <a:off x="2691000" y="429408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Group 36"/>
                  <p:cNvGrpSpPr/>
                  <p:nvPr/>
                </p:nvGrpSpPr>
                <p:grpSpPr>
                  <a:xfrm>
                    <a:off x="2086920" y="2364840"/>
                    <a:ext cx="3040560" cy="2533320"/>
                    <a:chOff x="2086920" y="2364840"/>
                    <a:chExt cx="3040560" cy="2533320"/>
                  </a:xfrm>
                </p:grpSpPr>
                <p:sp>
                  <p:nvSpPr>
                    <p:cNvPr id="256" name="Freeform 37"/>
                    <p:cNvSpPr/>
                    <p:nvPr/>
                  </p:nvSpPr>
                  <p:spPr>
                    <a:xfrm flipH="1" rot="19496400">
                      <a:off x="2969280" y="2967840"/>
                      <a:ext cx="2236680" cy="431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Freeform 38"/>
                    <p:cNvSpPr/>
                    <p:nvPr/>
                  </p:nvSpPr>
                  <p:spPr>
                    <a:xfrm flipH="1" rot="19496400">
                      <a:off x="2171160" y="3939840"/>
                      <a:ext cx="1202040" cy="674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" name="Group 39"/>
                  <p:cNvGrpSpPr/>
                  <p:nvPr/>
                </p:nvGrpSpPr>
                <p:grpSpPr>
                  <a:xfrm>
                    <a:off x="2040480" y="2282040"/>
                    <a:ext cx="3093480" cy="1991520"/>
                    <a:chOff x="2040480" y="2282040"/>
                    <a:chExt cx="3093480" cy="1991520"/>
                  </a:xfrm>
                </p:grpSpPr>
                <p:sp>
                  <p:nvSpPr>
                    <p:cNvPr id="259" name="Freeform 40"/>
                    <p:cNvSpPr/>
                    <p:nvPr/>
                  </p:nvSpPr>
                  <p:spPr>
                    <a:xfrm flipH="1" rot="20017200">
                      <a:off x="3023640" y="2737440"/>
                      <a:ext cx="2138040" cy="373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Freeform 41"/>
                    <p:cNvSpPr/>
                    <p:nvPr/>
                  </p:nvSpPr>
                  <p:spPr>
                    <a:xfrm flipH="1" rot="20017200">
                      <a:off x="2110320" y="3462840"/>
                      <a:ext cx="1149120" cy="585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1" name="Group 42"/>
                  <p:cNvGrpSpPr/>
                  <p:nvPr/>
                </p:nvGrpSpPr>
                <p:grpSpPr>
                  <a:xfrm>
                    <a:off x="2010240" y="2189160"/>
                    <a:ext cx="3132720" cy="1610640"/>
                    <a:chOff x="2010240" y="2189160"/>
                    <a:chExt cx="3132720" cy="1610640"/>
                  </a:xfrm>
                </p:grpSpPr>
                <p:sp>
                  <p:nvSpPr>
                    <p:cNvPr id="262" name="Freeform 43"/>
                    <p:cNvSpPr/>
                    <p:nvPr/>
                  </p:nvSpPr>
                  <p:spPr>
                    <a:xfrm flipH="1" rot="20520000">
                      <a:off x="3063240" y="2498040"/>
                      <a:ext cx="2066400" cy="413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Freeform 44"/>
                    <p:cNvSpPr/>
                    <p:nvPr/>
                  </p:nvSpPr>
                  <p:spPr>
                    <a:xfrm flipH="1" rot="20520000">
                      <a:off x="2083680" y="2990520"/>
                      <a:ext cx="1110600" cy="65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" name="Group 45"/>
                  <p:cNvGrpSpPr/>
                  <p:nvPr/>
                </p:nvGrpSpPr>
                <p:grpSpPr>
                  <a:xfrm>
                    <a:off x="2169000" y="2094840"/>
                    <a:ext cx="2937960" cy="999000"/>
                    <a:chOff x="2169000" y="2094840"/>
                    <a:chExt cx="2937960" cy="999000"/>
                  </a:xfrm>
                </p:grpSpPr>
                <p:sp>
                  <p:nvSpPr>
                    <p:cNvPr id="265" name="Freeform 46"/>
                    <p:cNvSpPr/>
                    <p:nvPr/>
                  </p:nvSpPr>
                  <p:spPr>
                    <a:xfrm flipH="1" rot="21136800">
                      <a:off x="3184560" y="2220840"/>
                      <a:ext cx="190476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Freeform 47"/>
                    <p:cNvSpPr/>
                    <p:nvPr/>
                  </p:nvSpPr>
                  <p:spPr>
                    <a:xfrm flipH="1" rot="21136800">
                      <a:off x="2204280" y="2427480"/>
                      <a:ext cx="1022040" cy="600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48"/>
                  <p:cNvGrpSpPr/>
                  <p:nvPr/>
                </p:nvGrpSpPr>
                <p:grpSpPr>
                  <a:xfrm>
                    <a:off x="2403720" y="2030760"/>
                    <a:ext cx="2656800" cy="448200"/>
                    <a:chOff x="2403720" y="2030760"/>
                    <a:chExt cx="2656800" cy="448200"/>
                  </a:xfrm>
                </p:grpSpPr>
                <p:sp>
                  <p:nvSpPr>
                    <p:cNvPr id="268" name="Freeform 49"/>
                    <p:cNvSpPr/>
                    <p:nvPr/>
                  </p:nvSpPr>
                  <p:spPr>
                    <a:xfrm flipH="1" rot="84600">
                      <a:off x="3327480" y="2067840"/>
                      <a:ext cx="172980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5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Group 51"/>
                  <p:cNvGrpSpPr/>
                  <p:nvPr/>
                </p:nvGrpSpPr>
                <p:grpSpPr>
                  <a:xfrm>
                    <a:off x="2760480" y="1520280"/>
                    <a:ext cx="2364840" cy="787320"/>
                    <a:chOff x="2760480" y="1520280"/>
                    <a:chExt cx="2364840" cy="787320"/>
                  </a:xfrm>
                </p:grpSpPr>
                <p:sp>
                  <p:nvSpPr>
                    <p:cNvPr id="271" name="Freeform 52"/>
                    <p:cNvSpPr/>
                    <p:nvPr/>
                  </p:nvSpPr>
                  <p:spPr>
                    <a:xfrm flipH="1" rot="802800">
                      <a:off x="3595680" y="187020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" name="Group 54"/>
                  <p:cNvGrpSpPr/>
                  <p:nvPr/>
                </p:nvGrpSpPr>
                <p:grpSpPr>
                  <a:xfrm>
                    <a:off x="2887560" y="1236960"/>
                    <a:ext cx="2324880" cy="1082880"/>
                    <a:chOff x="2887560" y="1236960"/>
                    <a:chExt cx="2324880" cy="1082880"/>
                  </a:xfrm>
                </p:grpSpPr>
                <p:sp>
                  <p:nvSpPr>
                    <p:cNvPr id="274" name="Freeform 55"/>
                    <p:cNvSpPr/>
                    <p:nvPr/>
                  </p:nvSpPr>
                  <p:spPr>
                    <a:xfrm flipH="1" rot="1278000">
                      <a:off x="3695760" y="17874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57"/>
                  <p:cNvGrpSpPr/>
                  <p:nvPr/>
                </p:nvGrpSpPr>
                <p:grpSpPr>
                  <a:xfrm>
                    <a:off x="3161520" y="830160"/>
                    <a:ext cx="2169360" cy="1508040"/>
                    <a:chOff x="3161520" y="830160"/>
                    <a:chExt cx="2169360" cy="1508040"/>
                  </a:xfrm>
                </p:grpSpPr>
                <p:sp>
                  <p:nvSpPr>
                    <p:cNvPr id="277" name="Freeform 58"/>
                    <p:cNvSpPr/>
                    <p:nvPr/>
                  </p:nvSpPr>
                  <p:spPr>
                    <a:xfrm flipH="1" rot="2028600">
                      <a:off x="3866040" y="16725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Freeform 59"/>
                    <p:cNvSpPr/>
                    <p:nvPr/>
                  </p:nvSpPr>
                  <p:spPr>
                    <a:xfrm flipH="1" rot="2028600">
                      <a:off x="3207600" y="1022040"/>
                      <a:ext cx="8161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" name="Group 60"/>
                  <p:cNvGrpSpPr/>
                  <p:nvPr/>
                </p:nvGrpSpPr>
                <p:grpSpPr>
                  <a:xfrm>
                    <a:off x="3437640" y="432720"/>
                    <a:ext cx="1987200" cy="1832400"/>
                    <a:chOff x="3437640" y="432720"/>
                    <a:chExt cx="1987200" cy="1832400"/>
                  </a:xfrm>
                </p:grpSpPr>
                <p:sp>
                  <p:nvSpPr>
                    <p:cNvPr id="280" name="Freeform 61"/>
                    <p:cNvSpPr/>
                    <p:nvPr/>
                  </p:nvSpPr>
                  <p:spPr>
                    <a:xfrm flipH="1" rot="2664600">
                      <a:off x="4009680" y="149832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Freeform 62"/>
                    <p:cNvSpPr/>
                    <p:nvPr/>
                  </p:nvSpPr>
                  <p:spPr>
                    <a:xfrm flipH="1" rot="2664600">
                      <a:off x="3464280" y="6631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2" name="Group 63"/>
                  <p:cNvGrpSpPr/>
                  <p:nvPr/>
                </p:nvGrpSpPr>
                <p:grpSpPr>
                  <a:xfrm>
                    <a:off x="4026240" y="332280"/>
                    <a:ext cx="1460520" cy="1890360"/>
                    <a:chOff x="4026240" y="332280"/>
                    <a:chExt cx="1460520" cy="1890360"/>
                  </a:xfrm>
                </p:grpSpPr>
                <p:sp>
                  <p:nvSpPr>
                    <p:cNvPr id="283" name="Freeform 64"/>
                    <p:cNvSpPr/>
                    <p:nvPr/>
                  </p:nvSpPr>
                  <p:spPr>
                    <a:xfrm flipH="1" rot="3474000">
                      <a:off x="4335840" y="1445400"/>
                      <a:ext cx="13561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Freeform 65"/>
                    <p:cNvSpPr/>
                    <p:nvPr/>
                  </p:nvSpPr>
                  <p:spPr>
                    <a:xfrm flipH="1" rot="3474000">
                      <a:off x="4030560" y="544320"/>
                      <a:ext cx="7300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66"/>
                  <p:cNvGrpSpPr/>
                  <p:nvPr/>
                </p:nvGrpSpPr>
                <p:grpSpPr>
                  <a:xfrm>
                    <a:off x="4449600" y="245880"/>
                    <a:ext cx="1117800" cy="1948320"/>
                    <a:chOff x="4449600" y="245880"/>
                    <a:chExt cx="1117800" cy="1948320"/>
                  </a:xfrm>
                </p:grpSpPr>
                <p:sp>
                  <p:nvSpPr>
                    <p:cNvPr id="286" name="Freeform 67"/>
                    <p:cNvSpPr/>
                    <p:nvPr/>
                  </p:nvSpPr>
                  <p:spPr>
                    <a:xfrm flipH="1" rot="4126800">
                      <a:off x="4551840" y="1403280"/>
                      <a:ext cx="130896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Freeform 68"/>
                    <p:cNvSpPr/>
                    <p:nvPr/>
                  </p:nvSpPr>
                  <p:spPr>
                    <a:xfrm flipH="1" rot="4126800">
                      <a:off x="4417920" y="441360"/>
                      <a:ext cx="702720" cy="414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Group 69"/>
                  <p:cNvGrpSpPr/>
                  <p:nvPr/>
                </p:nvGrpSpPr>
                <p:grpSpPr>
                  <a:xfrm>
                    <a:off x="5663880" y="950400"/>
                    <a:ext cx="2317680" cy="1112040"/>
                    <a:chOff x="5663880" y="950400"/>
                    <a:chExt cx="2317680" cy="1112040"/>
                  </a:xfrm>
                </p:grpSpPr>
                <p:sp>
                  <p:nvSpPr>
                    <p:cNvPr id="289" name="Freeform 70"/>
                    <p:cNvSpPr/>
                    <p:nvPr/>
                  </p:nvSpPr>
                  <p:spPr>
                    <a:xfrm rot="20274000">
                      <a:off x="5657760" y="152136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Freeform 71"/>
                    <p:cNvSpPr/>
                    <p:nvPr/>
                  </p:nvSpPr>
                  <p:spPr>
                    <a:xfrm rot="20274000">
                      <a:off x="7116120" y="108828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" name="Group 72"/>
                  <p:cNvGrpSpPr/>
                  <p:nvPr/>
                </p:nvGrpSpPr>
                <p:grpSpPr>
                  <a:xfrm>
                    <a:off x="5529600" y="623880"/>
                    <a:ext cx="2198880" cy="1450800"/>
                    <a:chOff x="5529600" y="623880"/>
                    <a:chExt cx="2198880" cy="1450800"/>
                  </a:xfrm>
                </p:grpSpPr>
                <p:sp>
                  <p:nvSpPr>
                    <p:cNvPr id="292" name="Freeform 73"/>
                    <p:cNvSpPr/>
                    <p:nvPr/>
                  </p:nvSpPr>
                  <p:spPr>
                    <a:xfrm rot="19678800">
                      <a:off x="5484240" y="1427040"/>
                      <a:ext cx="15188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Freeform 74"/>
                    <p:cNvSpPr/>
                    <p:nvPr/>
                  </p:nvSpPr>
                  <p:spPr>
                    <a:xfrm rot="19678800">
                      <a:off x="6863760" y="80820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4" name="Freeform 75"/>
                  <p:cNvSpPr/>
                  <p:nvPr/>
                </p:nvSpPr>
                <p:spPr>
                  <a:xfrm flipH="1" rot="4578600">
                    <a:off x="4765680" y="1466640"/>
                    <a:ext cx="12628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Freeform 76"/>
                  <p:cNvSpPr/>
                  <p:nvPr/>
                </p:nvSpPr>
                <p:spPr>
                  <a:xfrm flipH="1" rot="4578600">
                    <a:off x="4792680" y="536760"/>
                    <a:ext cx="67860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" name="Group 77"/>
                  <p:cNvGrpSpPr/>
                  <p:nvPr/>
                </p:nvGrpSpPr>
                <p:grpSpPr>
                  <a:xfrm>
                    <a:off x="5355360" y="268560"/>
                    <a:ext cx="1197000" cy="1901520"/>
                    <a:chOff x="5355360" y="268560"/>
                    <a:chExt cx="1197000" cy="1901520"/>
                  </a:xfrm>
                </p:grpSpPr>
                <p:sp>
                  <p:nvSpPr>
                    <p:cNvPr id="297" name="Freeform 78"/>
                    <p:cNvSpPr/>
                    <p:nvPr/>
                  </p:nvSpPr>
                  <p:spPr>
                    <a:xfrm rot="17742000">
                      <a:off x="5085720" y="1416240"/>
                      <a:ext cx="13118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Freeform 79"/>
                    <p:cNvSpPr/>
                    <p:nvPr/>
                  </p:nvSpPr>
                  <p:spPr>
                    <a:xfrm rot="17742000">
                      <a:off x="5885640" y="484200"/>
                      <a:ext cx="704160" cy="358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Group 80"/>
                  <p:cNvGrpSpPr/>
                  <p:nvPr/>
                </p:nvGrpSpPr>
                <p:grpSpPr>
                  <a:xfrm>
                    <a:off x="5352120" y="385560"/>
                    <a:ext cx="1887120" cy="1796760"/>
                    <a:chOff x="5352120" y="385560"/>
                    <a:chExt cx="1887120" cy="1796760"/>
                  </a:xfrm>
                </p:grpSpPr>
                <p:sp>
                  <p:nvSpPr>
                    <p:cNvPr id="300" name="Freeform 81"/>
                    <p:cNvSpPr/>
                    <p:nvPr/>
                  </p:nvSpPr>
                  <p:spPr>
                    <a:xfrm rot="18822600">
                      <a:off x="5252040" y="1386000"/>
                      <a:ext cx="14256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Freeform 82"/>
                    <p:cNvSpPr/>
                    <p:nvPr/>
                  </p:nvSpPr>
                  <p:spPr>
                    <a:xfrm rot="18822600">
                      <a:off x="6400800" y="581400"/>
                      <a:ext cx="767160" cy="52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Group 83"/>
                  <p:cNvGrpSpPr/>
                  <p:nvPr/>
                </p:nvGrpSpPr>
                <p:grpSpPr>
                  <a:xfrm>
                    <a:off x="5459040" y="290160"/>
                    <a:ext cx="424440" cy="1796760"/>
                    <a:chOff x="5459040" y="290160"/>
                    <a:chExt cx="424440" cy="1796760"/>
                  </a:xfrm>
                </p:grpSpPr>
                <p:sp>
                  <p:nvSpPr>
                    <p:cNvPr id="303" name="Freeform 84"/>
                    <p:cNvSpPr/>
                    <p:nvPr/>
                  </p:nvSpPr>
                  <p:spPr>
                    <a:xfrm rot="16696200">
                      <a:off x="5006520" y="1443240"/>
                      <a:ext cx="117864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Freeform 85"/>
                    <p:cNvSpPr/>
                    <p:nvPr/>
                  </p:nvSpPr>
                  <p:spPr>
                    <a:xfrm rot="16696200">
                      <a:off x="5440680" y="530280"/>
                      <a:ext cx="6296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Group 86"/>
                  <p:cNvGrpSpPr/>
                  <p:nvPr/>
                </p:nvGrpSpPr>
                <p:grpSpPr>
                  <a:xfrm>
                    <a:off x="3067560" y="2529360"/>
                    <a:ext cx="2192040" cy="2994480"/>
                    <a:chOff x="3067560" y="2529360"/>
                    <a:chExt cx="2192040" cy="2994480"/>
                  </a:xfrm>
                </p:grpSpPr>
                <p:sp>
                  <p:nvSpPr>
                    <p:cNvPr id="306" name="Freeform 87"/>
                    <p:cNvSpPr/>
                    <p:nvPr/>
                  </p:nvSpPr>
                  <p:spPr>
                    <a:xfrm flipH="1" rot="18336000">
                      <a:off x="3421440" y="3312360"/>
                      <a:ext cx="21247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Freeform 88"/>
                    <p:cNvSpPr/>
                    <p:nvPr/>
                  </p:nvSpPr>
                  <p:spPr>
                    <a:xfrm flipH="1" rot="18336000">
                      <a:off x="3075120" y="4583160"/>
                      <a:ext cx="11379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" name="Group 89"/>
                  <p:cNvGrpSpPr/>
                  <p:nvPr/>
                </p:nvGrpSpPr>
                <p:grpSpPr>
                  <a:xfrm>
                    <a:off x="3791160" y="2648520"/>
                    <a:ext cx="1483560" cy="2998800"/>
                    <a:chOff x="3791160" y="2648520"/>
                    <a:chExt cx="1483560" cy="2998800"/>
                  </a:xfrm>
                </p:grpSpPr>
                <p:sp>
                  <p:nvSpPr>
                    <p:cNvPr id="309" name="Freeform 90"/>
                    <p:cNvSpPr/>
                    <p:nvPr/>
                  </p:nvSpPr>
                  <p:spPr>
                    <a:xfrm flipH="1" rot="17543400">
                      <a:off x="3737520" y="3438720"/>
                      <a:ext cx="19681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Freeform 91"/>
                    <p:cNvSpPr/>
                    <p:nvPr/>
                  </p:nvSpPr>
                  <p:spPr>
                    <a:xfrm flipH="1" rot="17543400">
                      <a:off x="3742200" y="4744080"/>
                      <a:ext cx="1055520" cy="601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Group 92"/>
                  <p:cNvGrpSpPr/>
                  <p:nvPr/>
                </p:nvGrpSpPr>
                <p:grpSpPr>
                  <a:xfrm>
                    <a:off x="4505400" y="2694240"/>
                    <a:ext cx="869040" cy="2925720"/>
                    <a:chOff x="4505400" y="2694240"/>
                    <a:chExt cx="869040" cy="2925720"/>
                  </a:xfrm>
                </p:grpSpPr>
                <p:sp>
                  <p:nvSpPr>
                    <p:cNvPr id="312" name="Freeform 93"/>
                    <p:cNvSpPr/>
                    <p:nvPr/>
                  </p:nvSpPr>
                  <p:spPr>
                    <a:xfrm flipH="1" rot="16870800">
                      <a:off x="4080240" y="3479040"/>
                      <a:ext cx="1884240" cy="345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Freeform 94"/>
                    <p:cNvSpPr/>
                    <p:nvPr/>
                  </p:nvSpPr>
                  <p:spPr>
                    <a:xfrm flipH="1" rot="16870800">
                      <a:off x="4362120" y="4800240"/>
                      <a:ext cx="1011960" cy="541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Group 95"/>
                  <p:cNvGrpSpPr/>
                  <p:nvPr/>
                </p:nvGrpSpPr>
                <p:grpSpPr>
                  <a:xfrm>
                    <a:off x="5675760" y="2484360"/>
                    <a:ext cx="2280240" cy="2948040"/>
                    <a:chOff x="5675760" y="2484360"/>
                    <a:chExt cx="2280240" cy="2948040"/>
                  </a:xfrm>
                </p:grpSpPr>
                <p:sp>
                  <p:nvSpPr>
                    <p:cNvPr id="315" name="Freeform 96"/>
                    <p:cNvSpPr/>
                    <p:nvPr/>
                  </p:nvSpPr>
                  <p:spPr>
                    <a:xfrm rot="3144000">
                      <a:off x="5414400" y="3250800"/>
                      <a:ext cx="21247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Freeform 97"/>
                    <p:cNvSpPr/>
                    <p:nvPr/>
                  </p:nvSpPr>
                  <p:spPr>
                    <a:xfrm rot="3144000">
                      <a:off x="6800760" y="4496040"/>
                      <a:ext cx="11383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Group 98"/>
                  <p:cNvGrpSpPr/>
                  <p:nvPr/>
                </p:nvGrpSpPr>
                <p:grpSpPr>
                  <a:xfrm>
                    <a:off x="5646960" y="2594880"/>
                    <a:ext cx="1758240" cy="3030120"/>
                    <a:chOff x="5646960" y="2594880"/>
                    <a:chExt cx="1758240" cy="3030120"/>
                  </a:xfrm>
                </p:grpSpPr>
                <p:sp>
                  <p:nvSpPr>
                    <p:cNvPr id="318" name="Freeform 99"/>
                    <p:cNvSpPr/>
                    <p:nvPr/>
                  </p:nvSpPr>
                  <p:spPr>
                    <a:xfrm rot="3745200">
                      <a:off x="5265000" y="3395520"/>
                      <a:ext cx="2031120" cy="369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Freeform 100"/>
                    <p:cNvSpPr/>
                    <p:nvPr/>
                  </p:nvSpPr>
                  <p:spPr>
                    <a:xfrm rot="3745200">
                      <a:off x="6352200" y="4719240"/>
                      <a:ext cx="108900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Group 101"/>
                  <p:cNvGrpSpPr/>
                  <p:nvPr/>
                </p:nvGrpSpPr>
                <p:grpSpPr>
                  <a:xfrm>
                    <a:off x="5576040" y="2710080"/>
                    <a:ext cx="1223640" cy="2987640"/>
                    <a:chOff x="5576040" y="2710080"/>
                    <a:chExt cx="1223640" cy="2987640"/>
                  </a:xfrm>
                </p:grpSpPr>
                <p:sp>
                  <p:nvSpPr>
                    <p:cNvPr id="321" name="Freeform 102"/>
                    <p:cNvSpPr/>
                    <p:nvPr/>
                  </p:nvSpPr>
                  <p:spPr>
                    <a:xfrm rot="4286400">
                      <a:off x="5047200" y="3541320"/>
                      <a:ext cx="197208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Freeform 103"/>
                    <p:cNvSpPr/>
                    <p:nvPr/>
                  </p:nvSpPr>
                  <p:spPr>
                    <a:xfrm rot="4286400">
                      <a:off x="5877360" y="4883040"/>
                      <a:ext cx="105804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Group 104"/>
                  <p:cNvGrpSpPr/>
                  <p:nvPr/>
                </p:nvGrpSpPr>
                <p:grpSpPr>
                  <a:xfrm>
                    <a:off x="5518800" y="2838600"/>
                    <a:ext cx="701640" cy="2778840"/>
                    <a:chOff x="5518800" y="2838600"/>
                    <a:chExt cx="701640" cy="2778840"/>
                  </a:xfrm>
                </p:grpSpPr>
                <p:sp>
                  <p:nvSpPr>
                    <p:cNvPr id="324" name="Freeform 105"/>
                    <p:cNvSpPr/>
                    <p:nvPr/>
                  </p:nvSpPr>
                  <p:spPr>
                    <a:xfrm rot="4898400">
                      <a:off x="4894560" y="3605400"/>
                      <a:ext cx="1812960" cy="304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Freeform 106"/>
                    <p:cNvSpPr/>
                    <p:nvPr/>
                  </p:nvSpPr>
                  <p:spPr>
                    <a:xfrm rot="4898400">
                      <a:off x="5425920" y="4861440"/>
                      <a:ext cx="975600" cy="476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Group 107"/>
                  <p:cNvGrpSpPr/>
                  <p:nvPr/>
                </p:nvGrpSpPr>
                <p:grpSpPr>
                  <a:xfrm>
                    <a:off x="4961520" y="2885760"/>
                    <a:ext cx="661680" cy="2719080"/>
                    <a:chOff x="4961520" y="2885760"/>
                    <a:chExt cx="661680" cy="2719080"/>
                  </a:xfrm>
                </p:grpSpPr>
                <p:sp>
                  <p:nvSpPr>
                    <p:cNvPr id="327" name="Freeform 108"/>
                    <p:cNvSpPr/>
                    <p:nvPr/>
                  </p:nvSpPr>
                  <p:spPr>
                    <a:xfrm rot="5755200">
                      <a:off x="4531320" y="3662280"/>
                      <a:ext cx="177084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109"/>
                    <p:cNvSpPr/>
                    <p:nvPr/>
                  </p:nvSpPr>
                  <p:spPr>
                    <a:xfrm rot="5755200">
                      <a:off x="4715280" y="4930560"/>
                      <a:ext cx="95184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9" name="Group 110"/>
              <p:cNvGrpSpPr/>
              <p:nvPr/>
            </p:nvGrpSpPr>
            <p:grpSpPr>
              <a:xfrm>
                <a:off x="2173320" y="680400"/>
                <a:ext cx="6733800" cy="4523040"/>
                <a:chOff x="2173320" y="680400"/>
                <a:chExt cx="6733800" cy="4523040"/>
              </a:xfrm>
            </p:grpSpPr>
            <p:grpSp>
              <p:nvGrpSpPr>
                <p:cNvPr id="330" name="Group 111"/>
                <p:cNvGrpSpPr/>
                <p:nvPr/>
              </p:nvGrpSpPr>
              <p:grpSpPr>
                <a:xfrm>
                  <a:off x="2173320" y="680400"/>
                  <a:ext cx="6733800" cy="4523040"/>
                  <a:chOff x="2173320" y="680400"/>
                  <a:chExt cx="6733800" cy="4523040"/>
                </a:xfrm>
              </p:grpSpPr>
              <p:sp>
                <p:nvSpPr>
                  <p:cNvPr id="331" name="Arc 112"/>
                  <p:cNvSpPr/>
                  <p:nvPr/>
                </p:nvSpPr>
                <p:spPr>
                  <a:xfrm flipV="1">
                    <a:off x="5741640" y="855720"/>
                    <a:ext cx="3165480" cy="25246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Arc 113"/>
                  <p:cNvSpPr/>
                  <p:nvPr/>
                </p:nvSpPr>
                <p:spPr>
                  <a:xfrm flipH="1">
                    <a:off x="2559600" y="2269080"/>
                    <a:ext cx="24858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Arc 114"/>
                  <p:cNvSpPr/>
                  <p:nvPr/>
                </p:nvSpPr>
                <p:spPr>
                  <a:xfrm>
                    <a:off x="5819400" y="1751040"/>
                    <a:ext cx="1758240" cy="2937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Arc 115"/>
                  <p:cNvSpPr/>
                  <p:nvPr/>
                </p:nvSpPr>
                <p:spPr>
                  <a:xfrm flipH="1">
                    <a:off x="2173320" y="129708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Arc 116"/>
                  <p:cNvSpPr/>
                  <p:nvPr/>
                </p:nvSpPr>
                <p:spPr>
                  <a:xfrm flipH="1">
                    <a:off x="3056040" y="680400"/>
                    <a:ext cx="228240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Arc 117"/>
                  <p:cNvSpPr/>
                  <p:nvPr/>
                </p:nvSpPr>
                <p:spPr>
                  <a:xfrm>
                    <a:off x="5491440" y="1875240"/>
                    <a:ext cx="944640" cy="284040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Freeform 118"/>
                  <p:cNvSpPr/>
                  <p:nvPr/>
                </p:nvSpPr>
                <p:spPr>
                  <a:xfrm flipH="1">
                    <a:off x="4303440" y="833040"/>
                    <a:ext cx="515160" cy="18810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8" name="Freeform 119"/>
                <p:cNvSpPr/>
                <p:nvPr/>
              </p:nvSpPr>
              <p:spPr>
                <a:xfrm rot="20253000">
                  <a:off x="6128640" y="2178360"/>
                  <a:ext cx="544680" cy="103320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9" name="Group 120"/>
            <p:cNvGrpSpPr/>
            <p:nvPr/>
          </p:nvGrpSpPr>
          <p:grpSpPr>
            <a:xfrm>
              <a:off x="2342880" y="729720"/>
              <a:ext cx="6413400" cy="4702320"/>
              <a:chOff x="2342880" y="729720"/>
              <a:chExt cx="6413400" cy="4702320"/>
            </a:xfrm>
          </p:grpSpPr>
          <p:sp>
            <p:nvSpPr>
              <p:cNvPr id="340" name="Freeform 121"/>
              <p:cNvSpPr/>
              <p:nvPr/>
            </p:nvSpPr>
            <p:spPr>
              <a:xfrm flipH="1">
                <a:off x="4470120" y="324864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1" name="Arc 122"/>
              <p:cNvSpPr/>
              <p:nvPr/>
            </p:nvSpPr>
            <p:spPr>
              <a:xfrm flipH="1">
                <a:off x="3383640" y="2594160"/>
                <a:ext cx="2615400" cy="2837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2" name="Arc 123"/>
              <p:cNvSpPr/>
              <p:nvPr/>
            </p:nvSpPr>
            <p:spPr>
              <a:xfrm flipH="1">
                <a:off x="3645360" y="2137320"/>
                <a:ext cx="153468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3" name="Arc 124"/>
              <p:cNvSpPr/>
              <p:nvPr/>
            </p:nvSpPr>
            <p:spPr>
              <a:xfrm flipH="1">
                <a:off x="2342520" y="1754280"/>
                <a:ext cx="2931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4" name="Arc 125"/>
              <p:cNvSpPr/>
              <p:nvPr/>
            </p:nvSpPr>
            <p:spPr>
              <a:xfrm>
                <a:off x="5589360" y="2165760"/>
                <a:ext cx="469800" cy="2930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5" name="Arc 126"/>
              <p:cNvSpPr/>
              <p:nvPr/>
            </p:nvSpPr>
            <p:spPr>
              <a:xfrm>
                <a:off x="5711400" y="2152080"/>
                <a:ext cx="123948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6" name="Freeform 127"/>
              <p:cNvSpPr/>
              <p:nvPr/>
            </p:nvSpPr>
            <p:spPr>
              <a:xfrm>
                <a:off x="6155640" y="3560400"/>
                <a:ext cx="598320" cy="1821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7" name="Freeform 128"/>
              <p:cNvSpPr/>
              <p:nvPr/>
            </p:nvSpPr>
            <p:spPr>
              <a:xfrm flipV="1" rot="19660800">
                <a:off x="5226120" y="2961000"/>
                <a:ext cx="54360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8" name="Freeform 129"/>
              <p:cNvSpPr/>
              <p:nvPr/>
            </p:nvSpPr>
            <p:spPr>
              <a:xfrm flipH="1">
                <a:off x="2686320" y="3397680"/>
                <a:ext cx="13359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49" name="Freeform 130"/>
              <p:cNvSpPr/>
              <p:nvPr/>
            </p:nvSpPr>
            <p:spPr>
              <a:xfrm flipH="1">
                <a:off x="3317040" y="1414440"/>
                <a:ext cx="857160" cy="1877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0" name="Freeform 131"/>
              <p:cNvSpPr/>
              <p:nvPr/>
            </p:nvSpPr>
            <p:spPr>
              <a:xfrm>
                <a:off x="7513920" y="3121560"/>
                <a:ext cx="1242360" cy="19706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1" name="Freeform 132"/>
              <p:cNvSpPr/>
              <p:nvPr/>
            </p:nvSpPr>
            <p:spPr>
              <a:xfrm>
                <a:off x="6867360" y="2125080"/>
                <a:ext cx="1875240" cy="131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2" name="Freeform 133"/>
              <p:cNvSpPr/>
              <p:nvPr/>
            </p:nvSpPr>
            <p:spPr>
              <a:xfrm>
                <a:off x="6937920" y="729720"/>
                <a:ext cx="819000" cy="1766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3" name="Freeform 134"/>
              <p:cNvSpPr/>
              <p:nvPr/>
            </p:nvSpPr>
            <p:spPr>
              <a:xfrm flipH="1" rot="1347000">
                <a:off x="4183200" y="2169000"/>
                <a:ext cx="542880" cy="1030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3E72-BADC-45EF-91DE-7A9EEA9CAE26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7092-7D86-4D66-BE16-B0D8358E5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24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357120" y="457200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观义中学九年级（</a:t>
            </a:r>
            <a:r>
              <a:rPr b="1" lang="en-US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）班家长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53" name="sax.mp3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1428840" y="1000080"/>
            <a:ext cx="619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回顾过去的大半个学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期中考试成绩情况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2856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优秀典型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耀：年级第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冬梅：年级第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第二十一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刘   洋：年级第二十六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第三十八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   潼：年级第四十四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5" descr="高清木纹质感图片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-571680" y="-360"/>
            <a:ext cx="102873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7200" spc="-1" strike="noStrike">
                <a:solidFill>
                  <a:srgbClr val="0070c0"/>
                </a:solidFill>
                <a:latin typeface="隶书"/>
                <a:ea typeface="隶书"/>
              </a:rPr>
              <a:t>期中考试进步较快的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2285640" y="1285560"/>
            <a:ext cx="61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胡   杰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91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永坤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2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熊清建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8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杨佳岚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77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赵浩东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56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张   力：年级上升</a:t>
            </a: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</a:rPr>
              <a:t>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高清木纹质感图片"/>
          <p:cNvPicPr/>
          <p:nvPr/>
        </p:nvPicPr>
        <p:blipFill>
          <a:blip r:embed="rId1"/>
          <a:stretch/>
        </p:blipFill>
        <p:spPr>
          <a:xfrm>
            <a:off x="179280" y="-171360"/>
            <a:ext cx="9144000" cy="872964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半期来需要特别关注需与老师配合教育的学生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7640" y="1857240"/>
            <a:ext cx="92170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</a:rPr>
              <a:t>卿蒲锞、胡杰、胡雯、张亚鑫、何舒鹏、罗鑫等这些学生，学习很有潜力，但习惯不好，爱跳爱闹；杨冬琴、梁宵、潼粒峰等学生经常星期天返校迟到，学习目的不明确，贪玩好耍；胡雯、武飞、李志洋等曾有过没按时回家的行为；何鑫、武飞、杨永坤等曾有过玩手机、游戏的行为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…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4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</a:rPr>
              <a:t>考后显露出的问题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在这次考试后，我们发现很多同学的总分高不了，究其原因，偏科太厉害！尤其要引起重视的是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语文、政治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试卷答题过程中暴露出来的不规范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基础掌握不扎实。基础题失分太多或答不完全，不审题，做题马虎导致失分过多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老师反复强调的知识点没落实到位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部分同学态度不端正，上课不够专心，出现开小差、玩手机，自己做自己的事情，完全不关注老师所讲的内容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，一些学生作业马虎、差错多，选择题答题随意，计算题只写一个答案；学生没有养成提前预习和适时复习的好习惯，导致效果不太满意。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竞争意识不强，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自我学习的效率不高，无法迅速进入学习的状态。放松学习，临考试才匆忙复习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行为懒散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考试心理状态调整不好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学习不扎实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不能落实到实处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7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不能合理安排时间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个别同学没有明确的目标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基础太差，学习习惯不好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学生自觉性差，个别同学有违纪行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11.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有个别同学上课打瞌睡、看课外书，影响课堂效果；有的想提高成绩，但方法不对又不积极主动问老师和同学，时间一长就有放弃的心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6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5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f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18" name="Picture 6" descr="边框05"/>
          <p:cNvPicPr/>
          <p:nvPr/>
        </p:nvPicPr>
        <p:blipFill>
          <a:blip r:embed="rId2"/>
          <a:stretch/>
        </p:blipFill>
        <p:spPr>
          <a:xfrm>
            <a:off x="0" y="1214280"/>
            <a:ext cx="9286920" cy="56437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2271600" y="1357200"/>
            <a:ext cx="387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一、重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二、了解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三、关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四、鼓励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五、督促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六、配合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20" name="Picture 8" descr="birddance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适时关注孩子学习、生活情况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特别注意思想动态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给孩子创造良好的学习环境（物             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357948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5" name="Picture 4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WordArt 7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232056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对子女的期望水平适中， 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观察学生变化（交友、着装、      学习态度），碰到孩子的新问题，  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oup 2"/>
          <p:cNvGrpSpPr/>
          <p:nvPr/>
        </p:nvGrpSpPr>
        <p:grpSpPr>
          <a:xfrm>
            <a:off x="0" y="0"/>
            <a:ext cx="9357840" cy="6858000"/>
            <a:chOff x="0" y="0"/>
            <a:chExt cx="9357840" cy="6858000"/>
          </a:xfrm>
        </p:grpSpPr>
        <p:pic>
          <p:nvPicPr>
            <p:cNvPr id="533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5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4"/>
            <p:cNvSpPr/>
            <p:nvPr/>
          </p:nvSpPr>
          <p:spPr>
            <a:xfrm>
              <a:off x="0" y="0"/>
              <a:ext cx="257328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35" name="Rectangle 5"/>
            <p:cNvSpPr/>
            <p:nvPr/>
          </p:nvSpPr>
          <p:spPr>
            <a:xfrm>
              <a:off x="5302800" y="3886200"/>
              <a:ext cx="319752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36" name="Text Box 6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468360" y="1362960"/>
            <a:ext cx="881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语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穿着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尤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其喜欢涂鸦校服、改动校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外貌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行为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道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态度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1357200" y="380880"/>
            <a:ext cx="67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孩子厌学前的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项征兆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80880" y="142884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息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早出晚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常无端数日不归</a:t>
            </a: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晚上外出去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物品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不良刊物、药物、香烟酒类，甚至不 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明巨款或当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业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成绩一落千丈，经常迟到早退、逃学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交友：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社会人士的朋友、电话，有朋友也不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71720" y="1928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习惯：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c00000"/>
                </a:solidFill>
                <a:latin typeface="隶书"/>
                <a:ea typeface="隶书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09480" y="3860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68360" y="17002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动态使孩子有正确的思想导向、明确的奋斗目标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68580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工作再忙也要抽点时间来多了解孩子在校的表现和学习成绩情况。因为孩子是自己身上的肉呀，我们的一切工作难道不是为了孩子将来的美好前途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最好能经常与学校、老师取得联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4"/>
          <p:cNvSpPr/>
          <p:nvPr/>
        </p:nvSpPr>
        <p:spPr>
          <a:xfrm>
            <a:off x="0" y="577800"/>
            <a:ext cx="848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60360" y="2593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学地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17440" y="4467240"/>
            <a:ext cx="84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抓好子女在家的行为习惯。如良好的休息、科学的学习、适量的劳动（劳动是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217440" y="6338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/>
          <p:cNvSpPr/>
          <p:nvPr/>
        </p:nvSpPr>
        <p:spPr>
          <a:xfrm>
            <a:off x="1116000" y="1844640"/>
            <a:ext cx="9144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在外留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回家很迟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带同学住宿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打电话时间长，次数多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受伤回家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205092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需要注意十问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超出友谊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成绩突然下降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穿奇装异服，爱好打扮，沉默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老是玩电脑，手机，看闲书要问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需要注意十问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63" name="Picture 3" descr="在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家长们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b050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     </a:t>
            </a: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来交流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BJ305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1" name="明天会更好1.mp3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2" name="WordArt 5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73" name="Picture 6" descr="ZW_015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74" name="感恩的心.mp3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37663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89536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Picture 4" descr="FR_050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WordArt 5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6" name="Picture 4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WordArt 6"/>
          <p:cNvSpPr txBox="1"/>
          <p:nvPr/>
        </p:nvSpPr>
        <p:spPr>
          <a:xfrm>
            <a:off x="357120" y="0"/>
            <a:ext cx="83059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琥珀"/>
              </a:rPr>
              <a:t>热烈欢迎各位家长</a:t>
            </a:r>
            <a:endParaRPr b="0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cover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78" name="Picture 4" descr="BJ3009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1" name="Text Box 7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汇报班级的基本情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Text Box 9">
            <a:hlinkClick r:id="rId3" action="ppaction://hlinksldjump"/>
          </p:cNvPr>
          <p:cNvSpPr/>
          <p:nvPr/>
        </p:nvSpPr>
        <p:spPr>
          <a:xfrm>
            <a:off x="1332000" y="371484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三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1332000" y="48578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四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1332000" y="15573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班主任发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ver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xbd_1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3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87" name="Picture 4" descr="27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6"/>
          <p:cNvSpPr/>
          <p:nvPr/>
        </p:nvSpPr>
        <p:spPr>
          <a:xfrm>
            <a:off x="990720" y="152280"/>
            <a:ext cx="7153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本学期班级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38080" y="2133720"/>
            <a:ext cx="8020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培养良性的竞争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0506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6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的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学生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Administrator</cp:lastModifiedBy>
  <dcterms:modified xsi:type="dcterms:W3CDTF">2012-11-21T08:37:24Z</dcterms:modified>
  <cp:revision>308</cp:revision>
  <dc:subject/>
  <dc:title>热烈欢迎各位家长</dc:title>
</cp:coreProperties>
</file>