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63D-9E6B-4867-B99D-F5393F76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AD3-CF5B-4946-A1F7-1CB6C5A8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E57-C835-4D06-9617-FF16BE74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F31-77DE-4105-9BCA-EBB453C9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6DCD-418B-44C2-924C-5F202AE0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F352-BD44-4238-AB6C-05843050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FBAD-722A-4AB0-9473-625D134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B250-1343-4F68-9FB0-9616DE9E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203E-C6F6-42ED-A293-FACE0534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D696-2274-424C-A0BD-BD36A5C1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F995-A8B4-4666-9DC7-62F9F86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DA4-F1D3-4919-968A-D4B1E8BF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19FB-4032-40CF-9921-D7D2ECA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9A85-09EF-4BE4-8F1B-B6227DCD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9D2-AA96-46B2-BC4E-A09DB18E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D05A-5B54-4381-9E5F-D7E99E91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4300-EBBE-4C99-A859-53375D9D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7C9-A01D-4DCE-9D09-C1BCB304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A8E-B4B4-4F13-9389-DFCF825C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FB8-E8D1-487C-A5AF-953C2D05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41B-0A13-4CC6-9CE2-6A0CBD70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A46-1B13-469D-9C7D-0AD9D41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686-CC1C-43F8-B35D-9409C2F7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7A6-3A72-4CEB-AFF9-C5C3146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9F41-F3F8-4890-B5F7-20FE9093C06E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3B3D-0DC1-4333-B25A-F4F53964A49E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04920"/>
            <a:ext cx="8763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击杀器是一款绿色免费软件，解压之后，即可运行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windows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操作系统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软件有以下两大功能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一、</a:t>
            </a:r>
            <a:r>
              <a:rPr b="1" lang="zh-CN" sz="1600" spc="-1" strike="noStrike">
                <a:solidFill>
                  <a:srgbClr val="ffffcc"/>
                </a:solidFill>
                <a:latin typeface="Verdana"/>
              </a:rPr>
              <a:t>瞬间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自动关闭指定类型的网页，如弹出广告、病毒网页等任何你讨厌的网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二、类似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裁图的功能，比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更方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关于关闭网页功能：本软件支持所有基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的浏览器，如：微软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360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，对搜狗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、世界之窗三款浏览器，需在地址栏切换成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才有效，如下图所示（带图形字母‘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E’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的地方点一下便能切换浏览器内核）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3505320" cy="195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42800" y="6019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Verdana"/>
              </a:rPr>
              <a:t>软件的具体操作，在下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522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一、从你讨厌的网址截取一部分，比如从“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http://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www.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/2010/20100923123.ht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复制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</a:t>
            </a:r>
            <a:r>
              <a:rPr b="1" lang="en-US" sz="1600" spc="-1" strike="noStrike">
                <a:solidFill>
                  <a:srgbClr val="ffcc66"/>
                </a:solidFill>
                <a:latin typeface="宋体"/>
              </a:rPr>
              <a:t>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然后粘贴到击杀框里，以后只要浏览器的地址栏包含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字眼的网址，便会瞬间自动关闭。有多个关键字，以“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|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隔开，输入过程中系统会实时自动保存，示例如下图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298764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点右上角的最小化，网址击杀器就会缩到桌面右下角（下图左边第一个图标），把鼠标放上去，双击或者单击右键，就可以对软件进行打开主界面或退出的操作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8862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宋体"/>
              </a:rPr>
              <a:t>操作流程：运行本软件，编辑击杀框里的字符（没有新增、删除、修改则不用动它），最小化窗口，结束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267080"/>
            <a:ext cx="8076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二、运行击杀器之后，按下键盘上的“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creen print”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键，也就是屏幕打印键，鼠标会变成十字架，拖动鼠标，选择你看中的区域，松开鼠标，就会有提示“复制”“保存”“取消”三项功能处理你选择的这块区域形成的图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按下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screen print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之后，若你不想裁图了，单击鼠标右键即可退出裁图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4864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所有的操作都有非常明显的提示，根据提示一步步做下去即可，速度超快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514600" cy="380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90720" y="3581280"/>
            <a:ext cx="380880" cy="3049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579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1T16:04:3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