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7.wmf" ContentType="image/x-wmf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.gif" ContentType="image/gif"/>
  <Override PartName="/ppt/media/image32.gif" ContentType="image/gif"/>
  <Override PartName="/ppt/media/image18.jpeg" ContentType="image/jpeg"/>
  <Override PartName="/ppt/media/image16.gif" ContentType="image/gif"/>
  <Override PartName="/ppt/media/image28.jpeg" ContentType="image/jpeg"/>
  <Override PartName="/ppt/media/image20.png" ContentType="image/png"/>
  <Override PartName="/ppt/media/image15.gif" ContentType="image/gif"/>
  <Override PartName="/ppt/media/image14.gif" ContentType="image/gif"/>
  <Override PartName="/ppt/media/image40.jpeg" ContentType="image/jpeg"/>
  <Override PartName="/ppt/media/image30.png" ContentType="image/png"/>
  <Override PartName="/ppt/media/image25.gif" ContentType="image/gif"/>
  <Override PartName="/ppt/media/image31.gif" ContentType="image/gif"/>
  <Override PartName="/ppt/media/image11.jpeg" ContentType="image/jpeg"/>
  <Override PartName="/ppt/media/image35.gif" ContentType="image/gif"/>
  <Override PartName="/ppt/media/image9.jpeg" ContentType="image/jpeg"/>
  <Override PartName="/ppt/media/image33.gif" ContentType="image/gif"/>
  <Override PartName="/ppt/media/image34.gif" ContentType="image/gif"/>
  <Override PartName="/ppt/media/image37.gif" ContentType="image/gif"/>
  <Override PartName="/ppt/media/image38.gif" ContentType="image/gif"/>
  <Override PartName="/ppt/media/image43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24.jpeg" ContentType="image/jpeg"/>
  <Override PartName="/ppt/media/image42.gif" ContentType="image/gif"/>
  <Override PartName="/ppt/media/image5.wmf" ContentType="image/x-wmf"/>
  <Override PartName="/ppt/media/image44.gif" ContentType="image/gif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13.gif" ContentType="image/gif"/>
  <Override PartName="/ppt/media/image4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6.png" ContentType="image/png"/>
  <Override PartName="/ppt/media/image2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921-FBE1-41CE-A9D0-63E738BA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D56-535E-4D35-AD8C-52C609BA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F01-A9BE-41F3-AE38-FC03CC3B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650-3006-451D-97E4-4C1569E2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AE5-8007-4F35-B1AC-5595BA2A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BAE-1F9C-4663-8404-4FD0BCB4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3D9-3810-4EFA-A229-F49278C2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3E1-ED34-4315-A791-C13E39D5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3AC-6E06-4582-8EDF-CFD0C67A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630-4675-4859-9519-06A0895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A2E-FD2C-4923-A281-934BF25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4BE-E300-4A48-9288-108EB4E5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3DD7-09E3-450F-86DA-8332D92DA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../Local%20Settings/Temp/Temporary%20Internet%20Files/Content.IE5/&#24180;&#32423;&#25945;&#21153;/&#34917;&#24046;&#23398;&#29983;&#21517;&#21333;(&#24635;&#34920;1&#65289;.xls" TargetMode="External"/><Relationship Id="rId2" Type="http://schemas.openxmlformats.org/officeDocument/2006/relationships/hyperlink" Target="../Local%20Settings/Temp/Temporary%20Internet%20Files/Content.IE5/&#24180;&#32423;&#25945;&#21153;/&#23398;&#29983;&#34917;&#24046;&#35760;&#24405;&#21333;.xls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../../Administrator/My%2520Documents/kejian/unit3huo.ppt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png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0960" y="0"/>
            <a:ext cx="60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宋体"/>
              </a:rPr>
              <a:t>温馨提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24200"/>
            <a:ext cx="87742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离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2016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年高考仅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xxx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919600" cy="30765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73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35280" y="765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严格要求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每一位学生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健康成功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693432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324480" y="114300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200400" cy="175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50840" y="213372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高三（   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81280" y="2666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743200"/>
            <a:ext cx="609624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一、汇报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60948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133720" y="2133720"/>
            <a:ext cx="59436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ff00"/>
                </a:solidFill>
                <a:latin typeface="Arial"/>
                <a:ea typeface="华文新魏"/>
              </a:rPr>
              <a:t>成绩状况介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10134720" cy="6810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406000" cy="6400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我班在这次联考中，继前三次月考后又一次取得稳中略有上升的成绩，其中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处于生源班级领先位置，尤其是     学科取得了班均分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的好成绩，其余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处于生源班级前     名位置。但各科发展不平衡，尤其是中等学生的学科发展不平衡现象较严重，主要表现在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等学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520" y="4876560"/>
            <a:ext cx="62485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二、反思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思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次考试在个人名次上发生了一些明显的变化，原因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也有不少同学在考试前也投入了大量精力，但未收到如期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考是冶炼，心态最重要。经历是最好的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反思二</a:t>
            </a: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一模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次考后，我们发现有些同学的总分高不了，究其原因，偏科太厉害！尤其要引起重视的是英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和地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这三科拉的分数最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卷答题过程中暴露出来的不规范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掌握不扎实、知识漏洞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2724120"/>
            <a:ext cx="82864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XX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一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高三年级家长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1052640"/>
            <a:ext cx="7034400" cy="27050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143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放飞希望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沟通无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8000" y="673200"/>
            <a:ext cx="889308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思三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个别学生目前存在的问题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目的不明确，甚至模糊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集体主义观念淡漠、自私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责任感较差，自我中心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方法需要调整，没有计划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心理素质，适应性需要加强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同学关系、师生关系需要改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141560"/>
            <a:ext cx="9144000" cy="9142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5943600" cy="152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三、展望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联考之后我们老师要做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落实学生的成绩情况之后，寻找该生的薄弱科目，确定补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学生名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班主任与各科任老师的联系，对补薄学生给予更多的关注，并通过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学生补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记录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时时跟踪，使学生在薄弱科上有所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2492280"/>
            <a:ext cx="7981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思想教育工作，增强学生的自信心和成才欲望，充分利用课堂及班会时间给同学们加油鼓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8216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华文行楷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81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与各科任老师的联系，对学生给予更多的关注，使学生在薄弱科上有所进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495680"/>
            <a:ext cx="8001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严格常规管理，严格请假制度，严格班规班纪，稳定学习秩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4653000"/>
            <a:ext cx="8820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们全力以赴，精心备课。和学生同甘共苦，关爱每一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78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自习课余时间的整体辅导和个别辅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292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强学生时间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640" y="1828800"/>
            <a:ext cx="9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偏科现象较严重的同学介绍好的学习经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33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谈话帮助学生分析成绩，找出原因，帮助学生确定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p:transition advTm="1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79640" y="0"/>
            <a:ext cx="5181480" cy="3432240"/>
            <a:chOff x="1979640" y="0"/>
            <a:chExt cx="5181480" cy="34322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62728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197964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 advTm="15000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高考倒计时</a:t>
            </a:r>
            <a:r>
              <a:rPr b="1" lang="en-US" sz="4000" spc="-1" strike="noStrike">
                <a:solidFill>
                  <a:srgbClr val="009999"/>
                </a:solidFill>
                <a:latin typeface="Tahoma"/>
              </a:rPr>
              <a:t>161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高考实行“三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综合”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满分：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三：语文、数学、外语（各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），共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综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历史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地理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政治计入高考成绩，共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—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网上报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陕西省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01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中旬汉中市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下学期参加省、市联考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考前心理调整。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260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敬的各位家长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205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欢迎您的到来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5661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XX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一中高三     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500"/>
                                  </p:iterate>
                                  <p:childTnLst>
                                    <p:animMotion origin="layout" path="M -0.07084 0.00301 L -0.90556 0.01364 E"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406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5760" y="8380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12193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孩子一天的每段时间应该在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20968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ahoma"/>
              </a:rPr>
              <a:t>关键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英语朗读听力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文早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-2:00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倡回班级看书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下晚自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周日             休息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71640" y="549360"/>
            <a:ext cx="4868640" cy="1493640"/>
            <a:chOff x="971640" y="549360"/>
            <a:chExt cx="4868640" cy="1493640"/>
          </a:xfrm>
        </p:grpSpPr>
        <p:sp>
          <p:nvSpPr>
            <p:cNvPr id="136" name=""/>
            <p:cNvSpPr/>
            <p:nvPr/>
          </p:nvSpPr>
          <p:spPr>
            <a:xfrm>
              <a:off x="971640" y="549360"/>
              <a:ext cx="486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971640" y="549360"/>
              <a:ext cx="1130760" cy="1493640"/>
              <a:chOff x="971640" y="549360"/>
              <a:chExt cx="1130760" cy="1493640"/>
            </a:xfrm>
          </p:grpSpPr>
          <p:sp>
            <p:nvSpPr>
              <p:cNvPr id="138" name=""/>
              <p:cNvSpPr/>
              <p:nvPr/>
            </p:nvSpPr>
            <p:spPr>
              <a:xfrm>
                <a:off x="971640" y="549360"/>
                <a:ext cx="1130760" cy="149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971640" y="549360"/>
                <a:ext cx="1130760" cy="1493640"/>
                <a:chOff x="971640" y="549360"/>
                <a:chExt cx="1130760" cy="1493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971640" y="549360"/>
                  <a:ext cx="1130760" cy="149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971640" y="549360"/>
                  <a:ext cx="1130760" cy="1493640"/>
                  <a:chOff x="971640" y="549360"/>
                  <a:chExt cx="1130760" cy="1493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租房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：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每天晚自习以后，孩子在哪里，在做什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0200" y="1676520"/>
            <a:ext cx="8713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思想上，家长能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要教育孩子怎样做人，关心孩子的思想动态使孩子有正确的思想导向、明确的奋斗目标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工作再忙也要抽点时间来多了解孩子在校的表现和学习成绩情况。因为孩子只有一个呀，我们的一切工作难道不是为了孩子将来的美好前途吗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716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上，家长能够合理安排饮食，注意补充营养关心照顾，身体是革命的本钱 。提醒孩子注意安全（交通安全、运动安全、饮食安全等），保证学生按时作息，不要因晚上学习时间过长或看电视无度、睡眠不足影响第二天学习；有特殊情况要请假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抓好子女在家的行为习惯。如良好的休息、科学的安排学习、适量的家务劳动（劳动是教育人的较好方式，只有劳动，他才懂得来之不易，懂得珍惜）等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74560" y="304920"/>
            <a:ext cx="8569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学习上，家长能够教育孩子在上课时专心听老师讲课，不懂就是不懂，要虚心请教。强调“认真”二字。少做最好不做与学习无关的事。多让他们在学习、精神等各方面得到父母的支持和鼓励，给孩子创造良好的学习环境（物质、文化、精神环境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2251080" cy="2286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9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9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07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09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1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2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6" name="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2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3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3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4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38080" y="5029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家长代表经验交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3745080" cy="31766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58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429000" y="57150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067280" y="1125360"/>
            <a:ext cx="4114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欢 迎 监 督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47640" y="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感 谢 指 导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480" y="3200400"/>
            <a:ext cx="799488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：家庭幸福，事业顺利！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advTm="15000"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9144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成長只有一次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陪孩子成長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让我们共同托起明天的太阳！</a:t>
            </a: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3247920"/>
            <a:ext cx="4290840" cy="33861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265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3178080"/>
            <a:ext cx="711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1337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我们架起心灵沟通的桥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孩子们的健康成长共商教育教学大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50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3628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06668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班级基本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在校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联考情况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存在的问题及下一阶段工作思路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需要家长配合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给家长的一些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个别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38088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fxzm</dc:creator>
  <dc:description/>
  <dc:language>en-US</dc:language>
  <cp:lastModifiedBy>微软用户</cp:lastModifiedBy>
  <dcterms:modified xsi:type="dcterms:W3CDTF">2015-11-18T01:31:27Z</dcterms:modified>
  <cp:revision>1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