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Down.WAV" ContentType="audio/x-wav"/>
  <Override PartName="/ppt/media/image24.png" ContentType="image/png"/>
  <Override PartName="/ppt/media/image11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29.png" ContentType="image/png"/>
  <Override PartName="/ppt/media/Failed.WAV" ContentType="audio/x-wav"/>
  <Override PartName="/ppt/media/image16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%E9%92%A2%E7%90%B4.wav" ContentType="audio/x-wav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890-1FEE-4955-99C5-03493074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CC2-3B0B-46DF-A415-E396745A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25B27-CFF4-4766-8B63-FF52B7A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E15EE-0F5D-4CC6-893F-E7F28037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D873F-2A30-421B-B07B-1F3A6B5B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E8316-DFB0-4DF6-AF48-A934556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D6DE9-FC8B-48FE-9EB6-98BBD044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2CE0C-7561-44A0-BD7E-819E2718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2342D-3444-49A2-A32E-6460520A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957FE-2EBE-4802-8938-E5292D30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1E713-C011-4C1C-9028-E39E8B3C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75C50-48A1-4252-B7FE-9629912D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8DE-C7A5-43EA-8B90-ED00640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AD85C-2762-48F5-A3F0-8C5141C4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EA575-1C37-469D-ABE1-EBA28605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948AF-DCB3-4A55-9F3C-86134075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CB5FA-0919-4081-B302-EEE36A40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B0D44-DA32-4AB3-84DC-544002E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4FD5D-9415-454A-A7FF-AAF66C90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0A537-E621-4C20-AB33-1F265F5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C150C-09DA-417E-A24A-E93F95D1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C42D9-5A03-4587-A918-9AB8C256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FEDCE-ACE7-4E63-AD41-C17208F4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DA5-FC63-43D5-949E-DD7C10A9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D3A03-E7E4-4D56-995F-4B23AE74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FE848-11F3-47DA-87B7-7EC5D053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5C8DD-A650-4232-8224-B0DA1808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3F694-E3D6-4F90-9E08-06779C90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C8DC8-846C-4C31-9930-C8D0146E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370AF-4B73-4E12-9C65-4175B2B6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E2CDA-6D9E-4A7A-B793-BE3F64F1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377C0-2732-48C5-862A-453D6F5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A8783-74DD-41F8-ADCB-A596093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A0F57-EF87-4D4E-A3E1-58CCBD14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14AA-F925-47C6-9CBD-8ACECA22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751F-E2AD-44AB-A651-DFC2305D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6E940-D0B5-4F53-BF3D-61FE2758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78EDA-0878-443E-84BC-3CE71BCB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0D2AE-3E8C-42B4-908C-7D26D807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851B5-64FC-49A8-BD1F-6922D3F5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622FE-5F38-4254-883E-FE35190F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299B0-9CEB-48A8-A7F4-3178D2CF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ED795-7C03-440C-ACA1-28C43E65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F1E54-EEC7-4127-8B31-B7F1E772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0CF65-1480-44BF-978A-6B83D50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61FF-64F9-4F77-9A2D-10740301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D4222-772A-40A5-9494-7C320CF2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61525-B57A-458C-84E3-2F7F530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0122F-424D-42FD-BBA1-00DE2CB3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B2009-8A7A-4306-8CCA-ECB103C9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1015A-027A-4857-B621-E5E29DD9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7BB65-184D-4EF2-B97D-B5621C2F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EF142-D50D-4539-BEAB-2FFBA80E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6D620-71FE-4B24-9909-E2B8894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8CDFB-B499-4788-89E7-0EE1EEF1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3067F-569C-4CE9-8971-E5D3EAF2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F023-84EC-4FC4-BAEA-1F921E55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505DE-62DC-47DE-B313-347FAED7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C303B-B5D1-4AFD-B014-47980E4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FA29A-35A9-418E-A2F1-D82A650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8C49B-6131-46CB-BAA4-B57B1584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78B22-F3D9-41E6-8A65-A5D334EE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3BEB9-4B27-4014-A0E8-28F43E1F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0BFA0-8DCB-4597-81F6-42F07CB0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107B8-32EF-4367-9B3C-5B59715D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10550-047A-4033-B497-D0546264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884CE-7381-4D6E-80FF-1943E31E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627B-BA38-4551-BA04-AAB0DF4A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BF9C8-73F5-42EA-B672-E8C4F128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12C25-1D0A-4E0E-810A-0BCBBA02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01F4F-2F6C-41EF-B19C-475D7A8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B3C0C-52EC-4838-BF0C-8C9B214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17E9A-F5BE-430B-AC7D-3648035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F74A6-06CE-4367-9BE8-AF6363D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A293C-C5ED-48C7-9F64-37169FD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71987-5EDD-4B9F-B511-0388681A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185CA-2E8C-49D5-8FE7-FCEAB7A6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AFC46-2716-4FF2-A2F2-FB8C58B6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E044-00D7-44E1-B944-CE371601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95BAA-C0C5-4A7A-885F-ADA9A60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BCBDF-9F75-4F3C-B839-11A724EC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26BA7-67E1-432E-9654-0A0456FF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AA24D-51B2-4CE2-ACA4-ABF3916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681AB-5CAC-4B4A-8CEB-E217C2E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C8C2A-F28A-45CF-93BE-7F555EB1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88BFA-C865-4F23-9060-7C8B9A4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08BB0-6FCA-4589-AAD1-0A1BE054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CCEBF-4B19-441B-90F6-2A229158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D3093-A42E-44DA-A2E0-DC8C6B52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A791-7ADC-40D3-8622-8B30CA68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5432D-0206-44F3-98D7-13A9BB95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98EC4-6679-4AB5-865E-7481F69C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CBC10-2D25-48C1-B61C-BB29A563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FB24A-5D5D-48C3-AD26-686DF9D0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EDBA1-7A79-4718-AA31-19B8122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74C0C-B7E8-4BBA-9730-5A6C87BB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4318E-0B86-448F-9EFE-606E18CF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4355AB-9A91-4DA2-9175-31BD9DF5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5CDCF-381D-4584-99AC-7D94792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9089D-6081-4A98-92A0-C61A97C2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DAAD-036A-43C8-941D-77ED897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8652F-0D93-47A4-8C1D-6B1C810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A8B58-1449-4B21-A01A-23F8C040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71907-54C6-49E1-9064-2DE843DD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32E42D-F129-4809-A770-D5A82CED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40436-EA3A-4830-85E5-628F55F9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702C7E-5414-4AD5-9FF1-BC9DC4EF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D33E1-A28E-4D35-AC9B-244E7E7A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0A8E7-1CD1-40C9-B93D-263F1A2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2A6BF-D43C-4596-8B79-8A1C448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A547F-606D-4DF4-80B9-5F0638D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508-4401-48B4-959C-18684C2F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41CF-6903-4521-8607-02C957C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4E1BD-5A17-4E36-B786-D00A8D37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5DC78-EE17-458C-B877-37E1E86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1EB25-6ACF-4FAC-9568-EA5DDFD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A54AF-8C4B-4A55-B051-99185BC3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318BEB-3C60-4DFB-9CC7-32903B1F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8A7EA-DF8C-4C3B-890A-04D24619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C2D76-9BC9-4EED-9DED-1F8FC386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125DE-B08F-403D-99C1-C027C59D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B1BA9-B75D-4499-9412-C7E7A643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A56CD-AA9C-406F-93A0-A61C1622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0DBF-9821-4AF6-8AD6-52D33D63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C2EF5-30E3-4664-8513-CB0D738B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B7604-4ECA-4ADF-9968-1B426B7B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82506-F7C6-4ECC-BB7E-20D003C7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976DB-6491-42CA-AFC1-319F986D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0F2C0-7180-4907-B5DD-497C14C5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73BAD-21FD-46AD-9293-1B73AD2D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E5437-6C6D-43C9-8B6F-D53B436C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99BEE-123F-400E-9125-1277A952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FC341-5016-4E6B-8DF2-69943406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F6E49-9650-4192-B10A-B3BD1D9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01D5-20A5-4626-8FF8-84BB22BB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9048B-503E-4331-B6FC-BC70EF9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CF813-D1F3-4201-821B-F8232D18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F8FE0-4CC5-41CA-926B-2836DDB7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76240-C36D-4669-97CF-EEA7781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7A7575-89F5-4D7D-AE41-175231F2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9FFE3-9519-4C53-AEFB-23CA4FB2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97A0C-E7E4-42EB-BC6C-9898CAEC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44C1B-0AD8-408E-82B8-5E2E03FD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21246-6B38-4CEC-9ADF-68A3169A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24A9-4EBA-47B8-B8F3-7C59F021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1AF2-73A4-4CD9-8FE3-F95DF033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7C10-7A36-4C1B-9F32-9E56D4DC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AB16-ED0F-402B-91DF-2A0F7DA2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D1C5-7700-4A87-A3AA-D0262BA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FA28-6BA8-4334-8F2A-D7D22D84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D8C8-485F-42FA-9C1D-E5462727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D50-0776-4C35-9A10-99D68F91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DF11-CE84-4BB9-A005-66992C65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90C7-4B75-4C34-888B-6B9E01C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AB4A-5C02-4F6C-8968-E8A77274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D5C7-04AB-4729-B5E1-0B989FD3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4625-89B7-4CE2-961D-01A3C745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83ED-7A25-43B2-BF73-E4341E82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8F1C-7050-4B07-BE2A-BCB0D48E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212D-AFCD-4BF1-BC82-69054834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6482B-7EAC-45F4-9C83-A6A09D64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A819-3A70-42FB-A899-972123A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7B5-78DF-4BFE-A5BC-8B71E21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9DBC-924C-41F4-B308-869646AE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6014-4D3A-4E90-8B7E-DCA7CD2E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A291-E14C-49A6-BC89-DCDCF401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62C0-8E7F-465F-A674-0A1EBCE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E5964-5283-4B6F-B0F1-9CDEAB9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21038-24E6-47F3-BE60-1D1AE6E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B3E3-3124-40BD-8A0B-97F45071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E39CA-AE7B-4B5E-ABFF-F0CFFD15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7187-73D2-403E-81BE-D73E69E0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8265-BE87-4EDA-A8E5-78A2972C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D58-D090-4D0A-815A-7EC37D23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7886C-F431-4A41-AAB3-1528F068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B97B-9699-40DC-946D-782FFBC2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7D06-B7D1-4CC6-94BE-6950F878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A0139-A7D4-4064-82D1-AE201362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4236-7565-432F-BB98-DC98FDEA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E84F-5E76-4693-AE86-2784094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C7A0-3184-4668-A27C-7C89D5AD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D841C-54F7-4A8D-96B1-D5716F99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93E92-1646-43EB-8643-253D199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42A5-0377-46A1-8435-F969057B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C15-0F78-463F-8BB2-FE3AD6C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EF29-EB7A-436D-AA45-C2669B4C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CDDC1-A87B-44E8-8C42-6C001A10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2738B-1106-4C0F-9751-B50EC03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C04C-3119-416F-ADE8-1A9F514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3588-E70C-445E-84BC-A66DF4EF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F7FF-B50F-4B8E-A441-6C848BD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DD06-D6A7-42EC-B26E-451FEB59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2CDDD-2295-4BD9-A127-EF51E6E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5831-B7F6-421B-8F3C-B818F27C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37C09-A790-4123-A3A2-0402D77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042-EBA1-4D0F-98A2-1548F0C2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6B07C-5871-45FE-ADBA-E7F47CC0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C35DA-9B53-49B6-84D5-87741CA0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62D2-088E-4058-AE30-301CB7CD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E7A8-C384-435F-AFA7-A8544AF3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C20C-8B2F-4CD1-A56D-4AB36442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47A3F-99E9-4F81-B50D-21A129C6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E5FD-17D8-440C-AD29-91D2DF06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5377C-12A1-4801-B405-AB22A9A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DC36-BDC2-4176-9ED0-DD9C6157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0DE39-F101-4389-BBE2-46285EE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CC5-F348-4276-BE9E-04E11EB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F37C9-FF9E-49A9-8E6C-0591776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4097E-0F73-4537-B51A-1699DF37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2599-A2E9-4440-AEFC-4F263B5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1EC90-6725-4D40-9162-3813E954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42A4-6812-46F1-AAE3-59BE78D6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A5BF-A795-4B41-BCD5-C9D46341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9EE63-2163-4461-B3B4-33EB612F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D4805-8CCD-4E4D-BDA7-43A6D942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6946-F677-41A2-B2EB-F7A2107E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06415-2198-4EFF-9F70-EEEA7292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045-26EF-42A9-A4F4-E3E8DCAB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A4B73-BAEB-4662-88B6-9BAFB111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953D5-D4BE-4E95-BEE1-40B2C05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05EC5-34A5-4035-8F29-7AC6D6A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98FE7-4B6C-4D96-B89D-A08C9D7C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234D-340A-4B45-A7BF-B795BA0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75BC4-E8E3-44D0-88C2-280499D0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6AB3-F9DA-45D5-907E-F3D82378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C58C6-6976-40E8-AC9D-574BAC8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7B69-CAB5-4A6B-A50C-6DEBFF3C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E09E2-8473-4171-9E88-6811E313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359-583A-44D7-82E3-DFD2F71E58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D6E4-6212-4D25-98FC-2414D7F5E9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D05E-74CC-4BFF-80E8-87B11CB89A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FE1-6D8D-4042-8D30-165AAF0284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5085-7C66-48DF-985C-70B4DD6E3F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BB0-15ED-40AD-9542-64A7EFC3A2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1694-4583-4360-B25A-03BBFF18549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0093-5FDE-4BE2-AB85-C4A792C6BD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F7DB-DC40-4649-A5FD-931A2F6170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2678-1F3C-4FA2-8E4B-BCCD6FBCDF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F845-07AC-44CF-85C6-9FE1525333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72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BCF7-0F91-4047-89E4-36019EC83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29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4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4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75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8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89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2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03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6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17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0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31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44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45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8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559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60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561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7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6DF9-C457-4E2B-B9FB-8548CCC3C3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616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7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8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9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C004-4677-4253-8291-98DCE4AD0FE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DAED-D7A7-4208-A1AB-8C8F02120C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02FC-FF4A-468D-BB7B-C30CC116C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45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46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7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8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2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7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8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9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60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3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5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1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2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3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4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3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5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6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7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8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19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0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1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2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4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5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6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7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8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9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0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1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2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3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4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5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5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6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2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7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8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9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0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1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2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3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05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06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A4F-0B68-4C64-9631-6ABF80160A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6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962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976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9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0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3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4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5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6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0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1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2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4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5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6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7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8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9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0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1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6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8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9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0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1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2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2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0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1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4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5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6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7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8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0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1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2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3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4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6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7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0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1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2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3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6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8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9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0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1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2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3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4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5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6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7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8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0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2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122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3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22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2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05B-AF02-4C6A-B122-251736C178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7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2536-9140-43B9-BE02-A7FCD76EEA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own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&#38050;&#29748;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audio" Target="../media/Failed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audio" Target="../media/&#38050;&#29748;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矩形 1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9180720" cy="318132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 txBox="1"/>
          <p:nvPr/>
        </p:nvSpPr>
        <p:spPr>
          <a:xfrm>
            <a:off x="2556000" y="981000"/>
            <a:ext cx="360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三家长会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5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7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68" name="WordArt 6"/>
          <p:cNvSpPr txBox="1"/>
          <p:nvPr/>
        </p:nvSpPr>
        <p:spPr>
          <a:xfrm>
            <a:off x="611280" y="26028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英语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69" name=""/>
          <p:cNvGraphicFramePr/>
          <p:nvPr/>
        </p:nvGraphicFramePr>
        <p:xfrm>
          <a:off x="1979640" y="1700280"/>
          <a:ext cx="4681440" cy="4114800"/>
        </p:xfrm>
        <a:graphic>
          <a:graphicData uri="http://schemas.openxmlformats.org/drawingml/2006/table">
            <a:tbl>
              <a:tblPr/>
              <a:tblGrid>
                <a:gridCol w="2341440"/>
                <a:gridCol w="234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0" name="Picture 2" descr="1600_047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1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1" name=""/>
          <p:cNvGraphicFramePr/>
          <p:nvPr/>
        </p:nvGraphicFramePr>
        <p:xfrm>
          <a:off x="2050920" y="476280"/>
          <a:ext cx="4824720" cy="5727600"/>
        </p:xfrm>
        <a:graphic>
          <a:graphicData uri="http://schemas.openxmlformats.org/drawingml/2006/table">
            <a:tbl>
              <a:tblPr/>
              <a:tblGrid>
                <a:gridCol w="2343240"/>
                <a:gridCol w="24814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何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  楠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爽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子鸣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徐  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2" name="WordArt 41"/>
          <p:cNvSpPr txBox="1"/>
          <p:nvPr/>
        </p:nvSpPr>
        <p:spPr>
          <a:xfrm rot="5400000">
            <a:off x="-1866240" y="2666160"/>
            <a:ext cx="58197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期中物理成绩优秀的学生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82440" y="-504720"/>
            <a:ext cx="9367560" cy="7022880"/>
          </a:xfrm>
          <a:prstGeom prst="rect">
            <a:avLst/>
          </a:prstGeom>
          <a:ln w="0">
            <a:noFill/>
          </a:ln>
        </p:spPr>
      </p:pic>
      <p:sp>
        <p:nvSpPr>
          <p:cNvPr id="1674" name="WordArt 3"/>
          <p:cNvSpPr txBox="1"/>
          <p:nvPr/>
        </p:nvSpPr>
        <p:spPr>
          <a:xfrm>
            <a:off x="395280" y="-14616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化学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1763640" y="1341360"/>
          <a:ext cx="5472360" cy="5202360"/>
        </p:xfrm>
        <a:graphic>
          <a:graphicData uri="http://schemas.openxmlformats.org/drawingml/2006/table">
            <a:tbl>
              <a:tblPr/>
              <a:tblGrid>
                <a:gridCol w="2737080"/>
                <a:gridCol w="27352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6" name="Picture 2" descr="gifmb034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7" name=""/>
          <p:cNvGraphicFramePr/>
          <p:nvPr/>
        </p:nvGraphicFramePr>
        <p:xfrm>
          <a:off x="2771640" y="981000"/>
          <a:ext cx="4753080" cy="4686480"/>
        </p:xfrm>
        <a:graphic>
          <a:graphicData uri="http://schemas.openxmlformats.org/drawingml/2006/table">
            <a:tbl>
              <a:tblPr/>
              <a:tblGrid>
                <a:gridCol w="2378160"/>
                <a:gridCol w="237492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董  迪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WordArt 35"/>
          <p:cNvSpPr txBox="1"/>
          <p:nvPr/>
        </p:nvSpPr>
        <p:spPr>
          <a:xfrm rot="5400000">
            <a:off x="-1103040" y="3126600"/>
            <a:ext cx="5326200" cy="74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期中政治成绩优秀的学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Picture 2" descr="11"/>
          <p:cNvPicPr/>
          <p:nvPr/>
        </p:nvPicPr>
        <p:blipFill>
          <a:blip r:embed="rId1"/>
          <a:stretch/>
        </p:blipFill>
        <p:spPr>
          <a:xfrm>
            <a:off x="396720" y="-444600"/>
            <a:ext cx="9753840" cy="7290000"/>
          </a:xfrm>
          <a:prstGeom prst="rect">
            <a:avLst/>
          </a:prstGeom>
          <a:ln w="0">
            <a:noFill/>
          </a:ln>
        </p:spPr>
      </p:pic>
      <p:sp>
        <p:nvSpPr>
          <p:cNvPr id="1680" name="WordArt 3"/>
          <p:cNvSpPr txBox="1"/>
          <p:nvPr/>
        </p:nvSpPr>
        <p:spPr>
          <a:xfrm>
            <a:off x="324000" y="-21744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历史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81" name=""/>
          <p:cNvGraphicFramePr/>
          <p:nvPr/>
        </p:nvGraphicFramePr>
        <p:xfrm>
          <a:off x="2700360" y="1052640"/>
          <a:ext cx="5400720" cy="532908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戴梓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莹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赵阳阳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Picture 2" descr="18"/>
          <p:cNvPicPr/>
          <p:nvPr/>
        </p:nvPicPr>
        <p:blipFill>
          <a:blip r:embed="rId1"/>
          <a:stretch/>
        </p:blipFill>
        <p:spPr>
          <a:xfrm>
            <a:off x="0" y="-228600"/>
            <a:ext cx="9312120" cy="696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3" name=""/>
          <p:cNvGraphicFramePr/>
          <p:nvPr/>
        </p:nvGraphicFramePr>
        <p:xfrm>
          <a:off x="2197080" y="-84240"/>
          <a:ext cx="5543640" cy="6683400"/>
        </p:xfrm>
        <a:graphic>
          <a:graphicData uri="http://schemas.openxmlformats.org/drawingml/2006/table">
            <a:tbl>
              <a:tblPr/>
              <a:tblGrid>
                <a:gridCol w="3022560"/>
                <a:gridCol w="25210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袁婉玲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  宰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4" name="WordArt 47"/>
          <p:cNvSpPr txBox="1"/>
          <p:nvPr/>
        </p:nvSpPr>
        <p:spPr>
          <a:xfrm rot="5400000">
            <a:off x="-1728000" y="2743920"/>
            <a:ext cx="59738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地生成绩优秀的学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/>
          </p:nvPr>
        </p:nvSpPr>
        <p:spPr>
          <a:xfrm>
            <a:off x="108000" y="117000"/>
            <a:ext cx="9036000" cy="662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存在的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存在偏科现象，影响整体成绩的提高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张伟 倪百川 张昆 顾子椿 朱昭昭  阮小娜（数）王爽 徐斌  李俊龙  朱昭昭  王腾（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曹璇（理化）王莹莹（政治）等同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部分学生学习不积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信心不足，不能吃苦，没有毕业班学生应有的紧迫感和强烈的竞争意识，导致学习成绩只退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/>
          </p:nvPr>
        </p:nvSpPr>
        <p:spPr>
          <a:xfrm>
            <a:off x="466200" y="9806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部分学生知识基础薄弱，有厌学并弃学的做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不少学生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独立能力较差，倚赖思想严重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能独立作业，抄作业现象严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时间的占有与利用率较低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Text Box 2"/>
          <p:cNvSpPr/>
          <p:nvPr/>
        </p:nvSpPr>
        <p:spPr>
          <a:xfrm>
            <a:off x="250920" y="18900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努力的目标和方向：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狠抓班级纪律，培养学生的良好学             习、行为习惯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保持并强化良好的班风和学风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帮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生树立信心，激发学生学习热情，学会自主学习，力争明年中考取得理想成绩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进一步做好培优、补差工作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1689" name="Text Box 6"/>
          <p:cNvSpPr/>
          <p:nvPr/>
        </p:nvSpPr>
        <p:spPr>
          <a:xfrm>
            <a:off x="2824200" y="1916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中考形势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家长会程序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班主任谈班级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家长与任课老师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/>
          </p:nvPr>
        </p:nvSpPr>
        <p:spPr>
          <a:xfrm>
            <a:off x="34920" y="117000"/>
            <a:ext cx="90043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中考考试科目、分数、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各科分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数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物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政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地理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生物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语听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机属于过关考试，不过关不能上重点高中。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七门文化科考试时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12.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17.18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总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上一届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北睢中正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最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才能取得上普通高中资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 Box 2"/>
          <p:cNvSpPr/>
          <p:nvPr/>
        </p:nvSpPr>
        <p:spPr>
          <a:xfrm>
            <a:off x="324000" y="1484280"/>
            <a:ext cx="8497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年份    徐州一中      睢中南         睢中北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5             633              633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3       65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0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3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1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lain" startAt="200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88       64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59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48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62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2" name="Text Box 3"/>
          <p:cNvSpPr/>
          <p:nvPr/>
        </p:nvSpPr>
        <p:spPr>
          <a:xfrm>
            <a:off x="250920" y="11736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重点中学录取分数线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/>
          </p:nvPr>
        </p:nvSpPr>
        <p:spPr>
          <a:xfrm>
            <a:off x="107640" y="117360"/>
            <a:ext cx="878508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招生方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、北两校单独招生，互不兼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睢中录取人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轨生、指标生，即免费生；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，缴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3360--193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近三年我校录取睢中免费生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0--7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上择校生总共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00---1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取方法：并轨、指标、择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2"/>
          <p:cNvSpPr/>
          <p:nvPr/>
        </p:nvSpPr>
        <p:spPr>
          <a:xfrm>
            <a:off x="252360" y="2279520"/>
            <a:ext cx="8763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前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我校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我校学生包揽前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名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9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8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   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8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24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我校共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。（另：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79.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初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现初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地生中考满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5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72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，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0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以上再过千人（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9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人）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、全县中考总均分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71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，我校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87.3</a:t>
            </a: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注：以上分数不含政策性加分。</a:t>
            </a:r>
            <a:endParaRPr b="1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5" name="WordArt 3" descr=""/>
          <p:cNvPicPr/>
          <p:nvPr/>
        </p:nvPicPr>
        <p:blipFill>
          <a:blip r:embed="rId1"/>
          <a:stretch/>
        </p:blipFill>
        <p:spPr>
          <a:xfrm>
            <a:off x="907920" y="0"/>
            <a:ext cx="6529680" cy="2182680"/>
          </a:xfrm>
          <a:prstGeom prst="rect">
            <a:avLst/>
          </a:prstGeom>
          <a:ln w="0">
            <a:noFill/>
          </a:ln>
        </p:spPr>
      </p:pic>
      <p:sp>
        <p:nvSpPr>
          <p:cNvPr id="1696" name="WordArt 4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1697" name="WordArt 5"/>
          <p:cNvSpPr txBox="1"/>
          <p:nvPr/>
        </p:nvSpPr>
        <p:spPr>
          <a:xfrm>
            <a:off x="612720" y="-23760"/>
            <a:ext cx="669600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8" name="Picture 2" descr="1-110521010381-1胡璐"/>
          <p:cNvPicPr/>
          <p:nvPr/>
        </p:nvPicPr>
        <p:blipFill>
          <a:blip r:embed="rId1"/>
          <a:stretch/>
        </p:blipFill>
        <p:spPr>
          <a:xfrm>
            <a:off x="352440" y="1735200"/>
            <a:ext cx="1324080" cy="1743120"/>
          </a:xfrm>
          <a:prstGeom prst="rect">
            <a:avLst/>
          </a:prstGeom>
          <a:ln w="0">
            <a:noFill/>
          </a:ln>
        </p:spPr>
      </p:pic>
      <p:sp>
        <p:nvSpPr>
          <p:cNvPr id="1699" name="Text Box 3"/>
          <p:cNvSpPr/>
          <p:nvPr/>
        </p:nvSpPr>
        <p:spPr>
          <a:xfrm>
            <a:off x="190440" y="355140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0" name="Text Box 4"/>
          <p:cNvSpPr/>
          <p:nvPr/>
        </p:nvSpPr>
        <p:spPr>
          <a:xfrm>
            <a:off x="2514600" y="3581280"/>
            <a:ext cx="1828800" cy="69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11052101136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卢欢 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710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cc"/>
                </a:solidFill>
                <a:latin typeface="Times New Roman"/>
              </a:rPr>
              <a:t>全县第二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1" name="Text Box 5"/>
          <p:cNvSpPr/>
          <p:nvPr/>
        </p:nvSpPr>
        <p:spPr>
          <a:xfrm>
            <a:off x="5086440" y="3551400"/>
            <a:ext cx="200016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189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胡桂铭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7.5   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三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2" name="Text Box 6"/>
          <p:cNvSpPr/>
          <p:nvPr/>
        </p:nvSpPr>
        <p:spPr>
          <a:xfrm>
            <a:off x="7257960" y="3551400"/>
            <a:ext cx="1828800" cy="79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79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滕瑶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6.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四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3" name="Text Box 7"/>
          <p:cNvSpPr/>
          <p:nvPr/>
        </p:nvSpPr>
        <p:spPr>
          <a:xfrm>
            <a:off x="228600" y="6070680"/>
            <a:ext cx="2057400" cy="55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708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倪浩伦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6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全县第五名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4" name="Text Box 8"/>
          <p:cNvSpPr/>
          <p:nvPr/>
        </p:nvSpPr>
        <p:spPr>
          <a:xfrm>
            <a:off x="2514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061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徐晓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5" name="Text Box 9"/>
          <p:cNvSpPr/>
          <p:nvPr/>
        </p:nvSpPr>
        <p:spPr>
          <a:xfrm>
            <a:off x="491508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0665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姚若愚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6" name="Text Box 10"/>
          <p:cNvSpPr/>
          <p:nvPr/>
        </p:nvSpPr>
        <p:spPr>
          <a:xfrm>
            <a:off x="7086600" y="6019920"/>
            <a:ext cx="18288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准考证号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110521011273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姓名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吴雨晨 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中考总分：</a:t>
            </a:r>
            <a:r>
              <a:rPr b="0" lang="zh-CN" sz="1000" spc="-1" strike="noStrike">
                <a:solidFill>
                  <a:srgbClr val="0033cc"/>
                </a:solidFill>
                <a:latin typeface="Times New Roman"/>
              </a:rPr>
              <a:t>702</a:t>
            </a:r>
            <a:endParaRPr b="1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07" name="Picture 11" descr="2-卢欢110521011369"/>
          <p:cNvPicPr/>
          <p:nvPr/>
        </p:nvPicPr>
        <p:blipFill>
          <a:blip r:embed="rId2"/>
          <a:stretch/>
        </p:blipFill>
        <p:spPr>
          <a:xfrm>
            <a:off x="267480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12" descr="3-110521011189-3胡桂铭"/>
          <p:cNvPicPr/>
          <p:nvPr/>
        </p:nvPicPr>
        <p:blipFill>
          <a:blip r:embed="rId3"/>
          <a:stretch/>
        </p:blipFill>
        <p:spPr>
          <a:xfrm>
            <a:off x="517212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09" name="Picture 13" descr="4-110521010792-4滕瑶"/>
          <p:cNvPicPr/>
          <p:nvPr/>
        </p:nvPicPr>
        <p:blipFill>
          <a:blip r:embed="rId4"/>
          <a:stretch/>
        </p:blipFill>
        <p:spPr>
          <a:xfrm>
            <a:off x="7486560" y="1695600"/>
            <a:ext cx="1363680" cy="178272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14" descr="110521011708"/>
          <p:cNvPicPr/>
          <p:nvPr/>
        </p:nvPicPr>
        <p:blipFill>
          <a:blip r:embed="rId5"/>
          <a:stretch/>
        </p:blipFill>
        <p:spPr>
          <a:xfrm>
            <a:off x="439560" y="4411800"/>
            <a:ext cx="1236960" cy="161604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15" descr="7-姚若愚110521010665"/>
          <p:cNvPicPr/>
          <p:nvPr/>
        </p:nvPicPr>
        <p:blipFill>
          <a:blip r:embed="rId6"/>
          <a:stretch/>
        </p:blipFill>
        <p:spPr>
          <a:xfrm>
            <a:off x="53150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16" descr="6-徐晓110521010061"/>
          <p:cNvPicPr/>
          <p:nvPr/>
        </p:nvPicPr>
        <p:blipFill>
          <a:blip r:embed="rId7"/>
          <a:stretch/>
        </p:blipFill>
        <p:spPr>
          <a:xfrm>
            <a:off x="2800440" y="4429080"/>
            <a:ext cx="1236600" cy="1616040"/>
          </a:xfrm>
          <a:prstGeom prst="rect">
            <a:avLst/>
          </a:prstGeom>
          <a:ln w="0">
            <a:noFill/>
          </a:ln>
        </p:spPr>
      </p:pic>
      <p:pic>
        <p:nvPicPr>
          <p:cNvPr id="1713" name="Picture 17" descr="8-吴雨晨110521011273"/>
          <p:cNvPicPr/>
          <p:nvPr/>
        </p:nvPicPr>
        <p:blipFill>
          <a:blip r:embed="rId8"/>
          <a:stretch/>
        </p:blipFill>
        <p:spPr>
          <a:xfrm>
            <a:off x="7486560" y="4467240"/>
            <a:ext cx="1236600" cy="1616040"/>
          </a:xfrm>
          <a:prstGeom prst="rect">
            <a:avLst/>
          </a:prstGeom>
          <a:ln w="0">
            <a:noFill/>
          </a:ln>
        </p:spPr>
      </p:pic>
      <p:sp>
        <p:nvSpPr>
          <p:cNvPr id="1714" name="Rectangle 18"/>
          <p:cNvSpPr/>
          <p:nvPr/>
        </p:nvSpPr>
        <p:spPr>
          <a:xfrm>
            <a:off x="57240" y="13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5" name="Rectangle 19"/>
          <p:cNvSpPr/>
          <p:nvPr/>
        </p:nvSpPr>
        <p:spPr>
          <a:xfrm>
            <a:off x="-68400" y="250956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16" name="WordArt 20" descr=""/>
          <p:cNvPicPr/>
          <p:nvPr/>
        </p:nvPicPr>
        <p:blipFill>
          <a:blip r:embed="rId9"/>
          <a:stretch/>
        </p:blipFill>
        <p:spPr>
          <a:xfrm>
            <a:off x="1195560" y="-420840"/>
            <a:ext cx="6527520" cy="2170440"/>
          </a:xfrm>
          <a:prstGeom prst="rect">
            <a:avLst/>
          </a:prstGeom>
          <a:ln w="0">
            <a:noFill/>
          </a:ln>
        </p:spPr>
      </p:pic>
      <p:sp>
        <p:nvSpPr>
          <p:cNvPr id="1717" name="WordArt 21"/>
          <p:cNvSpPr txBox="1"/>
          <p:nvPr/>
        </p:nvSpPr>
        <p:spPr>
          <a:xfrm>
            <a:off x="612720" y="-23760"/>
            <a:ext cx="720108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WordArt 2" descr=""/>
          <p:cNvPicPr/>
          <p:nvPr/>
        </p:nvPicPr>
        <p:blipFill>
          <a:blip r:embed="rId1"/>
          <a:stretch/>
        </p:blipFill>
        <p:spPr>
          <a:xfrm>
            <a:off x="1457280" y="433440"/>
            <a:ext cx="6534360" cy="2181240"/>
          </a:xfrm>
          <a:prstGeom prst="rect">
            <a:avLst/>
          </a:prstGeom>
          <a:ln w="0">
            <a:noFill/>
          </a:ln>
        </p:spPr>
      </p:pic>
      <p:pic>
        <p:nvPicPr>
          <p:cNvPr id="1719" name="Picture 3" descr="1-110521010381-1胡璐"/>
          <p:cNvPicPr/>
          <p:nvPr/>
        </p:nvPicPr>
        <p:blipFill>
          <a:blip r:embed="rId2"/>
          <a:stretch/>
        </p:blipFill>
        <p:spPr>
          <a:xfrm>
            <a:off x="457200" y="1981080"/>
            <a:ext cx="2193840" cy="2886120"/>
          </a:xfrm>
          <a:prstGeom prst="rect">
            <a:avLst/>
          </a:prstGeom>
          <a:ln w="0">
            <a:noFill/>
          </a:ln>
        </p:spPr>
      </p:pic>
      <p:sp>
        <p:nvSpPr>
          <p:cNvPr id="1720" name="Text Box 4"/>
          <p:cNvSpPr/>
          <p:nvPr/>
        </p:nvSpPr>
        <p:spPr>
          <a:xfrm>
            <a:off x="3048120" y="2286000"/>
            <a:ext cx="5495760" cy="1765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准考证号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1052101038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姓名：胡璐 中考总分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71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全县第一名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1" name="WordArt 5"/>
          <p:cNvSpPr txBox="1"/>
          <p:nvPr/>
        </p:nvSpPr>
        <p:spPr>
          <a:xfrm rot="340800">
            <a:off x="4114440" y="6248160"/>
            <a:ext cx="472428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d9d8ec"/>
                  </a:solidFill>
                  <a:miter/>
                </a:ln>
                <a:solidFill>
                  <a:srgbClr val="d9d8ec"/>
                </a:solidFill>
                <a:latin typeface="宋体"/>
              </a:rPr>
              <a:t>只要努力，你的名字就会出现在这里。</a:t>
            </a:r>
            <a:endParaRPr b="1" lang="en-US" sz="7200" spc="1" strike="noStrike">
              <a:ln w="9360">
                <a:solidFill>
                  <a:srgbClr val="d9d8ec"/>
                </a:solidFill>
                <a:miter/>
              </a:ln>
              <a:solidFill>
                <a:srgbClr val="d9d8ec"/>
              </a:solidFill>
              <a:latin typeface="宋体"/>
              <a:ea typeface="宋体"/>
            </a:endParaRPr>
          </a:p>
        </p:txBody>
      </p:sp>
      <p:sp>
        <p:nvSpPr>
          <p:cNvPr id="1722" name="WordArt 6"/>
          <p:cNvSpPr txBox="1"/>
          <p:nvPr/>
        </p:nvSpPr>
        <p:spPr>
          <a:xfrm>
            <a:off x="3203640" y="4508640"/>
            <a:ext cx="533088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徐州教育的奇迹</a:t>
            </a:r>
            <a:endParaRPr b="1" lang="en-US" sz="7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/>
          </p:nvPr>
        </p:nvSpPr>
        <p:spPr>
          <a:xfrm>
            <a:off x="180720" y="259920"/>
            <a:ext cx="85820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前全年级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比上届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6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，在班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左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-----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2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--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5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--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9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1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3"/>
          <p:cNvSpPr/>
          <p:nvPr/>
        </p:nvSpPr>
        <p:spPr>
          <a:xfrm>
            <a:off x="108000" y="4581360"/>
            <a:ext cx="85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3---5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学生尤其需要努力。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WordArt 2"/>
          <p:cNvSpPr txBox="1"/>
          <p:nvPr/>
        </p:nvSpPr>
        <p:spPr>
          <a:xfrm>
            <a:off x="1116000" y="177336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流与建议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6" name="Picture 2" descr="1600_047"/>
          <p:cNvPicPr/>
          <p:nvPr/>
        </p:nvPicPr>
        <p:blipFill>
          <a:blip r:embed="rId1"/>
          <a:stretch/>
        </p:blipFill>
        <p:spPr>
          <a:xfrm>
            <a:off x="179280" y="-95400"/>
            <a:ext cx="9142560" cy="6824880"/>
          </a:xfrm>
          <a:prstGeom prst="rect">
            <a:avLst/>
          </a:prstGeom>
          <a:ln w="0">
            <a:noFill/>
          </a:ln>
        </p:spPr>
      </p:pic>
      <p:sp>
        <p:nvSpPr>
          <p:cNvPr id="1727" name="Text Box 3"/>
          <p:cNvSpPr/>
          <p:nvPr/>
        </p:nvSpPr>
        <p:spPr>
          <a:xfrm>
            <a:off x="5219640" y="2852640"/>
            <a:ext cx="39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8" name="Text Box 4"/>
          <p:cNvSpPr/>
          <p:nvPr/>
        </p:nvSpPr>
        <p:spPr>
          <a:xfrm>
            <a:off x="828720" y="242100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9" name="Text Box 5"/>
          <p:cNvSpPr/>
          <p:nvPr/>
        </p:nvSpPr>
        <p:spPr>
          <a:xfrm>
            <a:off x="466560" y="1052640"/>
            <a:ext cx="8280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在外留宿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带同学回家住宿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回家很迟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受伤回家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打电话时间长，次数多，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超常消费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超出友谊的交往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成绩突然下降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穿奇装异服，爱好打扮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、说话、做事和平时明显不同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0" name="WordArt 6"/>
          <p:cNvSpPr txBox="1"/>
          <p:nvPr/>
        </p:nvSpPr>
        <p:spPr>
          <a:xfrm>
            <a:off x="684360" y="189000"/>
            <a:ext cx="345600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关注孩子的变化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Dow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1" name="Picture 2" descr="JKS15_100"/>
          <p:cNvPicPr/>
          <p:nvPr/>
        </p:nvPicPr>
        <p:blipFill>
          <a:blip r:embed="rId1"/>
          <a:stretch/>
        </p:blipFill>
        <p:spPr>
          <a:xfrm>
            <a:off x="108000" y="-9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32" name="Text Box 3"/>
          <p:cNvSpPr/>
          <p:nvPr/>
        </p:nvSpPr>
        <p:spPr>
          <a:xfrm>
            <a:off x="61128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要尽量控制孩子的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零用钱</a:t>
            </a:r>
            <a:r>
              <a:rPr b="1" lang="zh-CN" sz="3200" spc="-1" strike="noStrike">
                <a:solidFill>
                  <a:srgbClr val="006666"/>
                </a:solidFill>
                <a:latin typeface="华文中宋"/>
                <a:ea typeface="华文中宋"/>
              </a:rPr>
              <a:t>和上学、回家的时间，时刻了解学生的动向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3" name="Text Box 4"/>
          <p:cNvSpPr/>
          <p:nvPr/>
        </p:nvSpPr>
        <p:spPr>
          <a:xfrm>
            <a:off x="539640" y="4428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这样会更好！</a:t>
            </a:r>
            <a:endParaRPr b="1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4" name="Text Box 5"/>
          <p:cNvSpPr/>
          <p:nvPr/>
        </p:nvSpPr>
        <p:spPr>
          <a:xfrm>
            <a:off x="1403280" y="2781360"/>
            <a:ext cx="73454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早    晨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中午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1: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3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午休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2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（在家午休的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:5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）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晚上放学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20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5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周六下午放学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:16</a:t>
            </a:r>
            <a:r>
              <a:rPr b="1" lang="zh-CN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：</a:t>
            </a:r>
            <a:r>
              <a:rPr b="1" lang="en-US" sz="3600" spc="-1" strike="noStrike">
                <a:solidFill>
                  <a:srgbClr val="cc0066"/>
                </a:solidFill>
                <a:latin typeface="华文中宋"/>
                <a:ea typeface="华文中宋"/>
              </a:rPr>
              <a:t>1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5" name="Text Box 6"/>
          <p:cNvSpPr/>
          <p:nvPr/>
        </p:nvSpPr>
        <p:spPr>
          <a:xfrm>
            <a:off x="468360" y="198900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中宋"/>
              </a:rPr>
              <a:t>作息时间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%E9%92%A2%E7%90%B4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2"/>
          <p:cNvSpPr/>
          <p:nvPr/>
        </p:nvSpPr>
        <p:spPr>
          <a:xfrm>
            <a:off x="250920" y="117360"/>
            <a:ext cx="595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班级基本情况：</a:t>
            </a:r>
            <a:endParaRPr b="1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9" name="Text Box 3"/>
          <p:cNvSpPr/>
          <p:nvPr/>
        </p:nvSpPr>
        <p:spPr>
          <a:xfrm>
            <a:off x="250920" y="1123920"/>
            <a:ext cx="858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全班共有学生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7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其中男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5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女生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名 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由原初二年级学生平均分配组成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0" name="Rectangle 4"/>
          <p:cNvSpPr/>
          <p:nvPr/>
        </p:nvSpPr>
        <p:spPr>
          <a:xfrm>
            <a:off x="250920" y="2708280"/>
            <a:ext cx="8232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班级管理总体原则</a:t>
            </a:r>
            <a:r>
              <a:rPr b="1" lang="en-US" sz="36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培养好习惯、做文明人、树信心、学会学习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目前班级已形成良好的班风、学风、正沿着健康的轨道向前发展。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1" name="Picture 5" descr="图片22"/>
          <p:cNvPicPr/>
          <p:nvPr/>
        </p:nvPicPr>
        <p:blipFill>
          <a:blip r:embed="rId1"/>
          <a:stretch/>
        </p:blipFill>
        <p:spPr>
          <a:xfrm>
            <a:off x="108000" y="508464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2" descr="JKS15_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7" name="Text Box 3"/>
          <p:cNvSpPr/>
          <p:nvPr/>
        </p:nvSpPr>
        <p:spPr>
          <a:xfrm>
            <a:off x="612720" y="69228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2 </a:t>
            </a:r>
            <a:r>
              <a:rPr b="1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在假期、周六、周日这段时间内督促孩子多看书，少看电视，尽量不要上网打游戏</a:t>
            </a:r>
            <a:r>
              <a:rPr b="0" lang="zh-CN" sz="3200" spc="-1" strike="noStrike">
                <a:solidFill>
                  <a:srgbClr val="0066cc"/>
                </a:solidFill>
                <a:latin typeface="华文中宋"/>
                <a:ea typeface="华文中宋"/>
              </a:rPr>
              <a:t>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8" name="Text Box 4"/>
          <p:cNvSpPr/>
          <p:nvPr/>
        </p:nvSpPr>
        <p:spPr>
          <a:xfrm>
            <a:off x="684360" y="1917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3 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不要把手机、</a:t>
            </a:r>
            <a:r>
              <a:rPr b="1" lang="en-US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MP3</a:t>
            </a:r>
            <a:r>
              <a:rPr b="1" lang="zh-CN" sz="3200" spc="-1" strike="noStrike">
                <a:solidFill>
                  <a:srgbClr val="6600cc"/>
                </a:solidFill>
                <a:latin typeface="华文中宋"/>
                <a:ea typeface="华文中宋"/>
              </a:rPr>
              <a:t>等通讯工具给子女使用，甚至带到学校（学校有明确的处罚规定）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9" name="Rectangle 5"/>
          <p:cNvSpPr/>
          <p:nvPr/>
        </p:nvSpPr>
        <p:spPr>
          <a:xfrm>
            <a:off x="755640" y="3502080"/>
            <a:ext cx="821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4 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关心学生每一天的学习情况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督促学生晚上在家独立完成各科家庭作业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作业签字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并进行适当的复习和预习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对于学有余力的学生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安排适当的课外习题</a:t>
            </a:r>
            <a:r>
              <a:rPr b="1" lang="en-US" sz="3200" spc="-1" strike="noStrike">
                <a:solidFill>
                  <a:srgbClr val="cc00cc"/>
                </a:solidFill>
                <a:latin typeface="华文中宋"/>
                <a:ea typeface="华文中宋"/>
              </a:rPr>
              <a:t>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0" name="Picture 6" descr="27_4200_578"/>
          <p:cNvPicPr/>
          <p:nvPr/>
        </p:nvPicPr>
        <p:blipFill>
          <a:blip r:embed="rId2"/>
          <a:stretch/>
        </p:blipFill>
        <p:spPr>
          <a:xfrm>
            <a:off x="228600" y="0"/>
            <a:ext cx="8610480" cy="45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Failed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42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3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4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45" name="Text Box 6"/>
          <p:cNvSpPr/>
          <p:nvPr/>
        </p:nvSpPr>
        <p:spPr>
          <a:xfrm>
            <a:off x="252360" y="549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5 </a:t>
            </a:r>
            <a:r>
              <a:rPr b="1" lang="zh-CN" sz="3200" spc="-1" strike="noStrike">
                <a:solidFill>
                  <a:srgbClr val="009900"/>
                </a:solidFill>
                <a:latin typeface="华文中宋"/>
                <a:ea typeface="华文中宋"/>
              </a:rPr>
              <a:t>每天给孩子创造良好的学习环境，多鼓励孩子，多与孩子一同学习。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多注意孩子的书包，看一看里面装的是啥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体育训练马上要开始了，注意早饭的营养。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工作再忙也要抽点时间来多了解孩子在校的表现和学习成绩情况。</a:t>
            </a:r>
            <a:r>
              <a:rPr b="1" lang="zh-CN" sz="4800" spc="-1" strike="noStrike">
                <a:solidFill>
                  <a:srgbClr val="ff00ff"/>
                </a:solidFill>
                <a:latin typeface="新宋体"/>
                <a:ea typeface="华文中宋"/>
              </a:rPr>
              <a:t>他们的自制能力是很差的</a:t>
            </a:r>
            <a:r>
              <a:rPr b="1" lang="zh-CN" sz="4800" spc="-1" strike="noStrike">
                <a:solidFill>
                  <a:srgbClr val="ff00ff"/>
                </a:solidFill>
                <a:latin typeface="Tahoma"/>
                <a:ea typeface="华文中宋"/>
              </a:rPr>
              <a:t>，需要我们的监督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2"/>
          <p:cNvGrpSpPr/>
          <p:nvPr/>
        </p:nvGrpSpPr>
        <p:grpSpPr>
          <a:xfrm>
            <a:off x="-33480" y="-95400"/>
            <a:ext cx="9141120" cy="6855120"/>
            <a:chOff x="-33480" y="-95400"/>
            <a:chExt cx="9141120" cy="6855120"/>
          </a:xfrm>
        </p:grpSpPr>
        <p:pic>
          <p:nvPicPr>
            <p:cNvPr id="1748" name="Picture 3" descr="未命名"/>
            <p:cNvPicPr/>
            <p:nvPr/>
          </p:nvPicPr>
          <p:blipFill>
            <a:blip r:embed="rId2"/>
            <a:stretch/>
          </p:blipFill>
          <p:spPr>
            <a:xfrm>
              <a:off x="-33480" y="-95400"/>
              <a:ext cx="914112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Rectangle 4"/>
            <p:cNvSpPr/>
            <p:nvPr/>
          </p:nvSpPr>
          <p:spPr>
            <a:xfrm>
              <a:off x="-33480" y="-95400"/>
              <a:ext cx="25135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0" name="Rectangle 5"/>
            <p:cNvSpPr/>
            <p:nvPr/>
          </p:nvSpPr>
          <p:spPr>
            <a:xfrm>
              <a:off x="5146200" y="3789000"/>
              <a:ext cx="3123360" cy="24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51" name="WordArt 6"/>
          <p:cNvSpPr txBox="1"/>
          <p:nvPr/>
        </p:nvSpPr>
        <p:spPr>
          <a:xfrm>
            <a:off x="1476360" y="3240"/>
            <a:ext cx="54720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谢谢光临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52" name="Text Box 7"/>
          <p:cNvSpPr/>
          <p:nvPr/>
        </p:nvSpPr>
        <p:spPr>
          <a:xfrm>
            <a:off x="36360" y="155736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让我们一起帮助孩子走好人生的十字路口！</a:t>
            </a:r>
            <a:endParaRPr b="1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3" name="WordArt 8"/>
          <p:cNvSpPr txBox="1"/>
          <p:nvPr/>
        </p:nvSpPr>
        <p:spPr>
          <a:xfrm>
            <a:off x="4211640" y="566100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常过来看看！</a:t>
            </a:r>
            <a:endParaRPr b="1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5" name="%E9%92%A2%E7%90%B4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Text Box 2"/>
          <p:cNvSpPr/>
          <p:nvPr/>
        </p:nvSpPr>
        <p:spPr>
          <a:xfrm>
            <a:off x="179280" y="117360"/>
            <a:ext cx="89298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欢迎各位家长与各科任课老师交流！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语文          孙瑞渠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152516918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数学          马远宗   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15952258131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英语          孙   璇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921782791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物理          庄   诚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852137960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化学          姬中友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61512124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政治          郑    柱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392178037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历史          李冬梅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5852242945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7" descr="FR_033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1643" name="Text Box 6"/>
          <p:cNvSpPr/>
          <p:nvPr/>
        </p:nvSpPr>
        <p:spPr>
          <a:xfrm>
            <a:off x="1549440" y="2349360"/>
            <a:ext cx="56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期中考试分析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　</a:t>
            </a:r>
            <a:endParaRPr b="1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WordArt 2"/>
          <p:cNvSpPr txBox="1"/>
          <p:nvPr/>
        </p:nvSpPr>
        <p:spPr>
          <a:xfrm>
            <a:off x="324000" y="-3240"/>
            <a:ext cx="5400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优秀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45" name=""/>
          <p:cNvGraphicFramePr/>
          <p:nvPr/>
        </p:nvGraphicFramePr>
        <p:xfrm>
          <a:off x="-22320" y="838080"/>
          <a:ext cx="8879040" cy="5904000"/>
        </p:xfrm>
        <a:graphic>
          <a:graphicData uri="http://schemas.openxmlformats.org/drawingml/2006/table">
            <a:tbl>
              <a:tblPr/>
              <a:tblGrid>
                <a:gridCol w="1114560"/>
                <a:gridCol w="855720"/>
                <a:gridCol w="690480"/>
                <a:gridCol w="762120"/>
                <a:gridCol w="644400"/>
                <a:gridCol w="884160"/>
                <a:gridCol w="692280"/>
                <a:gridCol w="649080"/>
                <a:gridCol w="648000"/>
                <a:gridCol w="887400"/>
                <a:gridCol w="441360"/>
                <a:gridCol w="60948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姓名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语文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数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物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化学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政治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历史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地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总分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名次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变化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6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.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2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5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3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昭昭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4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7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45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-6</a:t>
                      </a:r>
                      <a:endParaRPr b="1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WordArt 2"/>
          <p:cNvSpPr txBox="1"/>
          <p:nvPr/>
        </p:nvSpPr>
        <p:spPr>
          <a:xfrm>
            <a:off x="468360" y="-73080"/>
            <a:ext cx="6553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进步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7" name="Text Box 3"/>
          <p:cNvSpPr/>
          <p:nvPr/>
        </p:nvSpPr>
        <p:spPr>
          <a:xfrm>
            <a:off x="1042920" y="2349360"/>
            <a:ext cx="756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8" name="Text Box 4"/>
          <p:cNvSpPr/>
          <p:nvPr/>
        </p:nvSpPr>
        <p:spPr>
          <a:xfrm>
            <a:off x="900000" y="1989000"/>
            <a:ext cx="751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仝梦莹    王中源     刘思秀      陈欣宇    潘    婷     何   伟      朱子彧    徐    也     张佳钰      王子鸣    倪百川     吴    琪      朱柳青    吴    祥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2"/>
          <p:cNvSpPr txBox="1"/>
          <p:nvPr/>
        </p:nvSpPr>
        <p:spPr>
          <a:xfrm>
            <a:off x="324000" y="0"/>
            <a:ext cx="65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期中成绩退步的学生：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0" name="Text Box 3"/>
          <p:cNvSpPr/>
          <p:nvPr/>
        </p:nvSpPr>
        <p:spPr>
          <a:xfrm>
            <a:off x="1144440" y="1962000"/>
            <a:ext cx="731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尹腾川      顾子春    徐   斌  陈思宇      王莹莹    祁润东胡   宝       戴梓升    主   宰 张   坤       纪松凯    袁婉玲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矩形 5"/>
          <p:cNvSpPr/>
          <p:nvPr/>
        </p:nvSpPr>
        <p:spPr>
          <a:xfrm>
            <a:off x="179280" y="63039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hangye/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jieri/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sucai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1" lang="en-US" sz="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2" name="Picture 2" descr="gifmb034"/>
          <p:cNvPicPr/>
          <p:nvPr/>
        </p:nvPicPr>
        <p:blipFill>
          <a:blip r:embed="rId2"/>
          <a:stretch/>
        </p:blipFill>
        <p:spPr>
          <a:xfrm>
            <a:off x="-22320" y="-12600"/>
            <a:ext cx="9526680" cy="68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3" name=""/>
          <p:cNvGraphicFramePr/>
          <p:nvPr/>
        </p:nvGraphicFramePr>
        <p:xfrm>
          <a:off x="2771640" y="620640"/>
          <a:ext cx="4319640" cy="5726160"/>
        </p:xfrm>
        <a:graphic>
          <a:graphicData uri="http://schemas.openxmlformats.org/drawingml/2006/table">
            <a:tbl>
              <a:tblPr/>
              <a:tblGrid>
                <a:gridCol w="2136960"/>
                <a:gridCol w="218268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  涵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朱子彧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9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  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吴  祥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郭  珍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丁杰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邢丽娜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4" name="WordArt 41"/>
          <p:cNvSpPr txBox="1"/>
          <p:nvPr/>
        </p:nvSpPr>
        <p:spPr>
          <a:xfrm rot="5400000">
            <a:off x="-438840" y="2676960"/>
            <a:ext cx="44751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语文成绩优秀的学生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826920" y="6093000"/>
            <a:ext cx="7624800" cy="525240"/>
            <a:chOff x="826920" y="6093000"/>
            <a:chExt cx="7624800" cy="525240"/>
          </a:xfrm>
        </p:grpSpPr>
        <p:pic>
          <p:nvPicPr>
            <p:cNvPr id="1656" name="Picture 3" descr="2"/>
            <p:cNvPicPr/>
            <p:nvPr/>
          </p:nvPicPr>
          <p:blipFill>
            <a:blip r:embed="rId1"/>
            <a:stretch/>
          </p:blipFill>
          <p:spPr>
            <a:xfrm>
              <a:off x="6999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Picture 4" descr="2"/>
            <p:cNvPicPr/>
            <p:nvPr/>
          </p:nvPicPr>
          <p:blipFill>
            <a:blip r:embed="rId2"/>
            <a:stretch/>
          </p:blipFill>
          <p:spPr>
            <a:xfrm>
              <a:off x="55512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Picture 5" descr="2"/>
            <p:cNvPicPr/>
            <p:nvPr/>
          </p:nvPicPr>
          <p:blipFill>
            <a:blip r:embed="rId3"/>
            <a:stretch/>
          </p:blipFill>
          <p:spPr>
            <a:xfrm>
              <a:off x="395100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Picture 6" descr="2"/>
            <p:cNvPicPr/>
            <p:nvPr/>
          </p:nvPicPr>
          <p:blipFill>
            <a:blip r:embed="rId4"/>
            <a:stretch/>
          </p:blipFill>
          <p:spPr>
            <a:xfrm>
              <a:off x="24271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Picture 7" descr="2"/>
            <p:cNvPicPr/>
            <p:nvPr/>
          </p:nvPicPr>
          <p:blipFill>
            <a:blip r:embed="rId5"/>
            <a:stretch/>
          </p:blipFill>
          <p:spPr>
            <a:xfrm>
              <a:off x="826920" y="6093000"/>
              <a:ext cx="1452600" cy="52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1" name="Text Box 8"/>
          <p:cNvSpPr/>
          <p:nvPr/>
        </p:nvSpPr>
        <p:spPr>
          <a:xfrm>
            <a:off x="1187280" y="1844640"/>
            <a:ext cx="71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62" name=""/>
          <p:cNvGraphicFramePr/>
          <p:nvPr/>
        </p:nvGraphicFramePr>
        <p:xfrm>
          <a:off x="2627280" y="549360"/>
          <a:ext cx="4464000" cy="52038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张津源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胡晗达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炎铭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嘉伟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曹  璇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7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王济彤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仝梦莹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  烁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崔  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刘思秀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3" name="WordArt 44"/>
          <p:cNvSpPr txBox="1"/>
          <p:nvPr/>
        </p:nvSpPr>
        <p:spPr>
          <a:xfrm rot="5400000">
            <a:off x="-1368360" y="2816280"/>
            <a:ext cx="52545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期中数学成绩优秀的学生</a:t>
            </a:r>
            <a:endParaRPr b="1" i="1" lang="en-US" sz="7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3:30:41Z</dcterms:created>
  <dc:creator>雨林木风</dc:creator>
  <dc:description/>
  <cp:keywords/>
  <dc:language>en-US</dc:language>
  <cp:lastModifiedBy>admin</cp:lastModifiedBy>
  <cp:lastPrinted>1899-12-30T00:00:00Z</cp:lastPrinted>
  <dcterms:modified xsi:type="dcterms:W3CDTF">2015-03-31T01:54:16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0802000000000001024120</vt:lpwstr>
  </property>
</Properties>
</file>