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93B-A0AB-4084-A265-955F9822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481-14FC-4A18-B705-EC2CB294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0D74-FCDD-4DEF-AB99-DA03FA74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1BF-B0FF-4BD6-A75B-815E150F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1685-CD89-4283-BDB0-2E20FF95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7519-778B-4C41-B181-F2C39E90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7EAB-8FB7-4348-8585-B536ABCB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74A1-1FAA-4921-BEDE-5E3B2A33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EBE2-0528-4181-89B7-CEE79141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2A12-6E6A-476E-A84F-733F1BAA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ECDB-5881-4645-9968-841A6488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AAF1-EDE9-4318-89ED-B690E0F1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E75F-5BC9-4A55-9573-0F89B550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DDB8-B98F-4427-A38C-49F9EB8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BC07-E3E0-4EC0-8B4A-E3CFFEF0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6843-0E21-4CF3-A44E-DA68A510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EA43-8889-46FC-A6B1-4592457D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F8655-4594-4949-BEE8-909BC13B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F19AD-117A-463E-92AD-D5782F25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521BB-3595-4691-9008-BE799376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D6624-6BA9-4FCF-8370-78C15D3C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22C3E-4C96-4E77-88CB-A6101A10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64B-8E82-4CBB-B976-D026A1C1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76C32-4EAE-423B-A89E-824FF61A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DB06-BDC5-40DA-9FAA-D9F433FF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4810-38EA-400E-B822-7B0A7F42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E21BD-6DFA-4D29-A41A-0DBBC1FC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CFDB8-3DCD-4A59-AE02-877893C6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C6446-94E1-4EAB-AB81-FA127860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DF117-8654-41BA-AA24-C0A22E60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79D34-7A53-4BC3-8CB3-5C65FA6F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264C8-DDDE-487E-87C0-BA0718B5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58CD6-9EB0-4898-8876-CEE920E5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831-BA1E-4B93-8E59-0D0A6E28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E5F68-8B6A-4AD5-99A3-1E10B2AE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68FAE-A43B-4767-8AE0-09C519C0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0234F-1BAC-42CC-AD12-A5A50CBF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F8E03-27B4-4030-B1FB-8DD6886C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27311-AB9B-42C5-9D08-FF3DFB99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67EFF-B79A-4C85-9E06-8613C962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F9400-6EB7-4A16-861E-2826D558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71B08-D6E4-48E8-A072-E38838D2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609D7-8AF1-4DB0-B629-06E86D3C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7C4-D466-485C-AB2D-65D61DCC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208-A3F6-4958-8441-498F265C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D11-80EA-4D89-B734-2F9777A6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F93-6DED-4A96-8BFE-10C3F9EC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1FA-16F2-44A5-A768-B308DA1E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12DA-DCF8-4478-B937-DEF55ED3C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691E-DD72-47E7-B5A5-F0A85E7F5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50B3-F47E-4803-81A5-6498CE014EC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3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5040" y="6854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CD41-5A43-4210-AFB6-142ACD94E88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校同心，</a:t>
            </a:r>
            <a:br>
              <a:rPr sz="8800"/>
            </a:br>
            <a:r>
              <a:rPr b="1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师生同行</a:t>
            </a:r>
            <a:endParaRPr b="0" lang="en-US" sz="8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633680" y="4805280"/>
            <a:ext cx="604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东坡下载站编辑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62160" y="2133360"/>
            <a:ext cx="4647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572"/>
                </a:solidFill>
                <a:latin typeface="华文行楷"/>
                <a:ea typeface="华文行楷"/>
              </a:rPr>
              <a:t>学生现状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533520" y="762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1﹑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学习成绩</a:t>
            </a: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  在学习上，初二是一个分水岭，一部分同学在初二进步很快，由成绩中等上升为优秀，但也有一部分学生存在畏难情绪，将心思用在学习之外，成绩迅速下降，对学习失去兴趣，自暴自弃，从此一蹶不振。这样的同学到了初三往往很难有所突破，中孝的失利难以避免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这些孩子在初中学习将近二年，老本基本吃光了，但是有些孩子不肯吃苦，课堂上老师讲的知识还一知半解就满足了，自以为我会了，不在跟着老师讲课的步伐进行下去。真问到头上，支支吾吾说不出个一二三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流于作业形式，白纸画黑道，作业我写了，对与错是老师的事情，明显感觉写作业很盲目，没目标，对自己不负责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的学生学习本末倒置。有些科目应该温习课上知识后，再通过练习检查掌握的程度，然后弥补不足。但是他们只忙于书面作业，不会去翻书，翻笔记，只达到完成作业这一表面任务，力气没少用，效果不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学无章法，老师讲老师的，我做我的，有些孩子只学习自己感兴趣的学科，不均衡发展。而且有的孩子玩心太重，心思都在玩上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之所以学习成绩和优秀生落差很大，源于习惯极其不好，缺乏耐心、恒心、专心，即使大型公开课，大型活动，也都是我行我素，瞻前顾后，左顾右盼，这样的场合他都肆无忌惮，反映出长期的养成教育不足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不仅需要我们督促，作为父母的你们在日常生活中也要强化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71800" y="91404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572"/>
                </a:solidFill>
                <a:latin typeface="华文行楷"/>
                <a:ea typeface="华文行楷"/>
              </a:rPr>
              <a:t>对家长的建议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895120" y="3580920"/>
            <a:ext cx="6985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从学校及教师的角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也许有偏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457200" y="1447920"/>
            <a:ext cx="815328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不做准备的人，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就是准备失败的人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找准孩子学习的短板，要真正知道了解自己的孩子，在哪一学科是弱项。和其他孩子们横向、纵向比较一下，我究竟差到哪里，差到哪个学科，什么原因，并要积极应对，及时的查漏补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抓住学习的主次，比如数学 物理初二下学期知识逻辑性比较强，有的习题比较深，所以对于数学物理等学科的习题量一定要保证。并要保证即学即会，不留死角，不要单纯追求数量，而忽视做题的质量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长会的主题 ：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是介绍前阶段同学们在校表现和学习情况。结合本学期期中考试的情况，分析学生的学习和心理状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是和家长们探讨今后学生的教育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掌握学习方法。对于英语等学科，要夯实基础，无论学习时间怎么紧张，必要的英语单词，最基本的句型，语法，都要熟练掌握，达到零失误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对于政治历史等学科，要充分利用课堂的主阵地，把考点要及时的勾画好，积累好，以备考试之用。同时也要利用一定的时间对阶段学习内容进行复习。从而保证在闭卷考试的时候，能有一定的知识储备。在开卷考试时能够积累全面知识点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对于语文学科，要训练好孩子把握基础知识的能力，各类的书上的文言文，古诗词，老师要求背好记好的，一个字也不能差。同时也要鼓励孩子认认真真的去完成老师布置的作文和阅读，掌握阅读和作文的能力。考试的时候不发慌，等心应手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正确看待孩子的学习成绩。有的孩子学习各科成绩不算太高，比如说能达到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多分 但是很难达到高分，这样的孩子还有很大提升的潜力，所以就要帮助孩子找出出现差距的原因。而不要一味的指责。有的孩子可能学习成绩差点，达到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80-9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这个时候到了学业临界点，所以家长就要携同老师全方位的，对各学科学习进行监控。严防持续下滑的现象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保证家中一切为孩子的学习让路，例如四平市实验中学高考状元的班主任在谈体会的时候说，孩子回家的时候一般情况下应该有一位家长在家，让他感觉到一种依靠，使他能够全身心的投入到学习当中。中午孩子回家要及时吃上饭菜，保证孩子有合适的休息时间和空间。从而保证孩子学习充沛的经历。这个时候我们家长有的时候做些必要的牺牲，对于意义不重大应酬活动尽量避免参加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关注孩子的日常表现，防止思想出现波动，家长和孩子之间要建立互信，保持经常的有效沟通。比如说有的孩子情绪低落，那么要弄清楚什么原因造成，是不是和同学发生矛盾还是被老师误解啊，还是学习上遇到了困难，家长都要在第一时间掌握情况，做好疏导。如果发现孩子近期在某个时间段爱美，总是特别注意自己的仪表，上学前在镜子旁边照个半天，没事发呆，情绪无常，这个时候家长要和老师及时的沟通，是不是孩子出现感情问题，因为这个阶段正是青春期，以便及时应对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关于安全问题。掌握放学时间　规定到家时间，很多学生放学在街上游荡，容易接触社会青年，不给过多零花钱　，不允许到朋友家过夜，尤其周末，不带贵重物品到校，例如手机，提醒安全过马路，严查抽烟现象，放在课后班的家长也不要撒手不管，要及时和老师保持联系掌握放学时间，有家长接送的还好，要是不接送的容易出现差错，老师这放学了，结果孩子没回家去哪里玩，可是家长还以为在老师这上课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培养孩子吃苦耐劳的精神。初二属于攻坚阶段，初三属于冲刺阶段，虽然我们将来面对的是高考，但是初中阶段的成绩，对于一个人的知识储备和未来形成的心理暗示，非常的重要。如果中考取得好成绩孩子就会在学习上有种优越感，到高中也会形成自信，进取的学习状态，认为我能行，而不是我不行，我不如别人。神童和特殊的尖子生毕竟是少数，绝大多数的孩子还需要有铁杵磨成针的精神。家长要保证孩子晚上必要的学习时间。我感觉中午要是午睡的话，晚上学习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1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点没什么问题。这样到初三就能适应这种学习生活，到高中更会适应。现在的学习不能是只写完作业就完事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要严格规范孩子的学习习惯。平时做的习题要保证步骤完整，书写规范，不似是而非，培养孩子答题精准的习惯。会的题要做对。到了这个时候应该尽量不能出现马虎现像。不要从孩子历次考试的失利中单纯的寻求客观原因，而忽视主观因素。要知道考的不好只能证明平时学的不好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每周找一定时间和孩子聊一聊各科学习上有什么问题，给孩子创造良好的学习环境，多鼓励孩子，多与孩子一同学习。哪怕不是经常性的沟通，聊天，那么对于孩子也是莫大的鼓励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66680" y="685800"/>
            <a:ext cx="6858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排名榜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133720" y="3886200"/>
            <a:ext cx="44593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种瓜得瓜 种豆得豆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"/>
          <p:cNvSpPr/>
          <p:nvPr/>
        </p:nvSpPr>
        <p:spPr>
          <a:xfrm>
            <a:off x="838080" y="76212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557"/>
                </a:solidFill>
                <a:latin typeface="华文行楷"/>
                <a:ea typeface="华文行楷"/>
              </a:rPr>
              <a:t> 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加强与老师的联系。个别学生不愿意与家长交流，尤其不想和家长说学校里的情况，这样一来，家长往往不能从孩子那里知道他们最近的表现和变化，这就需要家长能够经常和老师联系，了解孩子的全面情况，就一些问题和老师沟通，双方合作，为孩子保驾护航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掌握好孩子的上学时间 早上 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点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到校，中午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点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到校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注意孩子的衣着，男生不留长发，女生不穿时髦衣服，不许带首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努力一定会有成效，放弃必定要失败，无论什么时候都要对自己的孩子有信心，只是在家长的心目当中一定要找准孩子发展的目标换和方向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0520" y="1218960"/>
            <a:ext cx="8078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557"/>
                </a:solidFill>
                <a:latin typeface="华文行楷"/>
                <a:ea typeface="华文行楷"/>
              </a:rPr>
              <a:t>    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家长们，我们的目标是统一的，我们的任务是一致的，愿我们相互合作，把我们的学生，您的孩子，培养成学习勤奋，品质优良的优秀人才，为将来学生的升学、就业、乃至整个人生的发展打下坚实的良好的基础。在此衷心祝愿我们每一个孩子健康成长，每一个家庭幸福平安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6"/>
          <p:cNvSpPr/>
          <p:nvPr/>
        </p:nvSpPr>
        <p:spPr>
          <a:xfrm>
            <a:off x="3124080" y="289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4894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4" name="矩形 7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716256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期中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，前三名是咱班的。第一名付晏升、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7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第二名张效明，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2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第三名孙璐瑶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第五名佟彩瑜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4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六名 王子越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47.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 咱班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6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3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7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9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0---119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8---11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5---11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 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2---11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0—108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43000" y="914400"/>
            <a:ext cx="1447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1.5---1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9.5—106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6---10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 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4.5—103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3—10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 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8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95280" y="76212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语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9---117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7---115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5—11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3.5—110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8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66680" y="5335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英语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0--9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8—9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7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5—9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8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62120" y="83808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物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政治年部满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，咱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历史年部满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，咱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1:08:10Z</dcterms:created>
  <dc:creator>Administrator</dc:creator>
  <dc:description/>
  <cp:keywords/>
  <dc:language>en-US</dc:language>
  <cp:lastModifiedBy>Sky123.Org</cp:lastModifiedBy>
  <dcterms:modified xsi:type="dcterms:W3CDTF">2015-03-30T01:35:14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Version">
    <vt:r8>1</vt:r8>
  </property>
</Properties>
</file>