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1B7-5660-497D-8035-EE3A815B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DC3-119D-42A1-86D3-381088B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324-95E1-4251-8174-AD11BD1E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F24-81B1-4B33-A9A8-ED1C9503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1AD-F15E-4CAC-8DD4-DF94E49B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87F-0077-47CC-A58E-BD399A03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859-924F-4363-BF5C-6CAEDD5F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9CA-EE1C-461C-8976-468EBAB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C0E-A562-487D-87CD-04F96B2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412-F7C8-445E-A118-FDE671D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825-DEB5-451A-AB5C-30E85360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1D6-CE87-4896-B7FA-D3CB0370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415800" indent="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248120" indent="-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63920" indent="-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C4F5-6913-4D33-BE88-72E2FD0DAB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37B1-5AAA-48CE-B0CE-C6D2156AD5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633120" y="3146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标题</a:t>
            </a:r>
            <a:r>
              <a:rPr b="0" lang="en-US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752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752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735360" y="3619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答辩人：某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5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5"/>
          <p:cNvSpPr/>
          <p:nvPr/>
        </p:nvSpPr>
        <p:spPr>
          <a:xfrm>
            <a:off x="5649840" y="-73980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6006960" y="-73980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6305400" y="-73980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6519960" y="-73980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>
            <a:off x="6864480" y="-739800"/>
            <a:ext cx="7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5649840" y="2260440"/>
            <a:ext cx="2858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01020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6307200" y="2260440"/>
            <a:ext cx="14292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6521400" y="2260440"/>
            <a:ext cx="21420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86736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5649840" y="-739800"/>
            <a:ext cx="28584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006960" y="-739800"/>
            <a:ext cx="7308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6305400" y="-73980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6519960" y="-73980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864480" y="-739800"/>
            <a:ext cx="727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700"/>
                            </p:stCondLst>
                            <p:childTnLst>
                              <p:par>
                                <p:cTn id="428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900"/>
                            </p:stCondLst>
                            <p:childTnLst>
                              <p:par>
                                <p:cTn id="4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9840" y="5162400"/>
            <a:ext cx="3349440" cy="0"/>
          </a:xfrm>
          <a:prstGeom prst="line">
            <a:avLst/>
          </a:prstGeom>
          <a:ln w="31680">
            <a:solidFill>
              <a:srgbClr val="ffc000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2400"/>
            <a:ext cx="3349800" cy="0"/>
          </a:xfrm>
          <a:prstGeom prst="line">
            <a:avLst/>
          </a:prstGeom>
          <a:ln w="31680">
            <a:solidFill>
              <a:srgbClr val="ffc000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6036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4000"/>
          </a:xfrm>
          <a:prstGeom prst="line">
            <a:avLst/>
          </a:prstGeom>
          <a:ln w="57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4"/>
          <p:cNvSpPr/>
          <p:nvPr/>
        </p:nvSpPr>
        <p:spPr>
          <a:xfrm>
            <a:off x="-69840" y="5162400"/>
            <a:ext cx="1041480" cy="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"/>
          <p:cNvSpPr/>
          <p:nvPr/>
        </p:nvSpPr>
        <p:spPr>
          <a:xfrm flipV="1">
            <a:off x="971640" y="2641680"/>
            <a:ext cx="1800000" cy="252072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2"/>
          <p:cNvSpPr/>
          <p:nvPr/>
        </p:nvSpPr>
        <p:spPr>
          <a:xfrm>
            <a:off x="6732720" y="2660760"/>
            <a:ext cx="934920" cy="250164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7"/>
          <p:cNvSpPr/>
          <p:nvPr/>
        </p:nvSpPr>
        <p:spPr>
          <a:xfrm>
            <a:off x="7667640" y="5162400"/>
            <a:ext cx="1584360" cy="0"/>
          </a:xfrm>
          <a:prstGeom prst="line">
            <a:avLst/>
          </a:prstGeom>
          <a:ln w="3168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FD3-C572-4327-9E3B-FE68BAC7F4C9}" type="slidenum">
              <a:t>3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2"/>
          <p:cNvSpPr/>
          <p:nvPr/>
        </p:nvSpPr>
        <p:spPr>
          <a:xfrm rot="19164600">
            <a:off x="-847800" y="318960"/>
            <a:ext cx="36003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34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0" name="椭圆​​ 24"/>
            <p:cNvSpPr/>
            <p:nvPr/>
          </p:nvSpPr>
          <p:spPr>
            <a:xfrm>
              <a:off x="718020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​​ 25"/>
            <p:cNvSpPr/>
            <p:nvPr/>
          </p:nvSpPr>
          <p:spPr>
            <a:xfrm>
              <a:off x="84643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​​ 26"/>
            <p:cNvSpPr/>
            <p:nvPr/>
          </p:nvSpPr>
          <p:spPr>
            <a:xfrm>
              <a:off x="695628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​​ 22"/>
            <p:cNvSpPr/>
            <p:nvPr/>
          </p:nvSpPr>
          <p:spPr>
            <a:xfrm flipV="1">
              <a:off x="728964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3"/>
            <p:cNvSpPr/>
            <p:nvPr/>
          </p:nvSpPr>
          <p:spPr>
            <a:xfrm flipV="1">
              <a:off x="857340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8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8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6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1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4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58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09" name="椭圆​​ 24"/>
            <p:cNvSpPr/>
            <p:nvPr/>
          </p:nvSpPr>
          <p:spPr>
            <a:xfrm>
              <a:off x="71737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​​ 25"/>
            <p:cNvSpPr/>
            <p:nvPr/>
          </p:nvSpPr>
          <p:spPr>
            <a:xfrm>
              <a:off x="845784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​​ 26"/>
            <p:cNvSpPr/>
            <p:nvPr/>
          </p:nvSpPr>
          <p:spPr>
            <a:xfrm>
              <a:off x="694980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​​ 22"/>
            <p:cNvSpPr/>
            <p:nvPr/>
          </p:nvSpPr>
          <p:spPr>
            <a:xfrm flipV="1">
              <a:off x="728316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3"/>
            <p:cNvSpPr/>
            <p:nvPr/>
          </p:nvSpPr>
          <p:spPr>
            <a:xfrm flipV="1">
              <a:off x="856692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 rot="2700000">
            <a:off x="6352920" y="539640"/>
            <a:ext cx="360036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8" name="椭圆​​ 24"/>
            <p:cNvSpPr/>
            <p:nvPr/>
          </p:nvSpPr>
          <p:spPr>
            <a:xfrm>
              <a:off x="142884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​​ 25"/>
            <p:cNvSpPr/>
            <p:nvPr/>
          </p:nvSpPr>
          <p:spPr>
            <a:xfrm>
              <a:off x="271260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​​ 26"/>
            <p:cNvSpPr/>
            <p:nvPr/>
          </p:nvSpPr>
          <p:spPr>
            <a:xfrm>
              <a:off x="1204920" y="-902520"/>
              <a:ext cx="193032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​​ 22"/>
            <p:cNvSpPr/>
            <p:nvPr/>
          </p:nvSpPr>
          <p:spPr>
            <a:xfrm flipV="1">
              <a:off x="1537920" y="-1765800"/>
              <a:ext cx="10080" cy="73044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3"/>
            <p:cNvSpPr/>
            <p:nvPr/>
          </p:nvSpPr>
          <p:spPr>
            <a:xfrm flipV="1">
              <a:off x="2821680" y="-1765800"/>
              <a:ext cx="3600" cy="73044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071800" y="2444760"/>
            <a:ext cx="4967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2050920" y="336600"/>
            <a:ext cx="471024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124000" y="1963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燕尾形 14"/>
          <p:cNvSpPr/>
          <p:nvPr/>
        </p:nvSpPr>
        <p:spPr>
          <a:xfrm>
            <a:off x="-147636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4"/>
          <p:cNvSpPr/>
          <p:nvPr/>
        </p:nvSpPr>
        <p:spPr>
          <a:xfrm>
            <a:off x="48862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>Noah</dc:creator>
  <dc:description/>
  <dc:language>en-US</dc:language>
  <cp:lastModifiedBy>jccook</cp:lastModifiedBy>
  <dcterms:modified xsi:type="dcterms:W3CDTF">2015-02-06T02:04:07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