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BA1E-88C1-4282-9AD4-4554CF298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7147-9AA2-4F3D-9C0F-CF05D146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1A609-4C58-41A3-82F7-AD14B230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50404-8A35-4B91-819F-3EEF8E9C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3B429-8D01-4287-9A58-17823581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147FF-20D1-4F7C-A9CC-C7FA4158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568B6-6DA0-4368-85EB-816B043F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876B4-8D06-45EF-BC57-103D38F9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B76E8-E6FF-4B7B-B865-FE0D1569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BCAA66-B288-495A-8945-7D97AB650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168AB-ABD1-4970-A796-2C632E803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9AFC06-F2D4-48D4-B726-543AA92A0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A5CC-08A7-425D-86D0-8C07D3D7D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B1F507-7DDD-4EC8-B45B-67E04AC4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E09C88-AFE5-4840-91CF-B10DF73C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0D44AD-F1E8-4F2A-BBA6-D241A0E3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1B468-97AA-4022-A86F-3D6322AE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2A2829-00BC-4463-A1DF-68DE6405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DE8494-511A-46AF-96AF-99E65FDA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4E6F2C-93D8-4C2C-A1CD-5DFCD923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AEB99F-381E-41E8-BAD7-43B94461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9B3CA-FF2D-4457-BA9B-EF1572DA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F8C35D-EB92-43AD-8DB7-2137B78CB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AF9D-3CD2-4C98-9F5E-7FBA4EE1A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A186D5-0DEA-4FDB-886F-A3FCBC62C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BDD18-D3FD-45EA-8AAB-048C5E62D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0CB64-1402-497D-AC9A-3EBC3D14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19B6A-39DB-4DC7-A2B5-70963A6C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773C5-4495-4B9C-B36B-10A870C1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4D31E-6F4E-4C43-B4CB-F16338C8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0087B-08E2-4FA8-8D13-FCBEB16A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F8999-BCA9-418C-8C50-93F75534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97492-0E02-4DA4-B544-67D9DB81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BB9FB-02E0-44CE-A7E9-728F95DB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C6CD-8085-4D1F-995D-730898E46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129D3-5FA9-4CFE-B7FE-93B33428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3022FF-471F-4ABA-BB39-12B1E90B7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436D5-560C-40C8-B3EE-2B9609200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2F2423-70D2-4E59-9F46-FA556A991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7BE819-D520-45CB-87ED-58B19544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5803E1-CC6E-480F-B0D0-759BB0F1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8099B1-9E4D-46E4-8307-BF5BC7F4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A8E8C2-C8BC-422E-8235-A6CF8E2F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6D7304-B793-44E5-BB5C-AE9BEF71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894889-B4E9-4F23-82F1-49FC1F21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1D9B-5794-40D2-A34D-F280D71A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305CE3-7932-4C82-A37A-01FDE8B1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7E8C1-1BB1-4B22-BBF1-7A3C27DE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D71760-363C-41D6-B7F8-BB09C2D4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36260-FAFA-4CBF-88CF-A4BB524AC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F957D5-D59C-4C58-A2CD-6F3015DF1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DF4A-DE05-4EF9-8FA4-C227B2A5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DB91-225B-4093-92CF-A413E4A8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71D7-D12A-455F-8F5D-DDF41790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6B52-F049-437E-B845-91EB8EA3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0683-4BE8-4EC9-A95E-8DE84AF9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446B-2C6C-470C-8B13-2588CDE2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64D7-BC9C-4537-BF2B-CA27901D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B51E-0E72-48A1-B26E-BC0683CB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330B-BB50-45AD-91FE-AF53AA34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A47F-2FB3-44E8-8A9D-A45AA641C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1325-F0E0-4AC2-BB6F-DAED1A8D6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F2D34-4062-4CCB-AE8E-17FE2E8D8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4DE4C-FDEF-42EA-9096-28E58F63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9EC6E-7BEB-4F1B-BBE2-BFD7C5F3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5FFC4-BBED-4DC2-A44C-EF886A1E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52310-B01C-4690-A1E6-EBF6B76E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C16B-BBBE-435D-B8F7-B6E43602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E63FF-90B1-4194-9CE1-A3F2A73F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0B46F-0E9A-4D21-A712-80B926EE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07243-AF80-4564-8DC5-CDB5D69A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EBDFA-2FE1-4FCC-A527-8B5C3DEC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92FA2-9641-43CC-8048-1F76DE5D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1438D-DDFA-4FFD-AF83-0DB95B876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C864D-516C-45A0-8D36-ECDF3161C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6D480-24AF-4BD1-B9B4-99F3F8E4C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4AD1B-3CB0-44E3-85BD-8367AA2A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5B479-B35C-40D0-BD55-9BD8CB4A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8FC1-AC47-4A46-993C-DC7051CA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57B2E-30FB-4F5C-B431-3A6EE7D3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D30C8-5B0C-4613-9B7F-4F3EF3C4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33669-7FB0-4854-8539-91281D68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D1058-E856-49AA-B49A-5CBF7136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CA911-7852-40A4-969F-A6FC7BA5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3F44E-4361-4364-85A5-55BCABC3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F8C18-96EB-46A3-99CD-FE459FB0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95FA2-710E-4312-93F5-FA9C7163D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B6100-8DE5-49A1-82E5-1D1C4B935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4F21F-518D-448C-9196-4FF59DBCC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95A2-315B-4AB1-A3A3-DF138B58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5314B-C96E-47FA-8EC2-CE3F7BAF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CC991-59AB-4925-B23F-7C37B6FC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29A67-A594-486C-ACBE-47C963B9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B56DA-0B8C-450D-A02D-125CCC9A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261EB-AFEC-4B74-B8C2-D006C2BB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9710A-FADB-4B01-9DB3-14ABEEAE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1A7CC-AAAD-48EE-B34D-42847D1D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22EF0-0D99-4DF3-B3A2-1CF1A6C0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64C95-2CAD-47AF-A984-C22D4673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CA77F-55C5-4FB2-956D-DFA3228E6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A874-58AE-467D-B860-D85FE5DB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1226D-C05C-4906-97A6-C1714E42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6001D-3D5B-4762-8C96-74D9C6AA4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9975B-C550-4FB5-A2BB-EA7E0388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E6179-0887-4A5C-97B7-FFE0E636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CDAB3-4C56-475A-8B70-D8504E4D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19E10-D137-446E-AFBF-7CD71D0A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3F72A-9E2D-452C-83CA-3531BB33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4B4D4-104F-4D0C-9716-C4416D3C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2D98B-0F77-4790-AD61-99EF846A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65E87-6B5F-4565-A60C-F00B4403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B99B-7C29-4455-B87A-7BC60DA0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AECBA-93BD-40CE-A8C8-04E8F661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CA213-8144-4944-B2D7-87B19BEB5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56046-C302-4DCF-B228-00C3E0EE0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C2CDB-5576-4802-93CE-3B16B2CB6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71A45-05DE-43DE-8BC7-5FDC68D6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6C2EF-2CA3-44FF-B994-8A2CD4B4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0A21E-E5A9-4737-A6B2-F64CD50C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9EE47-F392-471C-BBEB-8C3D86C8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E166B-3A1E-45EE-8736-8A9D703D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F6294-47AB-461A-AF65-9C97EBD0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EC9B-508E-4F4D-875F-422E328E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D2AA8-EAC4-49AD-AC88-DC0BE166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DACF1-33BB-461A-AE15-55915457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07155-19C1-4314-9AD9-9A210B63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4F9AF-97E0-4E93-9D0E-02BF35C84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E1BFF-D7D4-4089-8ED2-1ACDDBFD6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4A229-FC76-4A60-9FAB-0DBE01988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95907-8BAA-4A21-8453-75BDBAEF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1C397-51D6-496F-AF44-61C88224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4DFFA-CE04-44DF-B878-3EACCB57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F9F6B-2D1C-4DBA-A9ED-6E13088E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6782-B895-4F56-A819-4567EA95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AD232-DEC7-44BE-AFC3-021B6C29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5EFBF-2B9C-4A88-929A-449F10BF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53BCB-0E29-453C-9DF1-AC46AB05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D5EDF-602E-48AF-9EA7-D3202ECC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2E20C-1D1D-496A-A4A1-63AD3D24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8DA9C-EC16-43D2-8AA2-B7FB1ACAC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A7F9C-6B0B-402D-A4A2-B1CC7A314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70CE5C-A124-4A19-AE0B-69842423B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5AA07-D568-4035-8902-B5F70DEC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3F124-5525-4AB5-ADDA-0AFBDBE1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Verdana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Verdana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Verdana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C18C-642E-4628-8DF3-99AB15CDB6AE}" type="slidenum">
              <a:rPr b="0" lang="zh-CN" sz="1200" spc="-1" strike="noStrike">
                <a:solidFill>
                  <a:srgbClr val="898989"/>
                </a:solidFill>
                <a:latin typeface="Verdana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CDA9-B42C-4C0D-97FA-308BAC6ECB9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11A4-29C4-4B55-BBB6-68AD7E41751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6A2F-9A9C-419C-A115-666643CFEE1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2002-2D33-4696-839E-3C5491966FD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C41F-A823-4909-A04D-950BBA5B069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0709-69A5-4BED-937C-71F25535F64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DD08-2CEE-4F3E-8452-439273E27C4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3646-DA1C-4A12-AF99-875C610D386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66C8-42B5-4F71-B104-0D51725D1E7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2ABA-A39E-4143-869D-AB4CE0408BE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03BA-73C8-4353-ACAA-5D173012911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D69F-D8A1-4365-92C7-839FA2D0843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4DC7-0166-4D51-9341-2A1BA14AA76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A132-04DD-4160-9A16-AC41CCD0648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A750-57A6-4D07-98DD-35FAC2FAAF5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58F1-058B-48CA-A882-0A6FE3BE748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65FD-4AAF-4228-8188-B7FCACBAD56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5144-3A5A-4647-81F4-84B5267DD04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B20C-AD58-4404-941E-02AF128D26C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C133-EFCF-4016-9424-D8A81E58E6A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1D4B-946A-4228-A0F1-CC7DEEDD7F1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C107-D6E9-43FB-8991-28EDB1B22E8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5c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梯形 6"/>
          <p:cNvSpPr/>
          <p:nvPr/>
        </p:nvSpPr>
        <p:spPr>
          <a:xfrm flipH="1" rot="16200000">
            <a:off x="4231080" y="3519360"/>
            <a:ext cx="869760" cy="530280"/>
          </a:xfrm>
          <a:prstGeom prst="pie">
            <a:avLst/>
          </a:prstGeom>
          <a:solidFill>
            <a:srgbClr val="d7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矩形 3"/>
          <p:cNvSpPr/>
          <p:nvPr/>
        </p:nvSpPr>
        <p:spPr>
          <a:xfrm>
            <a:off x="4572000" y="6480"/>
            <a:ext cx="4572000" cy="5143320"/>
          </a:xfrm>
          <a:prstGeom prst="rect">
            <a:avLst/>
          </a:prstGeom>
          <a:solidFill>
            <a:srgbClr val="f36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5"/>
          <p:cNvSpPr/>
          <p:nvPr/>
        </p:nvSpPr>
        <p:spPr>
          <a:xfrm>
            <a:off x="4572000" y="201924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风满楼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5" name="组合 14"/>
          <p:cNvGrpSpPr/>
          <p:nvPr/>
        </p:nvGrpSpPr>
        <p:grpSpPr>
          <a:xfrm>
            <a:off x="4400640" y="3181320"/>
            <a:ext cx="4743360" cy="793800"/>
            <a:chOff x="4400640" y="3181320"/>
            <a:chExt cx="4743360" cy="793800"/>
          </a:xfrm>
        </p:grpSpPr>
        <p:sp>
          <p:nvSpPr>
            <p:cNvPr id="496" name="矩形 4"/>
            <p:cNvSpPr/>
            <p:nvPr/>
          </p:nvSpPr>
          <p:spPr>
            <a:xfrm>
              <a:off x="4400640" y="3181320"/>
              <a:ext cx="4743360" cy="793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7" name="TextBox 8"/>
            <p:cNvSpPr/>
            <p:nvPr/>
          </p:nvSpPr>
          <p:spPr>
            <a:xfrm>
              <a:off x="4486320" y="3348000"/>
              <a:ext cx="465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15c60"/>
                  </a:solidFill>
                  <a:latin typeface="微软雅黑"/>
                  <a:ea typeface="微软雅黑"/>
                </a:rPr>
                <a:t>求职意向</a:t>
              </a:r>
              <a:r>
                <a:rPr b="1" lang="en-US" sz="2400" spc="-1" strike="noStrike">
                  <a:solidFill>
                    <a:srgbClr val="615c60"/>
                  </a:solidFill>
                  <a:latin typeface="微软雅黑"/>
                  <a:ea typeface="微软雅黑"/>
                </a:rPr>
                <a:t>:XX</a:t>
              </a:r>
              <a:r>
                <a:rPr b="1" lang="zh-CN" sz="2400" spc="-1" strike="noStrike">
                  <a:solidFill>
                    <a:srgbClr val="615c60"/>
                  </a:solidFill>
                  <a:latin typeface="微软雅黑"/>
                  <a:ea typeface="微软雅黑"/>
                </a:rPr>
                <a:t>公司</a:t>
              </a:r>
              <a:r>
                <a:rPr b="1" lang="en-US" sz="2400" spc="-1" strike="noStrike">
                  <a:solidFill>
                    <a:srgbClr val="615c60"/>
                  </a:solidFill>
                  <a:latin typeface="微软雅黑"/>
                  <a:ea typeface="微软雅黑"/>
                </a:rPr>
                <a:t>XX</a:t>
              </a:r>
              <a:r>
                <a:rPr b="1" lang="zh-CN" sz="2400" spc="-1" strike="noStrike">
                  <a:solidFill>
                    <a:srgbClr val="615c60"/>
                  </a:solidFill>
                  <a:latin typeface="微软雅黑"/>
                  <a:ea typeface="微软雅黑"/>
                </a:rPr>
                <a:t>岗位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8" name="TextBox 9"/>
          <p:cNvSpPr/>
          <p:nvPr/>
        </p:nvSpPr>
        <p:spPr>
          <a:xfrm>
            <a:off x="4572000" y="26478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Edward Fe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9" name="椭圆 10"/>
          <p:cNvGrpSpPr/>
          <p:nvPr/>
        </p:nvGrpSpPr>
        <p:grpSpPr>
          <a:xfrm>
            <a:off x="5943600" y="396720"/>
            <a:ext cx="1657440" cy="1657440"/>
            <a:chOff x="5943600" y="396720"/>
            <a:chExt cx="1657440" cy="1657440"/>
          </a:xfrm>
        </p:grpSpPr>
        <p:pic>
          <p:nvPicPr>
            <p:cNvPr id="500" name="椭圆 10" descr=""/>
            <p:cNvPicPr/>
            <p:nvPr/>
          </p:nvPicPr>
          <p:blipFill>
            <a:blip r:embed="rId1"/>
            <a:stretch/>
          </p:blipFill>
          <p:spPr>
            <a:xfrm>
              <a:off x="5943600" y="396720"/>
              <a:ext cx="165744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6189840" y="641160"/>
              <a:ext cx="1164960" cy="11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02" name="组合 83"/>
          <p:cNvGrpSpPr/>
          <p:nvPr/>
        </p:nvGrpSpPr>
        <p:grpSpPr>
          <a:xfrm>
            <a:off x="631800" y="1258920"/>
            <a:ext cx="3854520" cy="2625840"/>
            <a:chOff x="631800" y="1258920"/>
            <a:chExt cx="3854520" cy="2625840"/>
          </a:xfrm>
        </p:grpSpPr>
        <p:grpSp>
          <p:nvGrpSpPr>
            <p:cNvPr id="503" name="组合 48"/>
            <p:cNvGrpSpPr/>
            <p:nvPr/>
          </p:nvGrpSpPr>
          <p:grpSpPr>
            <a:xfrm>
              <a:off x="631800" y="2296800"/>
              <a:ext cx="576360" cy="576720"/>
              <a:chOff x="631800" y="2296800"/>
              <a:chExt cx="576360" cy="576720"/>
            </a:xfrm>
          </p:grpSpPr>
          <p:sp>
            <p:nvSpPr>
              <p:cNvPr id="504" name="矩形 52"/>
              <p:cNvSpPr/>
              <p:nvPr/>
            </p:nvSpPr>
            <p:spPr>
              <a:xfrm>
                <a:off x="631800" y="2296800"/>
                <a:ext cx="576360" cy="576720"/>
              </a:xfrm>
              <a:prstGeom prst="rect">
                <a:avLst/>
              </a:prstGeom>
              <a:solidFill>
                <a:srgbClr val="f36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5" name="Freeform 122"/>
              <p:cNvSpPr/>
              <p:nvPr/>
            </p:nvSpPr>
            <p:spPr>
              <a:xfrm>
                <a:off x="676080" y="2455200"/>
                <a:ext cx="487440" cy="303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06" name="组合 66"/>
            <p:cNvGrpSpPr/>
            <p:nvPr/>
          </p:nvGrpSpPr>
          <p:grpSpPr>
            <a:xfrm>
              <a:off x="631800" y="3267720"/>
              <a:ext cx="576360" cy="576720"/>
              <a:chOff x="631800" y="3267720"/>
              <a:chExt cx="576360" cy="576720"/>
            </a:xfrm>
          </p:grpSpPr>
          <p:sp>
            <p:nvSpPr>
              <p:cNvPr id="507" name="矩形 59"/>
              <p:cNvSpPr/>
              <p:nvPr/>
            </p:nvSpPr>
            <p:spPr>
              <a:xfrm>
                <a:off x="631800" y="3267720"/>
                <a:ext cx="576360" cy="576720"/>
              </a:xfrm>
              <a:prstGeom prst="rect">
                <a:avLst/>
              </a:prstGeom>
              <a:solidFill>
                <a:srgbClr val="f36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8" name="Freeform 12"/>
              <p:cNvSpPr/>
              <p:nvPr/>
            </p:nvSpPr>
            <p:spPr>
              <a:xfrm>
                <a:off x="704160" y="3411000"/>
                <a:ext cx="432000" cy="289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09" name="组合 74"/>
            <p:cNvGrpSpPr/>
            <p:nvPr/>
          </p:nvGrpSpPr>
          <p:grpSpPr>
            <a:xfrm>
              <a:off x="631800" y="1258920"/>
              <a:ext cx="3854520" cy="577080"/>
              <a:chOff x="631800" y="1258920"/>
              <a:chExt cx="3854520" cy="577080"/>
            </a:xfrm>
          </p:grpSpPr>
          <p:grpSp>
            <p:nvGrpSpPr>
              <p:cNvPr id="510" name="组合 47"/>
              <p:cNvGrpSpPr/>
              <p:nvPr/>
            </p:nvGrpSpPr>
            <p:grpSpPr>
              <a:xfrm>
                <a:off x="631800" y="1259280"/>
                <a:ext cx="576360" cy="576720"/>
                <a:chOff x="631800" y="1259280"/>
                <a:chExt cx="576360" cy="576720"/>
              </a:xfrm>
            </p:grpSpPr>
            <p:sp>
              <p:nvSpPr>
                <p:cNvPr id="511" name="矩形 46"/>
                <p:cNvSpPr/>
                <p:nvPr/>
              </p:nvSpPr>
              <p:spPr>
                <a:xfrm>
                  <a:off x="631800" y="1259280"/>
                  <a:ext cx="576360" cy="576720"/>
                </a:xfrm>
                <a:prstGeom prst="rect">
                  <a:avLst/>
                </a:prstGeom>
                <a:solidFill>
                  <a:srgbClr val="f360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pic>
              <p:nvPicPr>
                <p:cNvPr id="512" name="组合 20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94800" y="1341360"/>
                  <a:ext cx="451440" cy="413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13" name="组合 70"/>
              <p:cNvGrpSpPr/>
              <p:nvPr/>
            </p:nvGrpSpPr>
            <p:grpSpPr>
              <a:xfrm>
                <a:off x="1259640" y="1258920"/>
                <a:ext cx="3226680" cy="576720"/>
                <a:chOff x="1259640" y="1258920"/>
                <a:chExt cx="3226680" cy="576720"/>
              </a:xfrm>
            </p:grpSpPr>
            <p:sp>
              <p:nvSpPr>
                <p:cNvPr id="514" name="TextBox 28"/>
                <p:cNvSpPr/>
                <p:nvPr/>
              </p:nvSpPr>
              <p:spPr>
                <a:xfrm>
                  <a:off x="1259640" y="1258920"/>
                  <a:ext cx="2736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2f2f2"/>
                      </a:solidFill>
                      <a:latin typeface="Verdana"/>
                      <a:ea typeface="微软雅黑"/>
                    </a:rPr>
                    <a:t>现住址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15" name="TextBox 61"/>
                <p:cNvSpPr/>
                <p:nvPr/>
              </p:nvSpPr>
              <p:spPr>
                <a:xfrm>
                  <a:off x="1259640" y="1528560"/>
                  <a:ext cx="3226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f2f2f2"/>
                      </a:solidFill>
                      <a:latin typeface="Verdana"/>
                      <a:ea typeface="微软雅黑"/>
                    </a:rPr>
                    <a:t>杭州市西湖区西湖街道</a:t>
                  </a:r>
                  <a:r>
                    <a:rPr b="0" lang="en-US" sz="1400" spc="-1" strike="noStrike">
                      <a:solidFill>
                        <a:srgbClr val="f2f2f2"/>
                      </a:solidFill>
                      <a:latin typeface="Verdana"/>
                      <a:ea typeface="微软雅黑"/>
                    </a:rPr>
                    <a:t>18</a:t>
                  </a:r>
                  <a:r>
                    <a:rPr b="0" lang="zh-CN" sz="1400" spc="-1" strike="noStrike">
                      <a:solidFill>
                        <a:srgbClr val="f2f2f2"/>
                      </a:solidFill>
                      <a:latin typeface="Verdana"/>
                      <a:ea typeface="微软雅黑"/>
                    </a:rPr>
                    <a:t>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516" name="组合 75"/>
            <p:cNvGrpSpPr/>
            <p:nvPr/>
          </p:nvGrpSpPr>
          <p:grpSpPr>
            <a:xfrm>
              <a:off x="1259640" y="2296440"/>
              <a:ext cx="3226680" cy="576000"/>
              <a:chOff x="1259640" y="2296440"/>
              <a:chExt cx="3226680" cy="576000"/>
            </a:xfrm>
          </p:grpSpPr>
          <p:sp>
            <p:nvSpPr>
              <p:cNvPr id="517" name="TextBox 76"/>
              <p:cNvSpPr/>
              <p:nvPr/>
            </p:nvSpPr>
            <p:spPr>
              <a:xfrm>
                <a:off x="1259640" y="2296440"/>
                <a:ext cx="2736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2f2f2"/>
                    </a:solidFill>
                    <a:latin typeface="Verdana"/>
                    <a:ea typeface="微软雅黑"/>
                  </a:rPr>
                  <a:t>联系电话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8" name="TextBox 77"/>
              <p:cNvSpPr/>
              <p:nvPr/>
            </p:nvSpPr>
            <p:spPr>
              <a:xfrm>
                <a:off x="1259640" y="2565360"/>
                <a:ext cx="322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2f2f2"/>
                    </a:solidFill>
                    <a:latin typeface="Verdana"/>
                    <a:ea typeface="微软雅黑"/>
                  </a:rPr>
                  <a:t>13688886666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19" name="组合 78"/>
            <p:cNvGrpSpPr/>
            <p:nvPr/>
          </p:nvGrpSpPr>
          <p:grpSpPr>
            <a:xfrm>
              <a:off x="1259640" y="3267360"/>
              <a:ext cx="3226680" cy="576720"/>
              <a:chOff x="1259640" y="3267360"/>
              <a:chExt cx="3226680" cy="576720"/>
            </a:xfrm>
          </p:grpSpPr>
          <p:sp>
            <p:nvSpPr>
              <p:cNvPr id="520" name="TextBox 79"/>
              <p:cNvSpPr/>
              <p:nvPr/>
            </p:nvSpPr>
            <p:spPr>
              <a:xfrm>
                <a:off x="1259640" y="3267360"/>
                <a:ext cx="2736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2f2f2"/>
                    </a:solidFill>
                    <a:latin typeface="Verdana"/>
                    <a:ea typeface="微软雅黑"/>
                  </a:rPr>
                  <a:t>邮箱地址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1" name="TextBox 80"/>
              <p:cNvSpPr/>
              <p:nvPr/>
            </p:nvSpPr>
            <p:spPr>
              <a:xfrm>
                <a:off x="1259640" y="3537000"/>
                <a:ext cx="322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2f2f2"/>
                    </a:solidFill>
                    <a:latin typeface="Arial Narrow"/>
                    <a:ea typeface="微软雅黑"/>
                  </a:rPr>
                  <a:t>1272481@qq.com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22" name="直接连接符 72"/>
            <p:cNvSpPr/>
            <p:nvPr/>
          </p:nvSpPr>
          <p:spPr>
            <a:xfrm>
              <a:off x="631800" y="1892160"/>
              <a:ext cx="3464280" cy="0"/>
            </a:xfrm>
            <a:prstGeom prst="line">
              <a:avLst/>
            </a:prstGeom>
            <a:ln w="93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3" name="直接连接符 84"/>
            <p:cNvSpPr/>
            <p:nvPr/>
          </p:nvSpPr>
          <p:spPr>
            <a:xfrm>
              <a:off x="631800" y="2922840"/>
              <a:ext cx="3464280" cy="0"/>
            </a:xfrm>
            <a:prstGeom prst="line">
              <a:avLst/>
            </a:prstGeom>
            <a:ln w="93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4" name="直接连接符 85"/>
            <p:cNvSpPr/>
            <p:nvPr/>
          </p:nvSpPr>
          <p:spPr>
            <a:xfrm>
              <a:off x="631800" y="3884760"/>
              <a:ext cx="3464280" cy="0"/>
            </a:xfrm>
            <a:prstGeom prst="line">
              <a:avLst/>
            </a:prstGeom>
            <a:ln w="93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25" name="TextBox 89"/>
          <p:cNvSpPr/>
          <p:nvPr/>
        </p:nvSpPr>
        <p:spPr>
          <a:xfrm>
            <a:off x="3530520" y="13032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543a"/>
                </a:solidFill>
                <a:latin typeface="Verdana"/>
                <a:ea typeface="微软雅黑"/>
              </a:rPr>
              <a:t>Res</a:t>
            </a:r>
            <a:r>
              <a:rPr b="1" lang="en-US" sz="2800" spc="-1" strike="noStrike">
                <a:solidFill>
                  <a:srgbClr val="f2f2f2"/>
                </a:solidFill>
                <a:latin typeface="Verdana"/>
                <a:ea typeface="微软雅黑"/>
              </a:rPr>
              <a:t>u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6" name="直接连接符 91" descr=""/>
          <p:cNvPicPr/>
          <p:nvPr/>
        </p:nvPicPr>
        <p:blipFill>
          <a:blip r:embed="rId3"/>
          <a:stretch/>
        </p:blipFill>
        <p:spPr>
          <a:xfrm>
            <a:off x="3790800" y="566640"/>
            <a:ext cx="1665360" cy="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5c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直接连接符 51"/>
          <p:cNvSpPr/>
          <p:nvPr/>
        </p:nvSpPr>
        <p:spPr>
          <a:xfrm flipV="1">
            <a:off x="668160" y="950400"/>
            <a:ext cx="3472200" cy="1800"/>
          </a:xfrm>
          <a:prstGeom prst="line">
            <a:avLst/>
          </a:prstGeom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Box 64"/>
          <p:cNvSpPr/>
          <p:nvPr/>
        </p:nvSpPr>
        <p:spPr>
          <a:xfrm>
            <a:off x="790560" y="137808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姓名</a:t>
            </a:r>
            <a:r>
              <a:rPr b="0" lang="en-US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:</a:t>
            </a:r>
            <a:r>
              <a:rPr b="0" lang="zh-CN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风满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TextBox 65"/>
          <p:cNvSpPr/>
          <p:nvPr/>
        </p:nvSpPr>
        <p:spPr>
          <a:xfrm>
            <a:off x="790560" y="1801800"/>
            <a:ext cx="28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出生年月</a:t>
            </a:r>
            <a:r>
              <a:rPr b="0" lang="en-US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:1992-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TextBox 70"/>
          <p:cNvSpPr/>
          <p:nvPr/>
        </p:nvSpPr>
        <p:spPr>
          <a:xfrm>
            <a:off x="790560" y="222552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籍贯</a:t>
            </a:r>
            <a:r>
              <a:rPr b="0" lang="en-US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:</a:t>
            </a:r>
            <a:r>
              <a:rPr b="0" lang="zh-CN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浙江杭州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TextBox 71"/>
          <p:cNvSpPr/>
          <p:nvPr/>
        </p:nvSpPr>
        <p:spPr>
          <a:xfrm>
            <a:off x="6283440" y="1409760"/>
            <a:ext cx="217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2f2f2"/>
                </a:solidFill>
                <a:latin typeface="Verdana"/>
                <a:ea typeface="微软雅黑"/>
              </a:rPr>
              <a:t>XXXXXX</a:t>
            </a:r>
            <a:r>
              <a:rPr b="0" lang="zh-CN" sz="1400" spc="-1" strike="noStrike">
                <a:solidFill>
                  <a:srgbClr val="f2f2f2"/>
                </a:solidFill>
                <a:latin typeface="Verdana"/>
                <a:ea typeface="微软雅黑"/>
              </a:rPr>
              <a:t>大学（</a:t>
            </a:r>
            <a:r>
              <a:rPr b="0" lang="en-US" sz="1400" spc="-1" strike="noStrike">
                <a:solidFill>
                  <a:srgbClr val="f2f2f2"/>
                </a:solidFill>
                <a:latin typeface="Verdana"/>
                <a:ea typeface="微软雅黑"/>
              </a:rPr>
              <a:t>211/985</a:t>
            </a:r>
            <a:r>
              <a:rPr b="0" lang="zh-CN" sz="1400" spc="-1" strike="noStrike">
                <a:solidFill>
                  <a:srgbClr val="f2f2f2"/>
                </a:solidFill>
                <a:latin typeface="Verdana"/>
                <a:ea typeface="微软雅黑"/>
              </a:rPr>
              <a:t>院校）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TextBox 73"/>
          <p:cNvSpPr/>
          <p:nvPr/>
        </p:nvSpPr>
        <p:spPr>
          <a:xfrm>
            <a:off x="790560" y="3073320"/>
            <a:ext cx="248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政治面貌</a:t>
            </a:r>
            <a:r>
              <a:rPr b="0" lang="en-US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:</a:t>
            </a:r>
            <a:r>
              <a:rPr b="0" lang="zh-CN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中共党员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TextBox 74"/>
          <p:cNvSpPr/>
          <p:nvPr/>
        </p:nvSpPr>
        <p:spPr>
          <a:xfrm>
            <a:off x="790560" y="2649600"/>
            <a:ext cx="26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毕业时间</a:t>
            </a:r>
            <a:r>
              <a:rPr b="0" lang="en-US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:2015-07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TextBox 75"/>
          <p:cNvSpPr/>
          <p:nvPr/>
        </p:nvSpPr>
        <p:spPr>
          <a:xfrm>
            <a:off x="4840200" y="1441440"/>
            <a:ext cx="188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2012-</a:t>
            </a:r>
            <a:r>
              <a:rPr b="0" lang="zh-CN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至今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TextBox 76"/>
          <p:cNvSpPr/>
          <p:nvPr/>
        </p:nvSpPr>
        <p:spPr>
          <a:xfrm>
            <a:off x="790560" y="3497400"/>
            <a:ext cx="3781440" cy="6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职业目标</a:t>
            </a:r>
            <a:r>
              <a:rPr b="0" lang="en-US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成为业内最优秀的</a:t>
            </a:r>
            <a:r>
              <a:rPr b="0" lang="en-US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XXX</a:t>
            </a:r>
            <a:r>
              <a:rPr b="0" lang="zh-CN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专业人士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36" name="组合 4099"/>
          <p:cNvGrpSpPr/>
          <p:nvPr/>
        </p:nvGrpSpPr>
        <p:grpSpPr>
          <a:xfrm>
            <a:off x="642960" y="557280"/>
            <a:ext cx="476280" cy="417600"/>
            <a:chOff x="642960" y="557280"/>
            <a:chExt cx="476280" cy="417600"/>
          </a:xfrm>
        </p:grpSpPr>
        <p:sp>
          <p:nvSpPr>
            <p:cNvPr id="537" name="矩形 79"/>
            <p:cNvSpPr/>
            <p:nvPr/>
          </p:nvSpPr>
          <p:spPr>
            <a:xfrm>
              <a:off x="642960" y="557280"/>
              <a:ext cx="476280" cy="417600"/>
            </a:xfrm>
            <a:prstGeom prst="rect">
              <a:avLst/>
            </a:prstGeom>
            <a:solidFill>
              <a:srgbClr val="f36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8" name="Freeform 10"/>
            <p:cNvSpPr/>
            <p:nvPr/>
          </p:nvSpPr>
          <p:spPr>
            <a:xfrm>
              <a:off x="766800" y="601560"/>
              <a:ext cx="228600" cy="32868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9" name="TextBox 81"/>
          <p:cNvSpPr/>
          <p:nvPr/>
        </p:nvSpPr>
        <p:spPr>
          <a:xfrm>
            <a:off x="1112760" y="5810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Verdana"/>
                <a:ea typeface="微软雅黑"/>
              </a:rPr>
              <a:t>个人信息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直接连接符 82"/>
          <p:cNvSpPr/>
          <p:nvPr/>
        </p:nvSpPr>
        <p:spPr>
          <a:xfrm flipV="1">
            <a:off x="4989600" y="950400"/>
            <a:ext cx="3470040" cy="1800"/>
          </a:xfrm>
          <a:prstGeom prst="line">
            <a:avLst/>
          </a:prstGeom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矩形 84"/>
          <p:cNvSpPr/>
          <p:nvPr/>
        </p:nvSpPr>
        <p:spPr>
          <a:xfrm>
            <a:off x="4962600" y="557280"/>
            <a:ext cx="477720" cy="417600"/>
          </a:xfrm>
          <a:prstGeom prst="rect">
            <a:avLst/>
          </a:prstGeom>
          <a:solidFill>
            <a:srgbClr val="f36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86"/>
          <p:cNvSpPr/>
          <p:nvPr/>
        </p:nvSpPr>
        <p:spPr>
          <a:xfrm>
            <a:off x="5432400" y="5810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Verdana"/>
                <a:ea typeface="微软雅黑"/>
              </a:rPr>
              <a:t>教育情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87"/>
          <p:cNvSpPr/>
          <p:nvPr/>
        </p:nvSpPr>
        <p:spPr>
          <a:xfrm>
            <a:off x="6283440" y="1935000"/>
            <a:ext cx="217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f2f2"/>
                </a:solidFill>
                <a:latin typeface="Verdana"/>
                <a:ea typeface="微软雅黑"/>
              </a:rPr>
              <a:t>-</a:t>
            </a:r>
            <a:r>
              <a:rPr b="0" lang="zh-CN" sz="1200" spc="-1" strike="noStrike">
                <a:solidFill>
                  <a:srgbClr val="f2f2f2"/>
                </a:solidFill>
                <a:latin typeface="Verdana"/>
                <a:ea typeface="微软雅黑"/>
              </a:rPr>
              <a:t>主修专业</a:t>
            </a:r>
            <a:r>
              <a:rPr b="0" lang="en-US" sz="1200" spc="-1" strike="noStrike">
                <a:solidFill>
                  <a:srgbClr val="f2f2f2"/>
                </a:solidFill>
                <a:latin typeface="Verdana"/>
                <a:ea typeface="微软雅黑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直接连接符 23"/>
          <p:cNvSpPr/>
          <p:nvPr/>
        </p:nvSpPr>
        <p:spPr>
          <a:xfrm flipV="1">
            <a:off x="4572000" y="1163520"/>
            <a:ext cx="0" cy="3424320"/>
          </a:xfrm>
          <a:prstGeom prst="line">
            <a:avLst/>
          </a:prstGeom>
          <a:ln w="19080">
            <a:solidFill>
              <a:srgbClr val="f2f2f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88"/>
          <p:cNvSpPr/>
          <p:nvPr/>
        </p:nvSpPr>
        <p:spPr>
          <a:xfrm>
            <a:off x="6283440" y="2898720"/>
            <a:ext cx="217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2f2f2"/>
                </a:solidFill>
                <a:latin typeface="Verdana"/>
                <a:ea typeface="微软雅黑"/>
              </a:rPr>
              <a:t>XXXXXX</a:t>
            </a:r>
            <a:r>
              <a:rPr b="0" lang="zh-CN" sz="1400" spc="-1" strike="noStrike">
                <a:solidFill>
                  <a:srgbClr val="f2f2f2"/>
                </a:solidFill>
                <a:latin typeface="Verdana"/>
                <a:ea typeface="微软雅黑"/>
              </a:rPr>
              <a:t>学校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89"/>
          <p:cNvSpPr/>
          <p:nvPr/>
        </p:nvSpPr>
        <p:spPr>
          <a:xfrm>
            <a:off x="4840200" y="2881440"/>
            <a:ext cx="188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2009-20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47" name="组合 4100"/>
          <p:cNvGrpSpPr/>
          <p:nvPr/>
        </p:nvGrpSpPr>
        <p:grpSpPr>
          <a:xfrm>
            <a:off x="5060880" y="814320"/>
            <a:ext cx="303120" cy="98640"/>
            <a:chOff x="5060880" y="814320"/>
            <a:chExt cx="303120" cy="98640"/>
          </a:xfrm>
        </p:grpSpPr>
        <p:sp>
          <p:nvSpPr>
            <p:cNvPr id="548" name="Freeform 8"/>
            <p:cNvSpPr/>
            <p:nvPr/>
          </p:nvSpPr>
          <p:spPr>
            <a:xfrm>
              <a:off x="5060880" y="814320"/>
              <a:ext cx="293760" cy="8928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9" name="Freeform 9"/>
            <p:cNvSpPr/>
            <p:nvPr/>
          </p:nvSpPr>
          <p:spPr>
            <a:xfrm>
              <a:off x="5065560" y="814320"/>
              <a:ext cx="298440" cy="9864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0" name="Freeform 10"/>
            <p:cNvSpPr/>
            <p:nvPr/>
          </p:nvSpPr>
          <p:spPr>
            <a:xfrm>
              <a:off x="5182920" y="873360"/>
              <a:ext cx="63360" cy="205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1" name="Freeform 11"/>
            <p:cNvSpPr/>
            <p:nvPr/>
          </p:nvSpPr>
          <p:spPr>
            <a:xfrm>
              <a:off x="5155920" y="873360"/>
              <a:ext cx="63360" cy="2376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52" name="组合 103" descr=""/>
          <p:cNvPicPr/>
          <p:nvPr/>
        </p:nvPicPr>
        <p:blipFill>
          <a:blip r:embed="rId1"/>
          <a:stretch/>
        </p:blipFill>
        <p:spPr>
          <a:xfrm>
            <a:off x="5035680" y="615960"/>
            <a:ext cx="334800" cy="304920"/>
          </a:xfrm>
          <a:prstGeom prst="rect">
            <a:avLst/>
          </a:prstGeom>
          <a:ln w="0">
            <a:noFill/>
          </a:ln>
        </p:spPr>
      </p:pic>
      <p:sp>
        <p:nvSpPr>
          <p:cNvPr id="553" name="TextBox 108"/>
          <p:cNvSpPr/>
          <p:nvPr/>
        </p:nvSpPr>
        <p:spPr>
          <a:xfrm>
            <a:off x="6283440" y="2184480"/>
            <a:ext cx="217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f2f2"/>
                </a:solidFill>
                <a:latin typeface="Verdana"/>
                <a:ea typeface="微软雅黑"/>
              </a:rPr>
              <a:t>Xxxxxx  xxxxxx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TextBox 109"/>
          <p:cNvSpPr/>
          <p:nvPr/>
        </p:nvSpPr>
        <p:spPr>
          <a:xfrm>
            <a:off x="6283440" y="2433600"/>
            <a:ext cx="217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f2f2"/>
                </a:solidFill>
                <a:latin typeface="Verdana"/>
                <a:ea typeface="微软雅黑"/>
              </a:rPr>
              <a:t>Xxxxxx  xxxxxx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5c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直接连接符 51"/>
          <p:cNvSpPr/>
          <p:nvPr/>
        </p:nvSpPr>
        <p:spPr>
          <a:xfrm>
            <a:off x="668160" y="952560"/>
            <a:ext cx="7863120" cy="0"/>
          </a:xfrm>
          <a:prstGeom prst="line">
            <a:avLst/>
          </a:prstGeom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矩形 79"/>
          <p:cNvSpPr/>
          <p:nvPr/>
        </p:nvSpPr>
        <p:spPr>
          <a:xfrm>
            <a:off x="642960" y="557280"/>
            <a:ext cx="476280" cy="417600"/>
          </a:xfrm>
          <a:prstGeom prst="rect">
            <a:avLst/>
          </a:prstGeom>
          <a:solidFill>
            <a:srgbClr val="f36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TextBox 81"/>
          <p:cNvSpPr/>
          <p:nvPr/>
        </p:nvSpPr>
        <p:spPr>
          <a:xfrm>
            <a:off x="1112760" y="581040"/>
            <a:ext cx="68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Verdana"/>
                <a:ea typeface="微软雅黑"/>
              </a:rPr>
              <a:t>社会实践经验（只写与求职目标相关的实践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58" name="组合 7"/>
          <p:cNvGrpSpPr/>
          <p:nvPr/>
        </p:nvGrpSpPr>
        <p:grpSpPr>
          <a:xfrm>
            <a:off x="1077840" y="1176480"/>
            <a:ext cx="6302520" cy="307080"/>
            <a:chOff x="1077840" y="1176480"/>
            <a:chExt cx="6302520" cy="307080"/>
          </a:xfrm>
        </p:grpSpPr>
        <p:sp>
          <p:nvSpPr>
            <p:cNvPr id="559" name="TextBox 32"/>
            <p:cNvSpPr/>
            <p:nvPr/>
          </p:nvSpPr>
          <p:spPr>
            <a:xfrm>
              <a:off x="1077840" y="1176480"/>
              <a:ext cx="25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2014.7-</a:t>
              </a: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至今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0" name="TextBox 33"/>
            <p:cNvSpPr/>
            <p:nvPr/>
          </p:nvSpPr>
          <p:spPr>
            <a:xfrm>
              <a:off x="2843280" y="11764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XXXX</a:t>
              </a: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有限公司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1" name="TextBox 34"/>
            <p:cNvSpPr/>
            <p:nvPr/>
          </p:nvSpPr>
          <p:spPr>
            <a:xfrm>
              <a:off x="5219640" y="11764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XX</a:t>
              </a: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岗位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62" name="TextBox 35"/>
          <p:cNvSpPr/>
          <p:nvPr/>
        </p:nvSpPr>
        <p:spPr>
          <a:xfrm>
            <a:off x="1120680" y="1504800"/>
            <a:ext cx="7554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公司简介：诞生于</a:t>
            </a:r>
            <a:r>
              <a:rPr b="0" lang="en-US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2013</a:t>
            </a: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年，</a:t>
            </a:r>
            <a:r>
              <a:rPr b="0" lang="zh-CN" sz="1400" spc="-1" strike="noStrike">
                <a:solidFill>
                  <a:srgbClr val="f2f2f2"/>
                </a:solidFill>
                <a:latin typeface="Verdana"/>
                <a:ea typeface="微软雅黑"/>
              </a:rPr>
              <a:t>基于演示设计的一站式在线演示、素材销售、服务交易系统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3" name="组合 6"/>
          <p:cNvGrpSpPr/>
          <p:nvPr/>
        </p:nvGrpSpPr>
        <p:grpSpPr>
          <a:xfrm>
            <a:off x="1084320" y="2176560"/>
            <a:ext cx="7377120" cy="1459800"/>
            <a:chOff x="1084320" y="2176560"/>
            <a:chExt cx="7377120" cy="1459800"/>
          </a:xfrm>
        </p:grpSpPr>
        <p:sp>
          <p:nvSpPr>
            <p:cNvPr id="564" name="TextBox 36"/>
            <p:cNvSpPr/>
            <p:nvPr/>
          </p:nvSpPr>
          <p:spPr>
            <a:xfrm>
              <a:off x="1084320" y="2176560"/>
              <a:ext cx="7377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2543a"/>
                  </a:solidFill>
                  <a:latin typeface="微软雅黑"/>
                  <a:ea typeface="微软雅黑"/>
                </a:rPr>
                <a:t>工作职责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5" name="TextBox 37"/>
            <p:cNvSpPr/>
            <p:nvPr/>
          </p:nvSpPr>
          <p:spPr>
            <a:xfrm>
              <a:off x="1531800" y="2521080"/>
              <a:ext cx="6909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30000"/>
                </a:lnSpc>
                <a:buClr>
                  <a:srgbClr val="f2f2f2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由中国最好的</a:t>
              </a: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设计公司锐普全面运作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6" name="TextBox 38"/>
            <p:cNvSpPr/>
            <p:nvPr/>
          </p:nvSpPr>
          <p:spPr>
            <a:xfrm>
              <a:off x="1531800" y="2894040"/>
              <a:ext cx="6909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30000"/>
                </a:lnSpc>
                <a:buClr>
                  <a:srgbClr val="f2f2f2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由中国最好的</a:t>
              </a: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设计公司锐普全面运作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7" name="TextBox 39"/>
            <p:cNvSpPr/>
            <p:nvPr/>
          </p:nvSpPr>
          <p:spPr>
            <a:xfrm>
              <a:off x="1531800" y="3265560"/>
              <a:ext cx="6909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30000"/>
                </a:lnSpc>
                <a:buClr>
                  <a:srgbClr val="f2f2f2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由中国最好的</a:t>
              </a: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设计公司锐普全面运作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68" name="组合 5"/>
          <p:cNvGrpSpPr/>
          <p:nvPr/>
        </p:nvGrpSpPr>
        <p:grpSpPr>
          <a:xfrm>
            <a:off x="1084320" y="3659040"/>
            <a:ext cx="7377120" cy="1086840"/>
            <a:chOff x="1084320" y="3659040"/>
            <a:chExt cx="7377120" cy="1086840"/>
          </a:xfrm>
        </p:grpSpPr>
        <p:sp>
          <p:nvSpPr>
            <p:cNvPr id="569" name="TextBox 40"/>
            <p:cNvSpPr/>
            <p:nvPr/>
          </p:nvSpPr>
          <p:spPr>
            <a:xfrm>
              <a:off x="1084320" y="3659040"/>
              <a:ext cx="7377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2543a"/>
                  </a:solidFill>
                  <a:latin typeface="微软雅黑"/>
                  <a:ea typeface="微软雅黑"/>
                </a:rPr>
                <a:t>工作业绩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0" name="TextBox 41"/>
            <p:cNvSpPr/>
            <p:nvPr/>
          </p:nvSpPr>
          <p:spPr>
            <a:xfrm>
              <a:off x="1531800" y="4003560"/>
              <a:ext cx="6909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30000"/>
                </a:lnSpc>
                <a:buClr>
                  <a:srgbClr val="f2f2f2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由中国最好的</a:t>
              </a: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设计公司锐普全面运作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1" name="TextBox 42"/>
            <p:cNvSpPr/>
            <p:nvPr/>
          </p:nvSpPr>
          <p:spPr>
            <a:xfrm>
              <a:off x="1531800" y="4375080"/>
              <a:ext cx="6909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30000"/>
                </a:lnSpc>
                <a:buClr>
                  <a:srgbClr val="f2f2f2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由中国最好的</a:t>
              </a: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设计公司锐普全面运作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72" name="AutoShape 4"/>
          <p:cNvSpPr/>
          <p:nvPr/>
        </p:nvSpPr>
        <p:spPr>
          <a:xfrm>
            <a:off x="5970600" y="2162160"/>
            <a:ext cx="342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Freeform 6"/>
          <p:cNvSpPr/>
          <p:nvPr/>
        </p:nvSpPr>
        <p:spPr>
          <a:xfrm>
            <a:off x="709560" y="619200"/>
            <a:ext cx="343080" cy="2937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5c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直接连接符 51"/>
          <p:cNvSpPr/>
          <p:nvPr/>
        </p:nvSpPr>
        <p:spPr>
          <a:xfrm>
            <a:off x="668160" y="952560"/>
            <a:ext cx="7863120" cy="0"/>
          </a:xfrm>
          <a:prstGeom prst="line">
            <a:avLst/>
          </a:prstGeom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矩形 79"/>
          <p:cNvSpPr/>
          <p:nvPr/>
        </p:nvSpPr>
        <p:spPr>
          <a:xfrm>
            <a:off x="642960" y="557280"/>
            <a:ext cx="476280" cy="417600"/>
          </a:xfrm>
          <a:prstGeom prst="rect">
            <a:avLst/>
          </a:prstGeom>
          <a:solidFill>
            <a:srgbClr val="f36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TextBox 81"/>
          <p:cNvSpPr/>
          <p:nvPr/>
        </p:nvSpPr>
        <p:spPr>
          <a:xfrm>
            <a:off x="1112760" y="581040"/>
            <a:ext cx="25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Verdana"/>
                <a:ea typeface="微软雅黑"/>
              </a:rPr>
              <a:t>社会实践经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7" name="组合 7"/>
          <p:cNvGrpSpPr/>
          <p:nvPr/>
        </p:nvGrpSpPr>
        <p:grpSpPr>
          <a:xfrm>
            <a:off x="1077840" y="1176480"/>
            <a:ext cx="6302520" cy="307080"/>
            <a:chOff x="1077840" y="1176480"/>
            <a:chExt cx="6302520" cy="307080"/>
          </a:xfrm>
        </p:grpSpPr>
        <p:sp>
          <p:nvSpPr>
            <p:cNvPr id="578" name="TextBox 32"/>
            <p:cNvSpPr/>
            <p:nvPr/>
          </p:nvSpPr>
          <p:spPr>
            <a:xfrm>
              <a:off x="1077840" y="1176480"/>
              <a:ext cx="25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2013.7-2013.9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9" name="TextBox 33"/>
            <p:cNvSpPr/>
            <p:nvPr/>
          </p:nvSpPr>
          <p:spPr>
            <a:xfrm>
              <a:off x="2843280" y="11764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XXXX</a:t>
              </a: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有限公司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0" name="TextBox 34"/>
            <p:cNvSpPr/>
            <p:nvPr/>
          </p:nvSpPr>
          <p:spPr>
            <a:xfrm>
              <a:off x="5219640" y="11764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XX</a:t>
              </a: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岗位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81" name="TextBox 35"/>
          <p:cNvSpPr/>
          <p:nvPr/>
        </p:nvSpPr>
        <p:spPr>
          <a:xfrm>
            <a:off x="1120680" y="1504800"/>
            <a:ext cx="7554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公司简介：诞生于</a:t>
            </a:r>
            <a:r>
              <a:rPr b="0" lang="en-US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2013</a:t>
            </a: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年，</a:t>
            </a:r>
            <a:r>
              <a:rPr b="0" lang="zh-CN" sz="1400" spc="-1" strike="noStrike">
                <a:solidFill>
                  <a:srgbClr val="f2f2f2"/>
                </a:solidFill>
                <a:latin typeface="Verdana"/>
                <a:ea typeface="微软雅黑"/>
              </a:rPr>
              <a:t>基于演示设计的一站式在线演示、素材销售、服务交易系统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82" name="组合 6"/>
          <p:cNvGrpSpPr/>
          <p:nvPr/>
        </p:nvGrpSpPr>
        <p:grpSpPr>
          <a:xfrm>
            <a:off x="1084320" y="2176560"/>
            <a:ext cx="7377120" cy="1459800"/>
            <a:chOff x="1084320" y="2176560"/>
            <a:chExt cx="7377120" cy="1459800"/>
          </a:xfrm>
        </p:grpSpPr>
        <p:sp>
          <p:nvSpPr>
            <p:cNvPr id="583" name="TextBox 36"/>
            <p:cNvSpPr/>
            <p:nvPr/>
          </p:nvSpPr>
          <p:spPr>
            <a:xfrm>
              <a:off x="1084320" y="2176560"/>
              <a:ext cx="7377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2543a"/>
                  </a:solidFill>
                  <a:latin typeface="微软雅黑"/>
                  <a:ea typeface="微软雅黑"/>
                </a:rPr>
                <a:t>工作职责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4" name="TextBox 37"/>
            <p:cNvSpPr/>
            <p:nvPr/>
          </p:nvSpPr>
          <p:spPr>
            <a:xfrm>
              <a:off x="1531800" y="2521080"/>
              <a:ext cx="6909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30000"/>
                </a:lnSpc>
                <a:buClr>
                  <a:srgbClr val="f2f2f2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由中国最好的</a:t>
              </a: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设计公司锐普全面运作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5" name="TextBox 38"/>
            <p:cNvSpPr/>
            <p:nvPr/>
          </p:nvSpPr>
          <p:spPr>
            <a:xfrm>
              <a:off x="1531800" y="2894040"/>
              <a:ext cx="6909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30000"/>
                </a:lnSpc>
                <a:buClr>
                  <a:srgbClr val="f2f2f2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由中国最好的</a:t>
              </a: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设计公司锐普全面运作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6" name="TextBox 39"/>
            <p:cNvSpPr/>
            <p:nvPr/>
          </p:nvSpPr>
          <p:spPr>
            <a:xfrm>
              <a:off x="1531800" y="3265560"/>
              <a:ext cx="6909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30000"/>
                </a:lnSpc>
                <a:buClr>
                  <a:srgbClr val="f2f2f2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由中国最好的</a:t>
              </a: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设计公司锐普全面运作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87" name="组合 5"/>
          <p:cNvGrpSpPr/>
          <p:nvPr/>
        </p:nvGrpSpPr>
        <p:grpSpPr>
          <a:xfrm>
            <a:off x="1084320" y="3659040"/>
            <a:ext cx="7377120" cy="1086840"/>
            <a:chOff x="1084320" y="3659040"/>
            <a:chExt cx="7377120" cy="1086840"/>
          </a:xfrm>
        </p:grpSpPr>
        <p:sp>
          <p:nvSpPr>
            <p:cNvPr id="588" name="TextBox 40"/>
            <p:cNvSpPr/>
            <p:nvPr/>
          </p:nvSpPr>
          <p:spPr>
            <a:xfrm>
              <a:off x="1084320" y="3659040"/>
              <a:ext cx="7377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2543a"/>
                  </a:solidFill>
                  <a:latin typeface="微软雅黑"/>
                  <a:ea typeface="微软雅黑"/>
                </a:rPr>
                <a:t>工作业绩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9" name="TextBox 41"/>
            <p:cNvSpPr/>
            <p:nvPr/>
          </p:nvSpPr>
          <p:spPr>
            <a:xfrm>
              <a:off x="1531800" y="4003560"/>
              <a:ext cx="6909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30000"/>
                </a:lnSpc>
                <a:buClr>
                  <a:srgbClr val="f2f2f2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由中国最好的</a:t>
              </a: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设计公司锐普全面运作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0" name="TextBox 42"/>
            <p:cNvSpPr/>
            <p:nvPr/>
          </p:nvSpPr>
          <p:spPr>
            <a:xfrm>
              <a:off x="1531800" y="4375080"/>
              <a:ext cx="6909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30000"/>
                </a:lnSpc>
                <a:buClr>
                  <a:srgbClr val="f2f2f2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由中国最好的</a:t>
              </a: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设计公司锐普全面运作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91" name="AutoShape 4"/>
          <p:cNvSpPr/>
          <p:nvPr/>
        </p:nvSpPr>
        <p:spPr>
          <a:xfrm>
            <a:off x="5970600" y="2162160"/>
            <a:ext cx="342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Freeform 6"/>
          <p:cNvSpPr/>
          <p:nvPr/>
        </p:nvSpPr>
        <p:spPr>
          <a:xfrm>
            <a:off x="709560" y="619200"/>
            <a:ext cx="343080" cy="2937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5c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直接连接符 51"/>
          <p:cNvSpPr/>
          <p:nvPr/>
        </p:nvSpPr>
        <p:spPr>
          <a:xfrm>
            <a:off x="668160" y="957240"/>
            <a:ext cx="7863120" cy="0"/>
          </a:xfrm>
          <a:prstGeom prst="line">
            <a:avLst/>
          </a:prstGeom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矩形 79"/>
          <p:cNvSpPr/>
          <p:nvPr/>
        </p:nvSpPr>
        <p:spPr>
          <a:xfrm>
            <a:off x="642960" y="557280"/>
            <a:ext cx="476280" cy="417600"/>
          </a:xfrm>
          <a:prstGeom prst="rect">
            <a:avLst/>
          </a:prstGeom>
          <a:solidFill>
            <a:srgbClr val="f36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TextBox 81"/>
          <p:cNvSpPr/>
          <p:nvPr/>
        </p:nvSpPr>
        <p:spPr>
          <a:xfrm>
            <a:off x="1112760" y="581040"/>
            <a:ext cx="25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Verdana"/>
                <a:ea typeface="微软雅黑"/>
              </a:rPr>
              <a:t>曾获荣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96" name="组合 9"/>
          <p:cNvGrpSpPr/>
          <p:nvPr/>
        </p:nvGrpSpPr>
        <p:grpSpPr>
          <a:xfrm>
            <a:off x="1077840" y="1413000"/>
            <a:ext cx="6086520" cy="337320"/>
            <a:chOff x="1077840" y="1413000"/>
            <a:chExt cx="6086520" cy="337320"/>
          </a:xfrm>
        </p:grpSpPr>
        <p:sp>
          <p:nvSpPr>
            <p:cNvPr id="597" name="TextBox 32"/>
            <p:cNvSpPr/>
            <p:nvPr/>
          </p:nvSpPr>
          <p:spPr>
            <a:xfrm>
              <a:off x="1077840" y="1428840"/>
              <a:ext cx="25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2012.1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8" name="TextBox 33"/>
            <p:cNvSpPr/>
            <p:nvPr/>
          </p:nvSpPr>
          <p:spPr>
            <a:xfrm>
              <a:off x="2555640" y="1413000"/>
              <a:ext cx="46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获校内</a:t>
              </a:r>
              <a:r>
                <a:rPr b="0" lang="en-US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XXX</a:t>
              </a: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荣誉（班级内</a:t>
              </a:r>
              <a:r>
                <a:rPr b="1" lang="zh-CN" sz="1600" spc="-1" strike="noStrike">
                  <a:solidFill>
                    <a:srgbClr val="f2543a"/>
                  </a:solidFill>
                  <a:latin typeface="微软雅黑"/>
                  <a:ea typeface="微软雅黑"/>
                </a:rPr>
                <a:t>唯一</a:t>
              </a: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获此荣誉）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99" name="组合 8"/>
          <p:cNvGrpSpPr/>
          <p:nvPr/>
        </p:nvGrpSpPr>
        <p:grpSpPr>
          <a:xfrm>
            <a:off x="1084320" y="1974960"/>
            <a:ext cx="7446960" cy="337320"/>
            <a:chOff x="1084320" y="1974960"/>
            <a:chExt cx="7446960" cy="337320"/>
          </a:xfrm>
        </p:grpSpPr>
        <p:sp>
          <p:nvSpPr>
            <p:cNvPr id="600" name="TextBox 20"/>
            <p:cNvSpPr/>
            <p:nvPr/>
          </p:nvSpPr>
          <p:spPr>
            <a:xfrm>
              <a:off x="1084320" y="1990800"/>
              <a:ext cx="25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2013.05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1" name="TextBox 21"/>
            <p:cNvSpPr/>
            <p:nvPr/>
          </p:nvSpPr>
          <p:spPr>
            <a:xfrm>
              <a:off x="2562120" y="1974960"/>
              <a:ext cx="596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在全省</a:t>
              </a:r>
              <a:r>
                <a:rPr b="0" lang="en-US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XX</a:t>
              </a: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竞赛中获优秀奖（校内十人参赛，仅</a:t>
              </a:r>
              <a:r>
                <a:rPr b="1" lang="zh-CN" sz="1600" spc="-1" strike="noStrike">
                  <a:solidFill>
                    <a:srgbClr val="f2543a"/>
                  </a:solidFill>
                  <a:latin typeface="微软雅黑"/>
                  <a:ea typeface="微软雅黑"/>
                </a:rPr>
                <a:t>一人</a:t>
              </a: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获此奖项）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02" name="组合 2"/>
          <p:cNvGrpSpPr/>
          <p:nvPr/>
        </p:nvGrpSpPr>
        <p:grpSpPr>
          <a:xfrm>
            <a:off x="1077840" y="2538360"/>
            <a:ext cx="7446960" cy="498960"/>
            <a:chOff x="1077840" y="2538360"/>
            <a:chExt cx="7446960" cy="498960"/>
          </a:xfrm>
        </p:grpSpPr>
        <p:sp>
          <p:nvSpPr>
            <p:cNvPr id="603" name="TextBox 22"/>
            <p:cNvSpPr/>
            <p:nvPr/>
          </p:nvSpPr>
          <p:spPr>
            <a:xfrm>
              <a:off x="1077840" y="2730240"/>
              <a:ext cx="25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2014.10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4" name="TextBox 23"/>
            <p:cNvSpPr/>
            <p:nvPr/>
          </p:nvSpPr>
          <p:spPr>
            <a:xfrm>
              <a:off x="2555640" y="2538360"/>
              <a:ext cx="596916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在全国</a:t>
              </a:r>
              <a:r>
                <a:rPr b="0" lang="en-US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XX</a:t>
              </a: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竞赛中获优秀创新奖（全国两百人参赛，仅</a:t>
              </a:r>
              <a:r>
                <a:rPr b="1" lang="zh-CN" sz="1600" spc="-1" strike="noStrike">
                  <a:solidFill>
                    <a:srgbClr val="f2543a"/>
                  </a:solidFill>
                  <a:latin typeface="微软雅黑"/>
                  <a:ea typeface="微软雅黑"/>
                </a:rPr>
                <a:t>二人</a:t>
              </a: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获此奖项）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05" name="组合 1"/>
          <p:cNvGrpSpPr/>
          <p:nvPr/>
        </p:nvGrpSpPr>
        <p:grpSpPr>
          <a:xfrm>
            <a:off x="1077840" y="3456000"/>
            <a:ext cx="7446960" cy="410040"/>
            <a:chOff x="1077840" y="3456000"/>
            <a:chExt cx="7446960" cy="410040"/>
          </a:xfrm>
        </p:grpSpPr>
        <p:sp>
          <p:nvSpPr>
            <p:cNvPr id="606" name="TextBox 24"/>
            <p:cNvSpPr/>
            <p:nvPr/>
          </p:nvSpPr>
          <p:spPr>
            <a:xfrm>
              <a:off x="1077840" y="3508200"/>
              <a:ext cx="25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2012-2014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7" name="TextBox 25"/>
            <p:cNvSpPr/>
            <p:nvPr/>
          </p:nvSpPr>
          <p:spPr>
            <a:xfrm>
              <a:off x="2555640" y="3456000"/>
              <a:ext cx="596916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共获</a:t>
              </a:r>
              <a:r>
                <a:rPr b="1" lang="zh-CN" sz="1600" spc="-1" strike="noStrike">
                  <a:solidFill>
                    <a:srgbClr val="f2543a"/>
                  </a:solidFill>
                  <a:latin typeface="微软雅黑"/>
                  <a:ea typeface="微软雅黑"/>
                </a:rPr>
                <a:t>一等奖</a:t>
              </a: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学金三次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08" name="AutoShape 4"/>
          <p:cNvSpPr/>
          <p:nvPr/>
        </p:nvSpPr>
        <p:spPr>
          <a:xfrm>
            <a:off x="4452840" y="2292480"/>
            <a:ext cx="4064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Freeform 6"/>
          <p:cNvSpPr/>
          <p:nvPr/>
        </p:nvSpPr>
        <p:spPr>
          <a:xfrm>
            <a:off x="750960" y="638280"/>
            <a:ext cx="260280" cy="2556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5c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直接连接符 51"/>
          <p:cNvSpPr/>
          <p:nvPr/>
        </p:nvSpPr>
        <p:spPr>
          <a:xfrm>
            <a:off x="668160" y="957240"/>
            <a:ext cx="7863120" cy="0"/>
          </a:xfrm>
          <a:prstGeom prst="line">
            <a:avLst/>
          </a:prstGeom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矩形 79"/>
          <p:cNvSpPr/>
          <p:nvPr/>
        </p:nvSpPr>
        <p:spPr>
          <a:xfrm>
            <a:off x="642960" y="557280"/>
            <a:ext cx="476280" cy="417600"/>
          </a:xfrm>
          <a:prstGeom prst="rect">
            <a:avLst/>
          </a:prstGeom>
          <a:solidFill>
            <a:srgbClr val="f36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TextBox 81"/>
          <p:cNvSpPr/>
          <p:nvPr/>
        </p:nvSpPr>
        <p:spPr>
          <a:xfrm>
            <a:off x="1112760" y="581040"/>
            <a:ext cx="25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Verdana"/>
                <a:ea typeface="微软雅黑"/>
              </a:rPr>
              <a:t>工作技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3" name="Picture 34" descr=""/>
          <p:cNvPicPr/>
          <p:nvPr/>
        </p:nvPicPr>
        <p:blipFill>
          <a:blip r:embed="rId1"/>
          <a:stretch/>
        </p:blipFill>
        <p:spPr>
          <a:xfrm>
            <a:off x="2130480" y="2251080"/>
            <a:ext cx="2879640" cy="60804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5" descr=""/>
          <p:cNvPicPr/>
          <p:nvPr/>
        </p:nvPicPr>
        <p:blipFill>
          <a:blip r:embed="rId2"/>
          <a:stretch/>
        </p:blipFill>
        <p:spPr>
          <a:xfrm>
            <a:off x="1979640" y="3003480"/>
            <a:ext cx="3127320" cy="5828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36" descr=""/>
          <p:cNvPicPr/>
          <p:nvPr/>
        </p:nvPicPr>
        <p:blipFill>
          <a:blip r:embed="rId3"/>
          <a:stretch/>
        </p:blipFill>
        <p:spPr>
          <a:xfrm>
            <a:off x="2173320" y="3724200"/>
            <a:ext cx="2854440" cy="527040"/>
          </a:xfrm>
          <a:prstGeom prst="rect">
            <a:avLst/>
          </a:prstGeom>
          <a:ln w="0">
            <a:noFill/>
          </a:ln>
        </p:spPr>
      </p:pic>
      <p:grpSp>
        <p:nvGrpSpPr>
          <p:cNvPr id="616" name="组合 16"/>
          <p:cNvGrpSpPr/>
          <p:nvPr/>
        </p:nvGrpSpPr>
        <p:grpSpPr>
          <a:xfrm>
            <a:off x="708120" y="617400"/>
            <a:ext cx="344520" cy="297000"/>
            <a:chOff x="708120" y="617400"/>
            <a:chExt cx="344520" cy="297000"/>
          </a:xfrm>
        </p:grpSpPr>
        <p:sp>
          <p:nvSpPr>
            <p:cNvPr id="617" name="AutoShape 40"/>
            <p:cNvSpPr/>
            <p:nvPr/>
          </p:nvSpPr>
          <p:spPr>
            <a:xfrm>
              <a:off x="708120" y="621360"/>
              <a:ext cx="34452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8" name="Freeform 42"/>
            <p:cNvSpPr/>
            <p:nvPr/>
          </p:nvSpPr>
          <p:spPr>
            <a:xfrm>
              <a:off x="824040" y="685440"/>
              <a:ext cx="228600" cy="22896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9" name="Freeform 43"/>
            <p:cNvSpPr/>
            <p:nvPr/>
          </p:nvSpPr>
          <p:spPr>
            <a:xfrm>
              <a:off x="712800" y="617400"/>
              <a:ext cx="146160" cy="14616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0" name="Freeform 44"/>
            <p:cNvSpPr/>
            <p:nvPr/>
          </p:nvSpPr>
          <p:spPr>
            <a:xfrm>
              <a:off x="712800" y="763560"/>
              <a:ext cx="114120" cy="1159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621" name="Picture 37" descr=""/>
          <p:cNvPicPr/>
          <p:nvPr/>
        </p:nvPicPr>
        <p:blipFill>
          <a:blip r:embed="rId4"/>
          <a:stretch/>
        </p:blipFill>
        <p:spPr>
          <a:xfrm>
            <a:off x="2173320" y="1444680"/>
            <a:ext cx="2879640" cy="608040"/>
          </a:xfrm>
          <a:prstGeom prst="rect">
            <a:avLst/>
          </a:prstGeom>
          <a:ln w="0">
            <a:noFill/>
          </a:ln>
        </p:spPr>
      </p:pic>
      <p:sp>
        <p:nvSpPr>
          <p:cNvPr id="622" name="矩形 16"/>
          <p:cNvSpPr/>
          <p:nvPr/>
        </p:nvSpPr>
        <p:spPr>
          <a:xfrm>
            <a:off x="1236600" y="1577880"/>
            <a:ext cx="601560" cy="527040"/>
          </a:xfrm>
          <a:prstGeom prst="rect">
            <a:avLst/>
          </a:prstGeom>
          <a:solidFill>
            <a:srgbClr val="f36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A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矩形 17"/>
          <p:cNvSpPr/>
          <p:nvPr/>
        </p:nvSpPr>
        <p:spPr>
          <a:xfrm>
            <a:off x="1236600" y="2292480"/>
            <a:ext cx="601560" cy="527040"/>
          </a:xfrm>
          <a:prstGeom prst="rect">
            <a:avLst/>
          </a:prstGeom>
          <a:solidFill>
            <a:srgbClr val="f36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矩形 18"/>
          <p:cNvSpPr/>
          <p:nvPr/>
        </p:nvSpPr>
        <p:spPr>
          <a:xfrm>
            <a:off x="1236600" y="2981160"/>
            <a:ext cx="601560" cy="527040"/>
          </a:xfrm>
          <a:prstGeom prst="rect">
            <a:avLst/>
          </a:prstGeom>
          <a:solidFill>
            <a:srgbClr val="f36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矩形 19"/>
          <p:cNvSpPr/>
          <p:nvPr/>
        </p:nvSpPr>
        <p:spPr>
          <a:xfrm>
            <a:off x="1236600" y="3724200"/>
            <a:ext cx="601560" cy="527040"/>
          </a:xfrm>
          <a:prstGeom prst="rect">
            <a:avLst/>
          </a:prstGeom>
          <a:solidFill>
            <a:srgbClr val="f36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D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5c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矩形 4"/>
          <p:cNvSpPr/>
          <p:nvPr/>
        </p:nvSpPr>
        <p:spPr>
          <a:xfrm>
            <a:off x="3203640" y="2274840"/>
            <a:ext cx="2736720" cy="593640"/>
          </a:xfrm>
          <a:prstGeom prst="rect">
            <a:avLst/>
          </a:prstGeom>
          <a:solidFill>
            <a:srgbClr val="f254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TextBox 40"/>
          <p:cNvSpPr/>
          <p:nvPr/>
        </p:nvSpPr>
        <p:spPr>
          <a:xfrm>
            <a:off x="851040" y="5524560"/>
            <a:ext cx="12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ac090"/>
                </a:solidFill>
                <a:latin typeface="Verdana"/>
                <a:ea typeface="微软雅黑"/>
              </a:rPr>
              <a:t>所学专业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TextBox 3"/>
          <p:cNvSpPr/>
          <p:nvPr/>
        </p:nvSpPr>
        <p:spPr>
          <a:xfrm>
            <a:off x="3503520" y="2341440"/>
            <a:ext cx="21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Verdana"/>
              </a:rPr>
              <a:t>THAN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TextBox 5"/>
          <p:cNvSpPr/>
          <p:nvPr/>
        </p:nvSpPr>
        <p:spPr>
          <a:xfrm>
            <a:off x="2508120" y="296244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期待能与您面谈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1T05:53:38Z</dcterms:created>
  <dc:creator>www.pptbz.com</dc:creator>
  <dc:description/>
  <dc:language>en-US</dc:language>
  <cp:lastModifiedBy>微软用户</cp:lastModifiedBy>
  <dcterms:modified xsi:type="dcterms:W3CDTF">2015-04-23T17:29:26Z</dcterms:modified>
  <cp:revision>3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