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370-EED0-4E60-9BFD-D3155227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AC8-78E2-457F-BCCD-CB58933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FAC24-CF34-4E4E-99A7-2A0E59BC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92AE8-0365-40ED-BB9A-AFC2B21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9023-028A-4926-85ED-CB5BE17E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15F55-B63B-40EC-A257-9893AAA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C669-BF2C-4673-8278-10F90B5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D4977-480B-4949-8F4F-38DB718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A9BF-4C23-484F-A8BE-F186168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2590E-156C-403D-8255-85599CBC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1050C-A2BC-42C8-80AA-11A028DB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3FEFB-B734-44DE-B526-B18EEB1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E6C-E904-4439-9283-5D14566D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B73CF-FA96-44B4-A22D-8372E8EC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CB3EF-8A64-474A-9612-215AB46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153CC-0544-4B3A-97D0-89076840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F543A-DE33-41C6-B48C-3F23FC92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22A0C-4E1D-41FB-9615-0F095D3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435C-8A7F-4380-A63F-082BEAF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6DE6F-D9BE-48CB-B504-6DEC1968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8D46C-BDBE-4EA8-9A01-EC5CCB3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E9F8-F9EA-4352-9350-C6239A1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5797-14DF-42B1-921D-D96B15D0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D1C-D326-4884-9275-1530AF48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EF19B-8DCE-49BC-9467-8A3507B8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90E58-CE12-468B-A466-DCFD0C5D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D9D6F-F29E-41F4-94FD-DF0353F8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6BAAC-5E0E-400C-8738-3E1167D4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14BEE-9C1E-4F49-9562-6DDF974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738EF-9DE4-4091-BE10-94C1A68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7CB4F-CC6E-4434-AC14-8F34E96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FDAED-A73E-4D22-9824-2427DD7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CFC8C-CA4C-4BDD-BCF8-2722E725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4797D-3F8B-4951-8C3C-70C4C4D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419B-8A4C-4A64-B6C2-C9E51531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DA85-BAF8-48A4-9E88-FA881C10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22F34-6C4E-4363-B4A0-ADF2F306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4499-FE2C-41C6-97C3-14631924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C0808-92AA-480E-9ECB-B2449F2F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1ACA-6E98-4A3E-8E89-387B6045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4D0DE-1962-4E00-A85F-84ED614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E4445-0D5D-4C1F-B97F-E7B38AF0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9A0B9-C8B7-4CE2-8C66-41C6AC8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E2B44-E095-4860-AC2B-56EF8F06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981CA-D99A-4784-B737-42AB2C1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1BC4-C6C3-49BC-A91D-1FA4C2B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A28A0-C827-465A-B70E-AAD4A1E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FBA2D-131D-4D39-9945-76C66B4A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5C6D5-0347-428A-A319-731FCA1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63236-7DEE-4BEF-9600-D0DA972F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81D15-790A-4C00-BDBE-590C6E07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A1A1-D43D-4923-8E40-FCB3549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7163-239C-4E19-B78E-62D9DDB4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BD6F-72CE-4417-9659-A1BEC948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E49-5D0B-485A-A3ED-D7462C07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0B0-5335-4E4D-AE99-04A3C85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45A-39C9-40D1-8172-8C48B07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A4AB-15B3-4DE8-AC97-ABA6BB3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F38D-5545-4472-98E7-9C813A1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1803-1B15-479D-9379-AD2F3E89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FCF7-AB5C-4193-80A7-757D3B8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04F-0864-4FA0-80B4-19A34879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F693-BD4E-4B5E-B16A-7B765298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2450-0E4B-4A09-9A79-04324D6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74D5-624F-421E-917F-2576882F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D179-9377-40C7-BD88-718F4707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5EA5-E459-495B-8173-7DBA0E9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7CF-56D2-4E67-9A24-B70EB7CC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5AC9-CCDB-41AB-A6CD-0BCAFB1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2311-4AB6-48DE-B518-5D0DB41F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2B4E-7A8E-4C60-BAE0-0E44B66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7CDC-7B15-4ABB-960F-8D9CB308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2549-2208-4D15-ADC2-56A7FFE4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F5F2-08C7-4230-89F6-0241487D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CBD6-B9EE-4357-A26A-55CBA45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A7BF-A802-41E9-9D22-5B7A6FA3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D374-F805-4B87-897A-B8844FD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CF8F-CA0C-46CF-8BC5-EE861326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70-E3CC-4517-9479-E342E2A5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DFC7-C301-4ABE-9D96-8C42AA9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5E6B-00B7-423C-8761-DC7843F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68AC-7099-4CBA-962D-D7BFD31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C131-EAE5-4576-A859-312C4A2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5B5F-86E9-420B-8E36-74AC4DE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D565-4F3A-437F-B24F-05499F1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AC7A-A45E-4DAC-90E0-38DABEC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79B3-3D86-48CC-BE42-5EB7E23C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A2C7-6DC3-40FD-8348-C472775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7DC8-7FA1-4457-B662-5758FB36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910-8FE8-4FD3-A0B6-BE09577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7410-A907-4C8B-A1D3-F13C847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B873-BAFA-43D7-ABDD-FE86F20F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CC10-8F76-4490-BF78-88747F19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8CE7-8ECE-4616-94FE-D7C604D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18F0-98A4-4026-8E1C-7B0640B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ABAD-1220-4DDA-870A-49E3772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E023-0232-4F21-B599-A729F06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A989-9BB1-47EB-8B83-0FCA4C8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FDFC-7082-48B7-ABD8-C60EDAF4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8DF1-9D3E-4F6B-8650-255F893E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6C5-3E23-47C8-875E-D472FCA1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5B71-FC1D-4538-933A-258825B3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FA41-05AD-4D7C-A45C-703F25C7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A174-5B93-4152-9DFA-4BE1636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81FC-EBA1-4A40-AB4D-0B6EF3D3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5108-3E9C-48A3-8519-A1B182E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1AAD-2413-47DE-93A4-2F2C58C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672E-3DD6-4248-8264-9AF5D70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06152-2EA2-490F-B824-C08CDD2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0C5C-C529-4320-85D9-40E46B5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666A-741C-46D0-A3AA-C067F2E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419-2BBB-4A12-863A-D3FB82AF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89F01-80BA-4357-9171-0E214CF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93D7-D957-43A9-A77F-C74CF646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62CB-62B3-4CC0-8F00-4A905BAC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F27AC-6887-4C67-8ADB-C7858ED7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DF32-CC83-4F55-9E81-36452D06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262A-1CEB-44E1-8D67-18A9115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3E45-9B19-4570-90FA-7589F28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91A8-21F9-460E-8E72-7482827A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3A4C-27C2-45FB-8684-53434EB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74FEF-E456-48B3-AC21-A2BE226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74D-2B04-483B-82B2-5454062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499C-9C53-47CD-BED2-2200660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6998-49CE-48B8-AB57-96CC8E7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B80F-5B1C-431D-B79E-0FFF032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A82F-530C-4E80-AEEE-0F0D8173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D926-865B-469A-BFE3-12A4356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358AD-B347-41CC-B787-C484F9F8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9AC9-B087-4860-AC3F-52BF0CD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F41D-F08D-480B-84AE-60A925FD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E533-1F11-49F8-9290-EF2A241E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0917-1574-45A9-A926-F1F70E43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BD2-4865-4C4B-B1E8-F683EDF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3FFA-394F-4927-804D-B7151E3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5849A-3B30-476E-B332-D172A99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127D-1BF2-4156-B93F-8A0855C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3D1B-28E1-4320-8B2A-0FEE6DC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FE56-26AE-433F-8ABF-6D62982B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299B-0F79-4AE9-AF0A-CB7950D7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A24F-9974-4620-81F7-3B28156A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2795B-6B4D-4694-9181-D1EEBFA0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6F51-557C-4F35-89CB-44FB340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8957-AB95-46D9-BDF4-2DFFAE8F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600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7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2000" y="6005160"/>
            <a:ext cx="2592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1F3-9C11-4F50-8114-39A5BD49D5F4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6000" y="6005160"/>
            <a:ext cx="388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35640" y="6005160"/>
            <a:ext cx="2592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9C9-7865-4948-BD8C-E84B53A8BFC0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6749-6CE8-480D-835F-C657D705EF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8D9-0E47-4CA5-8B0C-7D9BA0DC2F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5A2-E701-40F1-A3BE-96F78BBEC6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71A-204E-4713-86DD-132E7CF00B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3650-9072-4F82-9041-6E242CB477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64E-CBCD-4B2B-9FE1-7C7BF46076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07BD-18CE-4F20-BEC5-2180A1846B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3B8F-66FC-4620-A982-4D2A0EC86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7C3-341A-4B40-92C0-F1DD6EF297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38F2-A100-4B45-B076-685E1DAF3D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027F-6A3E-46B0-8913-70E2A06C42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A58-FD79-43E5-92C8-32996BF18A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FBA-C23B-4530-A7A6-7B16A74C96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AF5-52E2-4F7B-887D-E0E55660F7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71E6-B577-46CB-B3E3-E21B259C06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A8E-F44F-4BD5-A9F4-9FE6D0D205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CC3-C83D-4051-AC84-DFB5F10CE4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AE9-B4DA-4357-B5BA-135EB683A0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8D08-4CC5-4B08-A2F1-C25B78C56F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9E7-69FC-428C-8AC2-267644A754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80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94E-45A2-47F1-A958-563DD8CCAB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935520" y="6005160"/>
            <a:ext cx="36496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25660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BB7-59B6-4CE4-BDDE-31D1F0898E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4863960" y="281160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2850480" y="983160"/>
            <a:ext cx="5099760" cy="5045400"/>
            <a:chOff x="2850480" y="983160"/>
            <a:chExt cx="5099760" cy="5045400"/>
          </a:xfrm>
        </p:grpSpPr>
        <p:sp>
          <p:nvSpPr>
            <p:cNvPr id="495" name="AutoShape 4"/>
            <p:cNvSpPr/>
            <p:nvPr/>
          </p:nvSpPr>
          <p:spPr>
            <a:xfrm rot="19367400">
              <a:off x="3519000" y="1766520"/>
              <a:ext cx="3762360" cy="3478320"/>
            </a:xfrm>
            <a:custGeom>
              <a:avLst/>
              <a:gdLst>
                <a:gd name="textAreaLeft" fmla="*/ 550800 w 3762360"/>
                <a:gd name="textAreaRight" fmla="*/ 3211560 w 3762360"/>
                <a:gd name="textAreaTop" fmla="*/ 509400 h 3478320"/>
                <a:gd name="textAreaBottom" fmla="*/ 296892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7dadff"/>
              </a:solidFill>
              <a:round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WordArt 7"/>
            <p:cNvSpPr txBox="1"/>
            <p:nvPr/>
          </p:nvSpPr>
          <p:spPr>
            <a:xfrm rot="3394200">
              <a:off x="4892400" y="2249280"/>
              <a:ext cx="210492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单击此处添加文字</a:t>
              </a:r>
              <a:endParaRPr b="0" lang="en-US" sz="20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6854400" y="1946160"/>
            <a:ext cx="2403720" cy="920160"/>
            <a:chOff x="6854400" y="1946160"/>
            <a:chExt cx="2403720" cy="920160"/>
          </a:xfrm>
        </p:grpSpPr>
        <p:sp>
          <p:nvSpPr>
            <p:cNvPr id="498" name="Line 19"/>
            <p:cNvSpPr/>
            <p:nvPr/>
          </p:nvSpPr>
          <p:spPr>
            <a:xfrm flipH="1">
              <a:off x="6854400" y="2293560"/>
              <a:ext cx="24037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19"/>
            <p:cNvSpPr/>
            <p:nvPr/>
          </p:nvSpPr>
          <p:spPr>
            <a:xfrm>
              <a:off x="749304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20"/>
            <p:cNvSpPr/>
            <p:nvPr/>
          </p:nvSpPr>
          <p:spPr>
            <a:xfrm>
              <a:off x="7493040" y="231588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1"/>
          <p:cNvGrpSpPr/>
          <p:nvPr/>
        </p:nvGrpSpPr>
        <p:grpSpPr>
          <a:xfrm>
            <a:off x="3263400" y="1143360"/>
            <a:ext cx="4806360" cy="4651200"/>
            <a:chOff x="3263400" y="1143360"/>
            <a:chExt cx="4806360" cy="4651200"/>
          </a:xfrm>
        </p:grpSpPr>
        <p:sp>
          <p:nvSpPr>
            <p:cNvPr id="502" name="AutoShape 6"/>
            <p:cNvSpPr/>
            <p:nvPr/>
          </p:nvSpPr>
          <p:spPr>
            <a:xfrm rot="12146400">
              <a:off x="3784320" y="1729800"/>
              <a:ext cx="3763800" cy="347796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262626"/>
            </a:solidFill>
            <a:ln w="3240">
              <a:solidFill>
                <a:srgbClr val="eaeaea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WordArt 9"/>
            <p:cNvSpPr txBox="1"/>
            <p:nvPr/>
          </p:nvSpPr>
          <p:spPr>
            <a:xfrm rot="17984400">
              <a:off x="4003560" y="2308320"/>
              <a:ext cx="2105280" cy="1769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4d4d4d"/>
                  </a:solidFill>
                  <a:latin typeface="微软雅黑"/>
                </a:rPr>
                <a:t>单击此处添加文字</a:t>
              </a:r>
              <a:endParaRPr b="0" lang="en-US" sz="2000" spc="1" strike="noStrike">
                <a:ln w="0">
                  <a:noFill/>
                </a:ln>
                <a:solidFill>
                  <a:srgbClr val="4d4d4d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04" name="Group 14"/>
          <p:cNvGrpSpPr/>
          <p:nvPr/>
        </p:nvGrpSpPr>
        <p:grpSpPr>
          <a:xfrm>
            <a:off x="1833480" y="1946160"/>
            <a:ext cx="2421000" cy="942480"/>
            <a:chOff x="1833480" y="1946160"/>
            <a:chExt cx="2421000" cy="942480"/>
          </a:xfrm>
        </p:grpSpPr>
        <p:sp>
          <p:nvSpPr>
            <p:cNvPr id="505" name="Line 17"/>
            <p:cNvSpPr/>
            <p:nvPr/>
          </p:nvSpPr>
          <p:spPr>
            <a:xfrm>
              <a:off x="1849320" y="229356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9"/>
            <p:cNvSpPr/>
            <p:nvPr/>
          </p:nvSpPr>
          <p:spPr>
            <a:xfrm>
              <a:off x="183348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0"/>
            <p:cNvSpPr/>
            <p:nvPr/>
          </p:nvSpPr>
          <p:spPr>
            <a:xfrm>
              <a:off x="1833480" y="233820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3598560" y="1228320"/>
            <a:ext cx="3813840" cy="4072680"/>
            <a:chOff x="3598560" y="1228320"/>
            <a:chExt cx="3813840" cy="4072680"/>
          </a:xfrm>
        </p:grpSpPr>
        <p:sp>
          <p:nvSpPr>
            <p:cNvPr id="509" name="AutoShape 5"/>
            <p:cNvSpPr/>
            <p:nvPr/>
          </p:nvSpPr>
          <p:spPr>
            <a:xfrm rot="5077800">
              <a:off x="3623400" y="1526040"/>
              <a:ext cx="3763800" cy="347688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6880"/>
                <a:gd name="textAreaBottom" fmla="*/ 2967840 h 347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7f7f7f"/>
            </a:solidFill>
            <a:ln w="3240">
              <a:solidFill>
                <a:srgbClr val="d4e4ff"/>
              </a:solidFill>
              <a:round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WordArt 8"/>
            <p:cNvSpPr txBox="1"/>
            <p:nvPr/>
          </p:nvSpPr>
          <p:spPr>
            <a:xfrm rot="79200">
              <a:off x="4265640" y="3021120"/>
              <a:ext cx="247464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8914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5f5f5f"/>
                  </a:solidFill>
                  <a:latin typeface="微软雅黑"/>
                </a:rPr>
                <a:t>单击此处添加文字</a:t>
              </a:r>
              <a:endParaRPr b="0" lang="en-US" sz="2000" spc="1" strike="noStrike">
                <a:ln w="0">
                  <a:noFill/>
                </a:ln>
                <a:solidFill>
                  <a:srgbClr val="5f5f5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11" name="Group 21"/>
          <p:cNvGrpSpPr/>
          <p:nvPr/>
        </p:nvGrpSpPr>
        <p:grpSpPr>
          <a:xfrm>
            <a:off x="6472080" y="4651200"/>
            <a:ext cx="2419560" cy="920160"/>
            <a:chOff x="6472080" y="4651200"/>
            <a:chExt cx="2419560" cy="920160"/>
          </a:xfrm>
        </p:grpSpPr>
        <p:sp>
          <p:nvSpPr>
            <p:cNvPr id="512" name="Line 18"/>
            <p:cNvSpPr/>
            <p:nvPr/>
          </p:nvSpPr>
          <p:spPr>
            <a:xfrm flipH="1">
              <a:off x="6472080" y="4993920"/>
              <a:ext cx="24055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9"/>
            <p:cNvSpPr/>
            <p:nvPr/>
          </p:nvSpPr>
          <p:spPr>
            <a:xfrm>
              <a:off x="7162560" y="465120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0"/>
            <p:cNvSpPr/>
            <p:nvPr/>
          </p:nvSpPr>
          <p:spPr>
            <a:xfrm>
              <a:off x="7162560" y="50209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5"/>
          <p:cNvGrpSpPr/>
          <p:nvPr/>
        </p:nvGrpSpPr>
        <p:grpSpPr>
          <a:xfrm>
            <a:off x="1879560" y="4657680"/>
            <a:ext cx="2421000" cy="942480"/>
            <a:chOff x="1879560" y="4657680"/>
            <a:chExt cx="2421000" cy="942480"/>
          </a:xfrm>
        </p:grpSpPr>
        <p:sp>
          <p:nvSpPr>
            <p:cNvPr id="516" name="Line 17"/>
            <p:cNvSpPr/>
            <p:nvPr/>
          </p:nvSpPr>
          <p:spPr>
            <a:xfrm>
              <a:off x="1895400" y="500508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9"/>
            <p:cNvSpPr/>
            <p:nvPr/>
          </p:nvSpPr>
          <p:spPr>
            <a:xfrm>
              <a:off x="1879560" y="46576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0"/>
            <p:cNvSpPr/>
            <p:nvPr/>
          </p:nvSpPr>
          <p:spPr>
            <a:xfrm>
              <a:off x="1879560" y="50497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16" descr=""/>
          <p:cNvPicPr/>
          <p:nvPr/>
        </p:nvPicPr>
        <p:blipFill>
          <a:blip r:embed="rId2"/>
          <a:stretch/>
        </p:blipFill>
        <p:spPr>
          <a:xfrm>
            <a:off x="8489880" y="3841920"/>
            <a:ext cx="2532240" cy="141444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5" descr=""/>
          <p:cNvPicPr/>
          <p:nvPr/>
        </p:nvPicPr>
        <p:blipFill>
          <a:blip r:embed="rId3"/>
          <a:stretch/>
        </p:blipFill>
        <p:spPr>
          <a:xfrm>
            <a:off x="5819760" y="3841920"/>
            <a:ext cx="2521080" cy="141444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4" descr=""/>
          <p:cNvPicPr/>
          <p:nvPr/>
        </p:nvPicPr>
        <p:blipFill>
          <a:blip r:embed="rId4"/>
          <a:stretch/>
        </p:blipFill>
        <p:spPr>
          <a:xfrm>
            <a:off x="3151080" y="3838680"/>
            <a:ext cx="2525760" cy="1417680"/>
          </a:xfrm>
          <a:prstGeom prst="rect">
            <a:avLst/>
          </a:prstGeom>
          <a:ln w="0">
            <a:noFill/>
          </a:ln>
        </p:spPr>
      </p:pic>
      <p:pic>
        <p:nvPicPr>
          <p:cNvPr id="700" name="图片 10" descr=""/>
          <p:cNvPicPr/>
          <p:nvPr/>
        </p:nvPicPr>
        <p:blipFill>
          <a:blip r:embed="rId5"/>
          <a:stretch/>
        </p:blipFill>
        <p:spPr>
          <a:xfrm>
            <a:off x="487440" y="383868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9" descr=""/>
          <p:cNvPicPr/>
          <p:nvPr/>
        </p:nvPicPr>
        <p:blipFill>
          <a:blip r:embed="rId6"/>
          <a:stretch/>
        </p:blipFill>
        <p:spPr>
          <a:xfrm>
            <a:off x="8480520" y="2022480"/>
            <a:ext cx="2536560" cy="14270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8" descr=""/>
          <p:cNvPicPr/>
          <p:nvPr/>
        </p:nvPicPr>
        <p:blipFill>
          <a:blip r:embed="rId7"/>
          <a:stretch/>
        </p:blipFill>
        <p:spPr>
          <a:xfrm>
            <a:off x="5815080" y="2031840"/>
            <a:ext cx="2520720" cy="142416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7" descr=""/>
          <p:cNvPicPr/>
          <p:nvPr/>
        </p:nvPicPr>
        <p:blipFill>
          <a:blip r:embed="rId8"/>
          <a:stretch/>
        </p:blipFill>
        <p:spPr>
          <a:xfrm>
            <a:off x="3146400" y="203184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2" descr=""/>
          <p:cNvPicPr/>
          <p:nvPr/>
        </p:nvPicPr>
        <p:blipFill>
          <a:blip r:embed="rId9"/>
          <a:srcRect l="0" t="0" r="0" b="4548"/>
          <a:stretch/>
        </p:blipFill>
        <p:spPr>
          <a:xfrm>
            <a:off x="480960" y="2022480"/>
            <a:ext cx="2525760" cy="143352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58"/>
          <p:cNvSpPr/>
          <p:nvPr/>
        </p:nvSpPr>
        <p:spPr>
          <a:xfrm>
            <a:off x="1511280" y="6984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下是我之前几期的免费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2959200" y="587844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的模板都可以在第一</a:t>
            </a:r>
            <a:r>
              <a:rPr b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模板网免费下载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1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"/>
          <p:cNvSpPr/>
          <p:nvPr/>
        </p:nvSpPr>
        <p:spPr>
          <a:xfrm>
            <a:off x="1817640" y="398160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8d8d8d"/>
              </a:gs>
              <a:gs pos="100000">
                <a:srgbClr val="969696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rc 4"/>
          <p:cNvSpPr/>
          <p:nvPr/>
        </p:nvSpPr>
        <p:spPr>
          <a:xfrm rot="16200000">
            <a:off x="3267000" y="2158920"/>
            <a:ext cx="1628640" cy="382572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370320" y="350352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6"/>
          <p:cNvSpPr/>
          <p:nvPr/>
        </p:nvSpPr>
        <p:spPr>
          <a:xfrm rot="16200000">
            <a:off x="3486240" y="2131560"/>
            <a:ext cx="1299960" cy="368172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3681720"/>
              <a:gd name="textAreaBottom" fmla="*/ 3682080 h 368172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9a7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7"/>
          <p:cNvSpPr/>
          <p:nvPr/>
        </p:nvSpPr>
        <p:spPr>
          <a:xfrm rot="16200000">
            <a:off x="3382920" y="2270160"/>
            <a:ext cx="1301760" cy="354960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3549600"/>
              <a:gd name="textAreaBottom" fmla="*/ 3549960 h 35496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9a9a"/>
              </a:gs>
              <a:gs pos="100000">
                <a:srgbClr val="ff3b3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8"/>
          <p:cNvSpPr/>
          <p:nvPr/>
        </p:nvSpPr>
        <p:spPr>
          <a:xfrm rot="16200000">
            <a:off x="3317760" y="2317320"/>
            <a:ext cx="1335240" cy="342756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3427560"/>
              <a:gd name="textAreaBottom" fmla="*/ 3427920 h 342756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770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938840" y="41212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5410080" y="383220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5805360" y="4246560"/>
            <a:ext cx="0" cy="17316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2"/>
          <p:cNvSpPr/>
          <p:nvPr/>
        </p:nvSpPr>
        <p:spPr>
          <a:xfrm>
            <a:off x="5410080" y="4489560"/>
            <a:ext cx="3240" cy="16164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3"/>
          <p:cNvSpPr/>
          <p:nvPr/>
        </p:nvSpPr>
        <p:spPr>
          <a:xfrm flipH="1">
            <a:off x="3300480" y="4011480"/>
            <a:ext cx="95544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rc 14"/>
          <p:cNvSpPr/>
          <p:nvPr/>
        </p:nvSpPr>
        <p:spPr>
          <a:xfrm rot="16200000">
            <a:off x="3338280" y="1914480"/>
            <a:ext cx="1666800" cy="427356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030c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5"/>
          <p:cNvSpPr/>
          <p:nvPr/>
        </p:nvSpPr>
        <p:spPr>
          <a:xfrm>
            <a:off x="6137280" y="3500280"/>
            <a:ext cx="210960" cy="279720"/>
          </a:xfrm>
          <a:custGeom>
            <a:avLst/>
            <a:gdLst>
              <a:gd name="textAreaLeft" fmla="*/ 0 w 210960"/>
              <a:gd name="textAreaRight" fmla="*/ 211320 w 21096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16"/>
          <p:cNvSpPr/>
          <p:nvPr/>
        </p:nvSpPr>
        <p:spPr>
          <a:xfrm rot="16200000">
            <a:off x="3352680" y="1755720"/>
            <a:ext cx="1657440" cy="42768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4276800"/>
              <a:gd name="textAreaBottom" fmla="*/ 4277160 h 427680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9b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3102120" y="334476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AutoShape 18"/>
          <p:cNvCxnSpPr>
            <a:endCxn id="534" idx="3"/>
          </p:cNvCxnSpPr>
          <p:nvPr/>
        </p:nvCxnSpPr>
        <p:spPr>
          <a:xfrm flipV="1" rot="10800000">
            <a:off x="3985560" y="283860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AutoShape 19"/>
          <p:cNvCxnSpPr>
            <a:endCxn id="527" idx="3"/>
          </p:cNvCxnSpPr>
          <p:nvPr/>
        </p:nvCxnSpPr>
        <p:spPr>
          <a:xfrm rot="10800000">
            <a:off x="5915880" y="3983760"/>
            <a:ext cx="1437480" cy="37404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20"/>
          <p:cNvSpPr/>
          <p:nvPr/>
        </p:nvSpPr>
        <p:spPr>
          <a:xfrm>
            <a:off x="4060800" y="42274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22"/>
          <p:cNvCxnSpPr/>
          <p:nvPr/>
        </p:nvCxnSpPr>
        <p:spPr>
          <a:xfrm rot="10800000">
            <a:off x="5490360" y="436176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23"/>
          <p:cNvCxnSpPr/>
          <p:nvPr/>
        </p:nvCxnSpPr>
        <p:spPr>
          <a:xfrm flipV="1">
            <a:off x="3956040" y="450612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40" name="Group 23"/>
          <p:cNvGrpSpPr/>
          <p:nvPr/>
        </p:nvGrpSpPr>
        <p:grpSpPr>
          <a:xfrm>
            <a:off x="6713640" y="5315040"/>
            <a:ext cx="1904760" cy="435960"/>
            <a:chOff x="6713640" y="5315040"/>
            <a:chExt cx="1904760" cy="435960"/>
          </a:xfrm>
        </p:grpSpPr>
        <p:sp>
          <p:nvSpPr>
            <p:cNvPr id="541" name="Freeform 25"/>
            <p:cNvSpPr/>
            <p:nvPr/>
          </p:nvSpPr>
          <p:spPr>
            <a:xfrm>
              <a:off x="6814800" y="5559120"/>
              <a:ext cx="1687320" cy="19188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6"/>
            <p:cNvSpPr/>
            <p:nvPr/>
          </p:nvSpPr>
          <p:spPr>
            <a:xfrm>
              <a:off x="6713640" y="5315040"/>
              <a:ext cx="1904760" cy="38052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27"/>
          <p:cNvSpPr/>
          <p:nvPr/>
        </p:nvSpPr>
        <p:spPr>
          <a:xfrm>
            <a:off x="6837480" y="5315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7"/>
          <p:cNvGrpSpPr/>
          <p:nvPr/>
        </p:nvGrpSpPr>
        <p:grpSpPr>
          <a:xfrm>
            <a:off x="7304040" y="4143240"/>
            <a:ext cx="1905120" cy="436680"/>
            <a:chOff x="7304040" y="4143240"/>
            <a:chExt cx="1905120" cy="436680"/>
          </a:xfrm>
        </p:grpSpPr>
        <p:sp>
          <p:nvSpPr>
            <p:cNvPr id="545" name="Freeform 29"/>
            <p:cNvSpPr/>
            <p:nvPr/>
          </p:nvSpPr>
          <p:spPr>
            <a:xfrm>
              <a:off x="7405560" y="438768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0"/>
            <p:cNvSpPr/>
            <p:nvPr/>
          </p:nvSpPr>
          <p:spPr>
            <a:xfrm>
              <a:off x="7304040" y="4143240"/>
              <a:ext cx="1905120" cy="38088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7427880" y="4143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1"/>
          <p:cNvGrpSpPr/>
          <p:nvPr/>
        </p:nvGrpSpPr>
        <p:grpSpPr>
          <a:xfrm>
            <a:off x="7075440" y="2629080"/>
            <a:ext cx="1905120" cy="435960"/>
            <a:chOff x="7075440" y="2629080"/>
            <a:chExt cx="1905120" cy="435960"/>
          </a:xfrm>
        </p:grpSpPr>
        <p:sp>
          <p:nvSpPr>
            <p:cNvPr id="549" name="Freeform 33"/>
            <p:cNvSpPr/>
            <p:nvPr/>
          </p:nvSpPr>
          <p:spPr>
            <a:xfrm>
              <a:off x="7176960" y="2873160"/>
              <a:ext cx="1687680" cy="191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4"/>
            <p:cNvSpPr/>
            <p:nvPr/>
          </p:nvSpPr>
          <p:spPr>
            <a:xfrm>
              <a:off x="7075440" y="2629080"/>
              <a:ext cx="1905120" cy="380520"/>
            </a:xfrm>
            <a:prstGeom prst="rect">
              <a:avLst/>
            </a:pr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35"/>
          <p:cNvSpPr/>
          <p:nvPr/>
        </p:nvSpPr>
        <p:spPr>
          <a:xfrm>
            <a:off x="7034040" y="264780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5"/>
          <p:cNvGrpSpPr/>
          <p:nvPr/>
        </p:nvGrpSpPr>
        <p:grpSpPr>
          <a:xfrm>
            <a:off x="2065320" y="5429160"/>
            <a:ext cx="1905120" cy="436680"/>
            <a:chOff x="2065320" y="5429160"/>
            <a:chExt cx="1905120" cy="436680"/>
          </a:xfrm>
        </p:grpSpPr>
        <p:sp>
          <p:nvSpPr>
            <p:cNvPr id="553" name="Freeform 37"/>
            <p:cNvSpPr/>
            <p:nvPr/>
          </p:nvSpPr>
          <p:spPr>
            <a:xfrm>
              <a:off x="2166840" y="567360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38"/>
            <p:cNvSpPr/>
            <p:nvPr/>
          </p:nvSpPr>
          <p:spPr>
            <a:xfrm>
              <a:off x="2065320" y="5429160"/>
              <a:ext cx="1905120" cy="38088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 Box 39"/>
          <p:cNvSpPr/>
          <p:nvPr/>
        </p:nvSpPr>
        <p:spPr>
          <a:xfrm>
            <a:off x="2082960" y="5440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5"/>
          <p:cNvSpPr/>
          <p:nvPr/>
        </p:nvSpPr>
        <p:spPr>
          <a:xfrm>
            <a:off x="3222720" y="164448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Freeform 6" descr=""/>
          <p:cNvPicPr/>
          <p:nvPr/>
        </p:nvPicPr>
        <p:blipFill>
          <a:blip r:embed="rId2"/>
          <a:stretch/>
        </p:blipFill>
        <p:spPr>
          <a:xfrm>
            <a:off x="1908000" y="4400640"/>
            <a:ext cx="1713240" cy="1774800"/>
          </a:xfrm>
          <a:prstGeom prst="rect">
            <a:avLst/>
          </a:prstGeom>
          <a:ln w="0">
            <a:noFill/>
          </a:ln>
        </p:spPr>
      </p:pic>
      <p:pic>
        <p:nvPicPr>
          <p:cNvPr id="559" name="Freeform 6" descr=""/>
          <p:cNvPicPr/>
          <p:nvPr/>
        </p:nvPicPr>
        <p:blipFill>
          <a:blip r:embed="rId3"/>
          <a:stretch/>
        </p:blipFill>
        <p:spPr>
          <a:xfrm>
            <a:off x="3365640" y="3828960"/>
            <a:ext cx="1419120" cy="1528920"/>
          </a:xfrm>
          <a:prstGeom prst="rect">
            <a:avLst/>
          </a:prstGeom>
          <a:ln w="0">
            <a:noFill/>
          </a:ln>
        </p:spPr>
      </p:pic>
      <p:pic>
        <p:nvPicPr>
          <p:cNvPr id="560" name="Freeform 6" descr=""/>
          <p:cNvPicPr/>
          <p:nvPr/>
        </p:nvPicPr>
        <p:blipFill>
          <a:blip r:embed="rId4"/>
          <a:stretch/>
        </p:blipFill>
        <p:spPr>
          <a:xfrm>
            <a:off x="4645080" y="3273480"/>
            <a:ext cx="1262160" cy="1347840"/>
          </a:xfrm>
          <a:prstGeom prst="rect">
            <a:avLst/>
          </a:prstGeom>
          <a:ln w="0">
            <a:noFill/>
          </a:ln>
        </p:spPr>
      </p:pic>
      <p:pic>
        <p:nvPicPr>
          <p:cNvPr id="561" name="Freeform 6" descr=""/>
          <p:cNvPicPr/>
          <p:nvPr/>
        </p:nvPicPr>
        <p:blipFill>
          <a:blip r:embed="rId5"/>
          <a:stretch/>
        </p:blipFill>
        <p:spPr>
          <a:xfrm>
            <a:off x="5778360" y="2871720"/>
            <a:ext cx="1036800" cy="1096920"/>
          </a:xfrm>
          <a:prstGeom prst="rect">
            <a:avLst/>
          </a:prstGeom>
          <a:ln w="0">
            <a:noFill/>
          </a:ln>
        </p:spPr>
      </p:pic>
      <p:pic>
        <p:nvPicPr>
          <p:cNvPr id="562" name="Freeform 6" descr=""/>
          <p:cNvPicPr/>
          <p:nvPr/>
        </p:nvPicPr>
        <p:blipFill>
          <a:blip r:embed="rId6"/>
          <a:stretch/>
        </p:blipFill>
        <p:spPr>
          <a:xfrm>
            <a:off x="6778800" y="2494080"/>
            <a:ext cx="817560" cy="834840"/>
          </a:xfrm>
          <a:prstGeom prst="rect">
            <a:avLst/>
          </a:prstGeom>
          <a:ln w="0">
            <a:noFill/>
          </a:ln>
        </p:spPr>
      </p:pic>
      <p:pic>
        <p:nvPicPr>
          <p:cNvPr id="563" name="Group 82" descr=""/>
          <p:cNvPicPr/>
          <p:nvPr/>
        </p:nvPicPr>
        <p:blipFill>
          <a:blip r:embed="rId7"/>
          <a:stretch/>
        </p:blipFill>
        <p:spPr>
          <a:xfrm>
            <a:off x="1627200" y="1609560"/>
            <a:ext cx="2749680" cy="309096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21"/>
          <p:cNvSpPr/>
          <p:nvPr/>
        </p:nvSpPr>
        <p:spPr>
          <a:xfrm>
            <a:off x="6729480" y="4076640"/>
            <a:ext cx="2428920" cy="1857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22"/>
          <p:cNvSpPr/>
          <p:nvPr/>
        </p:nvSpPr>
        <p:spPr>
          <a:xfrm>
            <a:off x="6729480" y="4076640"/>
            <a:ext cx="2428920" cy="357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53"/>
          <p:cNvSpPr/>
          <p:nvPr/>
        </p:nvSpPr>
        <p:spPr>
          <a:xfrm>
            <a:off x="7010280" y="4729320"/>
            <a:ext cx="18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253"/>
          <p:cNvSpPr/>
          <p:nvPr/>
        </p:nvSpPr>
        <p:spPr>
          <a:xfrm>
            <a:off x="7372440" y="411804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输入您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569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"/>
          <p:cNvSpPr/>
          <p:nvPr/>
        </p:nvSpPr>
        <p:spPr>
          <a:xfrm>
            <a:off x="1873080" y="1824120"/>
            <a:ext cx="7390080" cy="3273480"/>
          </a:xfrm>
          <a:custGeom>
            <a:avLst/>
            <a:gdLst>
              <a:gd name="textAreaLeft" fmla="*/ 0 w 7390080"/>
              <a:gd name="textAreaRight" fmla="*/ 7390440 w 7390080"/>
              <a:gd name="textAreaTop" fmla="*/ 0 h 3273480"/>
              <a:gd name="textAreaBottom" fmla="*/ 3273840 h 327348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50000">
                <a:srgbClr val="170002"/>
              </a:gs>
              <a:gs pos="100000">
                <a:srgbClr val="3a000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2946240" y="2173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3852720" y="2503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4836960" y="2819520"/>
            <a:ext cx="35892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7205760" y="3476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994360" y="3201840"/>
            <a:ext cx="44280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583000" y="1500120"/>
            <a:ext cx="912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3522600" y="1514520"/>
            <a:ext cx="91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4557600" y="1519200"/>
            <a:ext cx="91296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5749920" y="1511280"/>
            <a:ext cx="9158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7004160" y="1509840"/>
            <a:ext cx="9144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512720" y="2516040"/>
            <a:ext cx="231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2062080" y="3006720"/>
            <a:ext cx="24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3005280" y="3573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4218120" y="41385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5154480" y="479268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AutoShape 19"/>
          <p:cNvCxnSpPr>
            <a:stCxn id="573" idx="3"/>
            <a:endCxn id="583" idx="0"/>
          </p:cNvCxnSpPr>
          <p:nvPr/>
        </p:nvCxnSpPr>
        <p:spPr>
          <a:xfrm rot="5400000">
            <a:off x="2760840" y="2218320"/>
            <a:ext cx="203760" cy="393120"/>
          </a:xfrm>
          <a:prstGeom prst="bentConnector3">
            <a:avLst>
              <a:gd name="adj1" fmla="val 4991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9" name="AutoShape 20"/>
          <p:cNvCxnSpPr>
            <a:stCxn id="574" idx="3"/>
            <a:endCxn id="584" idx="0"/>
          </p:cNvCxnSpPr>
          <p:nvPr/>
        </p:nvCxnSpPr>
        <p:spPr>
          <a:xfrm rot="5400000">
            <a:off x="3479040" y="2501640"/>
            <a:ext cx="313560" cy="69732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0" name="AutoShape 21"/>
          <p:cNvCxnSpPr>
            <a:stCxn id="575" idx="3"/>
            <a:endCxn id="585" idx="0"/>
          </p:cNvCxnSpPr>
          <p:nvPr/>
        </p:nvCxnSpPr>
        <p:spPr>
          <a:xfrm rot="5400000">
            <a:off x="4399920" y="2957040"/>
            <a:ext cx="44676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1" name="AutoShape 22"/>
          <p:cNvCxnSpPr>
            <a:stCxn id="577" idx="3"/>
            <a:endCxn id="586" idx="0"/>
          </p:cNvCxnSpPr>
          <p:nvPr/>
        </p:nvCxnSpPr>
        <p:spPr>
          <a:xfrm rot="5400000">
            <a:off x="5573880" y="3497760"/>
            <a:ext cx="510120" cy="7722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2" name="AutoShape 23"/>
          <p:cNvCxnSpPr>
            <a:stCxn id="576" idx="3"/>
            <a:endCxn id="587" idx="0"/>
          </p:cNvCxnSpPr>
          <p:nvPr/>
        </p:nvCxnSpPr>
        <p:spPr>
          <a:xfrm rot="5400000">
            <a:off x="6616800" y="3921840"/>
            <a:ext cx="634320" cy="1108800"/>
          </a:xfrm>
          <a:prstGeom prst="bentConnector3">
            <a:avLst>
              <a:gd name="adj1" fmla="val 49971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3" name="AutoShape 24"/>
          <p:cNvSpPr/>
          <p:nvPr/>
        </p:nvSpPr>
        <p:spPr>
          <a:xfrm>
            <a:off x="7205760" y="1868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25"/>
          <p:cNvSpPr/>
          <p:nvPr/>
        </p:nvSpPr>
        <p:spPr>
          <a:xfrm>
            <a:off x="5994360" y="1866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26"/>
          <p:cNvSpPr/>
          <p:nvPr/>
        </p:nvSpPr>
        <p:spPr>
          <a:xfrm>
            <a:off x="4836960" y="1863720"/>
            <a:ext cx="35892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7"/>
          <p:cNvSpPr/>
          <p:nvPr/>
        </p:nvSpPr>
        <p:spPr>
          <a:xfrm>
            <a:off x="3852720" y="1870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28"/>
          <p:cNvSpPr/>
          <p:nvPr/>
        </p:nvSpPr>
        <p:spPr>
          <a:xfrm>
            <a:off x="2946240" y="1871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5"/>
          <p:cNvSpPr/>
          <p:nvPr/>
        </p:nvSpPr>
        <p:spPr>
          <a:xfrm>
            <a:off x="3084480" y="547056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3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600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 rot="17973000">
            <a:off x="5871240" y="2221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4"/>
          <p:cNvSpPr/>
          <p:nvPr/>
        </p:nvSpPr>
        <p:spPr>
          <a:xfrm rot="3465600">
            <a:off x="5870880" y="438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5"/>
          <p:cNvSpPr/>
          <p:nvPr/>
        </p:nvSpPr>
        <p:spPr>
          <a:xfrm rot="14368800">
            <a:off x="4629600" y="2275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 rot="7534800">
            <a:off x="4613760" y="4352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"/>
          <p:cNvSpPr/>
          <p:nvPr/>
        </p:nvSpPr>
        <p:spPr>
          <a:xfrm>
            <a:off x="6461280" y="33498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8"/>
          <p:cNvSpPr/>
          <p:nvPr/>
        </p:nvSpPr>
        <p:spPr>
          <a:xfrm rot="10800000">
            <a:off x="4061880" y="334332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9e9e9e">
                  <a:alpha val="0"/>
                </a:srgbClr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9"/>
          <p:cNvSpPr/>
          <p:nvPr/>
        </p:nvSpPr>
        <p:spPr>
          <a:xfrm>
            <a:off x="3786120" y="3193920"/>
            <a:ext cx="3743280" cy="519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3"/>
          <p:cNvGrpSpPr/>
          <p:nvPr/>
        </p:nvGrpSpPr>
        <p:grpSpPr>
          <a:xfrm>
            <a:off x="4594320" y="2658960"/>
            <a:ext cx="2020320" cy="1636560"/>
            <a:chOff x="4594320" y="2658960"/>
            <a:chExt cx="2020320" cy="1636560"/>
          </a:xfrm>
        </p:grpSpPr>
        <p:sp>
          <p:nvSpPr>
            <p:cNvPr id="611" name="Oval 11"/>
            <p:cNvSpPr/>
            <p:nvPr/>
          </p:nvSpPr>
          <p:spPr>
            <a:xfrm>
              <a:off x="4594320" y="3225600"/>
              <a:ext cx="259920" cy="519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2"/>
            <p:cNvSpPr/>
            <p:nvPr/>
          </p:nvSpPr>
          <p:spPr>
            <a:xfrm>
              <a:off x="4735080" y="3225600"/>
              <a:ext cx="1877760" cy="519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3"/>
            <p:cNvSpPr/>
            <p:nvPr/>
          </p:nvSpPr>
          <p:spPr>
            <a:xfrm>
              <a:off x="4736880" y="3228840"/>
              <a:ext cx="1877760" cy="519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4"/>
            <p:cNvSpPr/>
            <p:nvPr/>
          </p:nvSpPr>
          <p:spPr>
            <a:xfrm>
              <a:off x="4836960" y="3225600"/>
              <a:ext cx="169020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18"/>
            <p:cNvGrpSpPr/>
            <p:nvPr/>
          </p:nvGrpSpPr>
          <p:grpSpPr>
            <a:xfrm>
              <a:off x="4866840" y="2658960"/>
              <a:ext cx="1636560" cy="1636560"/>
              <a:chOff x="4866840" y="2658960"/>
              <a:chExt cx="1636560" cy="1636560"/>
            </a:xfrm>
          </p:grpSpPr>
          <p:sp>
            <p:nvSpPr>
              <p:cNvPr id="616" name="Oval 16"/>
              <p:cNvSpPr/>
              <p:nvPr/>
            </p:nvSpPr>
            <p:spPr>
              <a:xfrm>
                <a:off x="4866840" y="26589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7"/>
              <p:cNvSpPr/>
              <p:nvPr/>
            </p:nvSpPr>
            <p:spPr>
              <a:xfrm>
                <a:off x="4887720" y="2667960"/>
                <a:ext cx="1596960" cy="15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8"/>
              <p:cNvSpPr/>
              <p:nvPr/>
            </p:nvSpPr>
            <p:spPr>
              <a:xfrm>
                <a:off x="4904640" y="2683800"/>
                <a:ext cx="1518840" cy="1488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9"/>
              <p:cNvSpPr/>
              <p:nvPr/>
            </p:nvSpPr>
            <p:spPr>
              <a:xfrm>
                <a:off x="4993560" y="2725560"/>
                <a:ext cx="1350000" cy="12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Text Box 20"/>
            <p:cNvSpPr/>
            <p:nvPr/>
          </p:nvSpPr>
          <p:spPr>
            <a:xfrm>
              <a:off x="5417280" y="3263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核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AutoShape 21"/>
          <p:cNvSpPr/>
          <p:nvPr/>
        </p:nvSpPr>
        <p:spPr>
          <a:xfrm>
            <a:off x="1407960" y="32688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2"/>
          <p:cNvSpPr/>
          <p:nvPr/>
        </p:nvSpPr>
        <p:spPr>
          <a:xfrm>
            <a:off x="2093760" y="16686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3"/>
          <p:cNvSpPr/>
          <p:nvPr/>
        </p:nvSpPr>
        <p:spPr>
          <a:xfrm>
            <a:off x="2093760" y="471636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4"/>
          <p:cNvSpPr/>
          <p:nvPr/>
        </p:nvSpPr>
        <p:spPr>
          <a:xfrm>
            <a:off x="7318440" y="32688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0002"/>
              </a:gs>
              <a:gs pos="100000">
                <a:srgbClr val="3a0004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5"/>
          <p:cNvSpPr/>
          <p:nvPr/>
        </p:nvSpPr>
        <p:spPr>
          <a:xfrm>
            <a:off x="6589800" y="16686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20b"/>
              </a:gs>
              <a:gs pos="100000">
                <a:srgbClr val="ff0517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6"/>
          <p:cNvSpPr/>
          <p:nvPr/>
        </p:nvSpPr>
        <p:spPr>
          <a:xfrm>
            <a:off x="6589800" y="471636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1b1b"/>
              </a:gs>
              <a:gs pos="100000">
                <a:srgbClr val="ff3b3b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5"/>
          <p:cNvSpPr/>
          <p:nvPr/>
        </p:nvSpPr>
        <p:spPr>
          <a:xfrm>
            <a:off x="3660840" y="556884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2" descr=""/>
          <p:cNvPicPr/>
          <p:nvPr/>
        </p:nvPicPr>
        <p:blipFill>
          <a:blip r:embed="rId2"/>
          <a:stretch/>
        </p:blipFill>
        <p:spPr>
          <a:xfrm>
            <a:off x="6264360" y="4613400"/>
            <a:ext cx="2368440" cy="134784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13" descr=""/>
          <p:cNvPicPr/>
          <p:nvPr/>
        </p:nvPicPr>
        <p:blipFill>
          <a:blip r:embed="rId3"/>
          <a:srcRect l="0" t="0" r="0" b="7543"/>
          <a:stretch/>
        </p:blipFill>
        <p:spPr>
          <a:xfrm>
            <a:off x="266760" y="1797120"/>
            <a:ext cx="5589360" cy="4195800"/>
          </a:xfrm>
          <a:prstGeom prst="rect">
            <a:avLst/>
          </a:prstGeom>
          <a:ln w="0">
            <a:noFill/>
          </a:ln>
        </p:spPr>
      </p:pic>
      <p:sp>
        <p:nvSpPr>
          <p:cNvPr id="631" name="矩形 14"/>
          <p:cNvSpPr/>
          <p:nvPr/>
        </p:nvSpPr>
        <p:spPr>
          <a:xfrm>
            <a:off x="6189840" y="1795320"/>
            <a:ext cx="436320" cy="432000"/>
          </a:xfrm>
          <a:prstGeom prst="rect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626160" y="184464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066000" y="2521080"/>
            <a:ext cx="45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7"/>
          <p:cNvSpPr/>
          <p:nvPr/>
        </p:nvSpPr>
        <p:spPr>
          <a:xfrm>
            <a:off x="6189840" y="2443320"/>
            <a:ext cx="35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6066000" y="3497400"/>
            <a:ext cx="45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19" descr=""/>
          <p:cNvPicPr/>
          <p:nvPr/>
        </p:nvPicPr>
        <p:blipFill>
          <a:blip r:embed="rId4"/>
          <a:stretch/>
        </p:blipFill>
        <p:spPr>
          <a:xfrm>
            <a:off x="8994600" y="4613400"/>
            <a:ext cx="21751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9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10"/>
          <p:cNvSpPr/>
          <p:nvPr/>
        </p:nvSpPr>
        <p:spPr>
          <a:xfrm>
            <a:off x="287280" y="22399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4"/>
          <p:cNvGrpSpPr/>
          <p:nvPr/>
        </p:nvGrpSpPr>
        <p:grpSpPr>
          <a:xfrm>
            <a:off x="1398600" y="1906560"/>
            <a:ext cx="8507520" cy="3349800"/>
            <a:chOff x="1398600" y="1906560"/>
            <a:chExt cx="8507520" cy="3349800"/>
          </a:xfrm>
        </p:grpSpPr>
        <p:sp>
          <p:nvSpPr>
            <p:cNvPr id="640" name="Text Box 13"/>
            <p:cNvSpPr/>
            <p:nvPr/>
          </p:nvSpPr>
          <p:spPr>
            <a:xfrm>
              <a:off x="8283960" y="19173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3"/>
            <p:cNvSpPr/>
            <p:nvPr/>
          </p:nvSpPr>
          <p:spPr>
            <a:xfrm>
              <a:off x="1398600" y="46720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3"/>
            <p:cNvSpPr/>
            <p:nvPr/>
          </p:nvSpPr>
          <p:spPr>
            <a:xfrm>
              <a:off x="8290080" y="46612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36"/>
            <p:cNvSpPr/>
            <p:nvPr/>
          </p:nvSpPr>
          <p:spPr>
            <a:xfrm flipV="1">
              <a:off x="2898720" y="5053680"/>
              <a:ext cx="347040" cy="180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 flipV="1">
              <a:off x="2921760" y="2293200"/>
              <a:ext cx="559800" cy="28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3"/>
            <p:cNvSpPr/>
            <p:nvPr/>
          </p:nvSpPr>
          <p:spPr>
            <a:xfrm>
              <a:off x="1398600" y="19065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36"/>
            <p:cNvSpPr/>
            <p:nvPr/>
          </p:nvSpPr>
          <p:spPr>
            <a:xfrm flipV="1">
              <a:off x="7779960" y="2279160"/>
              <a:ext cx="57564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36"/>
            <p:cNvSpPr/>
            <p:nvPr/>
          </p:nvSpPr>
          <p:spPr>
            <a:xfrm flipV="1">
              <a:off x="8036280" y="5032440"/>
              <a:ext cx="34416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Group 13"/>
            <p:cNvGrpSpPr/>
            <p:nvPr/>
          </p:nvGrpSpPr>
          <p:grpSpPr>
            <a:xfrm>
              <a:off x="3255840" y="2271600"/>
              <a:ext cx="4772160" cy="2984760"/>
              <a:chOff x="3255840" y="2271600"/>
              <a:chExt cx="4772160" cy="2984760"/>
            </a:xfrm>
          </p:grpSpPr>
          <p:grpSp>
            <p:nvGrpSpPr>
              <p:cNvPr id="649" name="Group 14"/>
              <p:cNvGrpSpPr/>
              <p:nvPr/>
            </p:nvGrpSpPr>
            <p:grpSpPr>
              <a:xfrm>
                <a:off x="3476520" y="2287440"/>
                <a:ext cx="2124000" cy="1467000"/>
                <a:chOff x="3476520" y="2287440"/>
                <a:chExt cx="2124000" cy="1467000"/>
              </a:xfrm>
            </p:grpSpPr>
            <p:sp>
              <p:nvSpPr>
                <p:cNvPr id="650" name="Freeform 18"/>
                <p:cNvSpPr/>
                <p:nvPr/>
              </p:nvSpPr>
              <p:spPr>
                <a:xfrm>
                  <a:off x="3476520" y="2479680"/>
                  <a:ext cx="2124000" cy="1274760"/>
                </a:xfrm>
                <a:custGeom>
                  <a:avLst/>
                  <a:gdLst>
                    <a:gd name="textAreaLeft" fmla="*/ 0 w 2124000"/>
                    <a:gd name="textAreaRight" fmla="*/ 2124360 w 2124000"/>
                    <a:gd name="textAreaTop" fmla="*/ 0 h 1274760"/>
                    <a:gd name="textAreaBottom" fmla="*/ 1275120 h 1274760"/>
                  </a:gdLst>
                  <a:ahLst/>
                  <a:rect l="textAreaLeft" t="textAreaTop" r="textAreaRight" b="textAreaBottom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3"/>
                        <a:pt x="0" y="123"/>
                        <a:pt x="0" y="123"/>
                      </a:cubicBezTo>
                      <a:cubicBezTo>
                        <a:pt x="0" y="280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4"/>
                        <a:pt x="665" y="284"/>
                        <a:pt x="665" y="284"/>
                      </a:cubicBezTo>
                      <a:cubicBezTo>
                        <a:pt x="665" y="127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9"/>
                <p:cNvSpPr/>
                <p:nvPr/>
              </p:nvSpPr>
              <p:spPr>
                <a:xfrm>
                  <a:off x="3476520" y="2287440"/>
                  <a:ext cx="2124000" cy="1274760"/>
                </a:xfrm>
                <a:custGeom>
                  <a:avLst/>
                  <a:gdLst>
                    <a:gd name="textAreaLeft" fmla="*/ 0 w 2124000"/>
                    <a:gd name="textAreaRight" fmla="*/ 2124360 w 2124000"/>
                    <a:gd name="textAreaTop" fmla="*/ 0 h 1274760"/>
                    <a:gd name="textAreaBottom" fmla="*/ 1275120 h 1274760"/>
                  </a:gdLst>
                  <a:ahLst/>
                  <a:rect l="textAreaLeft" t="textAreaTop" r="textAreaRight" b="textAreaBottom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279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3"/>
                        <a:pt x="665" y="283"/>
                        <a:pt x="665" y="283"/>
                      </a:cubicBezTo>
                      <a:cubicBezTo>
                        <a:pt x="665" y="126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17"/>
              <p:cNvGrpSpPr/>
              <p:nvPr/>
            </p:nvGrpSpPr>
            <p:grpSpPr>
              <a:xfrm>
                <a:off x="3255840" y="3630600"/>
                <a:ext cx="2347920" cy="1625760"/>
                <a:chOff x="3255840" y="3630600"/>
                <a:chExt cx="2347920" cy="1625760"/>
              </a:xfrm>
            </p:grpSpPr>
            <p:sp>
              <p:nvSpPr>
                <p:cNvPr id="653" name="Freeform 21"/>
                <p:cNvSpPr/>
                <p:nvPr/>
              </p:nvSpPr>
              <p:spPr>
                <a:xfrm>
                  <a:off x="3255840" y="3844800"/>
                  <a:ext cx="2347920" cy="1411560"/>
                </a:xfrm>
                <a:custGeom>
                  <a:avLst/>
                  <a:gdLst>
                    <a:gd name="textAreaLeft" fmla="*/ 0 w 2347920"/>
                    <a:gd name="textAreaRight" fmla="*/ 2348280 w 2347920"/>
                    <a:gd name="textAreaTop" fmla="*/ 0 h 1411560"/>
                    <a:gd name="textAreaBottom" fmla="*/ 1411560 h 1411560"/>
                  </a:gdLst>
                  <a:ahLst/>
                  <a:rect l="textAreaLeft" t="textAreaTop" r="textAreaRight" b="textAreaBottom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6"/>
                        <a:pt x="735" y="136"/>
                        <a:pt x="735" y="136"/>
                      </a:cubicBezTo>
                      <a:cubicBezTo>
                        <a:pt x="735" y="309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22"/>
                <p:cNvSpPr/>
                <p:nvPr/>
              </p:nvSpPr>
              <p:spPr>
                <a:xfrm>
                  <a:off x="3255840" y="3630600"/>
                  <a:ext cx="2347920" cy="1411200"/>
                </a:xfrm>
                <a:custGeom>
                  <a:avLst/>
                  <a:gdLst>
                    <a:gd name="textAreaLeft" fmla="*/ 0 w 2347920"/>
                    <a:gd name="textAreaRight" fmla="*/ 2348280 w 2347920"/>
                    <a:gd name="textAreaTop" fmla="*/ 0 h 1411200"/>
                    <a:gd name="textAreaBottom" fmla="*/ 1411200 h 1411200"/>
                  </a:gdLst>
                  <a:ahLst/>
                  <a:rect l="textAreaLeft" t="textAreaTop" r="textAreaRight" b="textAreaBottom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5"/>
                        <a:pt x="735" y="135"/>
                        <a:pt x="735" y="135"/>
                      </a:cubicBezTo>
                      <a:cubicBezTo>
                        <a:pt x="735" y="308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0"/>
              <p:cNvGrpSpPr/>
              <p:nvPr/>
            </p:nvGrpSpPr>
            <p:grpSpPr>
              <a:xfrm>
                <a:off x="5683320" y="2271600"/>
                <a:ext cx="2124000" cy="1470240"/>
                <a:chOff x="5683320" y="2271600"/>
                <a:chExt cx="2124000" cy="1470240"/>
              </a:xfrm>
            </p:grpSpPr>
            <p:sp>
              <p:nvSpPr>
                <p:cNvPr id="656" name="Freeform 24"/>
                <p:cNvSpPr/>
                <p:nvPr/>
              </p:nvSpPr>
              <p:spPr>
                <a:xfrm>
                  <a:off x="5683320" y="2463480"/>
                  <a:ext cx="2124000" cy="1278360"/>
                </a:xfrm>
                <a:custGeom>
                  <a:avLst/>
                  <a:gdLst>
                    <a:gd name="textAreaLeft" fmla="*/ 0 w 2124000"/>
                    <a:gd name="textAreaRight" fmla="*/ 2124360 w 2124000"/>
                    <a:gd name="textAreaTop" fmla="*/ 0 h 1278360"/>
                    <a:gd name="textAreaBottom" fmla="*/ 1278360 h 1278360"/>
                  </a:gdLst>
                  <a:ahLst/>
                  <a:rect l="textAreaLeft" t="textAreaTop" r="textAreaRight" b="textAreaBottom"/>
                  <a:pathLst>
                    <a:path w="665" h="407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3"/>
                        <a:pt x="665" y="123"/>
                        <a:pt x="665" y="123"/>
                      </a:cubicBezTo>
                      <a:cubicBezTo>
                        <a:pt x="665" y="280"/>
                        <a:pt x="538" y="407"/>
                        <a:pt x="381" y="407"/>
                      </a:cubicBezTo>
                      <a:cubicBezTo>
                        <a:pt x="0" y="407"/>
                        <a:pt x="0" y="407"/>
                        <a:pt x="0" y="407"/>
                      </a:cubicBezTo>
                      <a:cubicBezTo>
                        <a:pt x="0" y="284"/>
                        <a:pt x="0" y="284"/>
                        <a:pt x="0" y="284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25"/>
                <p:cNvSpPr/>
                <p:nvPr/>
              </p:nvSpPr>
              <p:spPr>
                <a:xfrm>
                  <a:off x="5683320" y="2271600"/>
                  <a:ext cx="2124000" cy="1275120"/>
                </a:xfrm>
                <a:custGeom>
                  <a:avLst/>
                  <a:gdLst>
                    <a:gd name="textAreaLeft" fmla="*/ 0 w 2124000"/>
                    <a:gd name="textAreaRight" fmla="*/ 2124360 w 2124000"/>
                    <a:gd name="textAreaTop" fmla="*/ 0 h 1275120"/>
                    <a:gd name="textAreaBottom" fmla="*/ 1275480 h 1275120"/>
                  </a:gdLst>
                  <a:ahLst/>
                  <a:rect l="textAreaLeft" t="textAreaTop" r="textAreaRight" b="textAreaBottom"/>
                  <a:pathLst>
                    <a:path w="665" h="406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2"/>
                        <a:pt x="665" y="122"/>
                        <a:pt x="665" y="122"/>
                      </a:cubicBezTo>
                      <a:cubicBezTo>
                        <a:pt x="665" y="279"/>
                        <a:pt x="538" y="406"/>
                        <a:pt x="381" y="406"/>
                      </a:cubicBezTo>
                      <a:cubicBezTo>
                        <a:pt x="0" y="406"/>
                        <a:pt x="0" y="406"/>
                        <a:pt x="0" y="406"/>
                      </a:cubicBezTo>
                      <a:cubicBezTo>
                        <a:pt x="0" y="283"/>
                        <a:pt x="0" y="283"/>
                        <a:pt x="0" y="283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23"/>
              <p:cNvGrpSpPr/>
              <p:nvPr/>
            </p:nvGrpSpPr>
            <p:grpSpPr>
              <a:xfrm>
                <a:off x="5680080" y="3616200"/>
                <a:ext cx="2347920" cy="1623960"/>
                <a:chOff x="5680080" y="3616200"/>
                <a:chExt cx="2347920" cy="1623960"/>
              </a:xfrm>
            </p:grpSpPr>
            <p:sp>
              <p:nvSpPr>
                <p:cNvPr id="659" name="Freeform 27"/>
                <p:cNvSpPr/>
                <p:nvPr/>
              </p:nvSpPr>
              <p:spPr>
                <a:xfrm>
                  <a:off x="5680080" y="3828960"/>
                  <a:ext cx="2347920" cy="1411200"/>
                </a:xfrm>
                <a:custGeom>
                  <a:avLst/>
                  <a:gdLst>
                    <a:gd name="textAreaLeft" fmla="*/ 0 w 2347920"/>
                    <a:gd name="textAreaRight" fmla="*/ 2348280 w 2347920"/>
                    <a:gd name="textAreaTop" fmla="*/ 0 h 1411200"/>
                    <a:gd name="textAreaBottom" fmla="*/ 1411200 h 1411200"/>
                  </a:gdLst>
                  <a:ahLst/>
                  <a:rect l="textAreaLeft" t="textAreaTop" r="textAreaRight" b="textAreaBottom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6"/>
                        <a:pt x="0" y="136"/>
                        <a:pt x="0" y="136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28"/>
                <p:cNvSpPr/>
                <p:nvPr/>
              </p:nvSpPr>
              <p:spPr>
                <a:xfrm>
                  <a:off x="5680080" y="3616200"/>
                  <a:ext cx="2347920" cy="1409760"/>
                </a:xfrm>
                <a:custGeom>
                  <a:avLst/>
                  <a:gdLst>
                    <a:gd name="textAreaLeft" fmla="*/ 0 w 2347920"/>
                    <a:gd name="textAreaRight" fmla="*/ 2348280 w 2347920"/>
                    <a:gd name="textAreaTop" fmla="*/ 0 h 1409760"/>
                    <a:gd name="textAreaBottom" fmla="*/ 1410120 h 1409760"/>
                  </a:gdLst>
                  <a:ahLst/>
                  <a:rect l="textAreaLeft" t="textAreaTop" r="textAreaRight" b="textAreaBottom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1" name="文本框 41"/>
          <p:cNvSpPr/>
          <p:nvPr/>
        </p:nvSpPr>
        <p:spPr>
          <a:xfrm>
            <a:off x="8391600" y="21636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42"/>
          <p:cNvSpPr/>
          <p:nvPr/>
        </p:nvSpPr>
        <p:spPr>
          <a:xfrm>
            <a:off x="271440" y="497376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43"/>
          <p:cNvSpPr/>
          <p:nvPr/>
        </p:nvSpPr>
        <p:spPr>
          <a:xfrm>
            <a:off x="8429760" y="491796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3"/>
          <p:cNvGrpSpPr/>
          <p:nvPr/>
        </p:nvGrpSpPr>
        <p:grpSpPr>
          <a:xfrm>
            <a:off x="747720" y="1679400"/>
            <a:ext cx="3986280" cy="4194360"/>
            <a:chOff x="747720" y="1679400"/>
            <a:chExt cx="3986280" cy="4194360"/>
          </a:xfrm>
        </p:grpSpPr>
        <p:sp>
          <p:nvSpPr>
            <p:cNvPr id="666" name="Line 16"/>
            <p:cNvSpPr/>
            <p:nvPr/>
          </p:nvSpPr>
          <p:spPr>
            <a:xfrm>
              <a:off x="747720" y="3778200"/>
              <a:ext cx="3986280" cy="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2741760" y="1679400"/>
              <a:ext cx="0" cy="419436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1143000" y="2155680"/>
              <a:ext cx="3192480" cy="32180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5"/>
            <p:cNvSpPr/>
            <p:nvPr/>
          </p:nvSpPr>
          <p:spPr>
            <a:xfrm>
              <a:off x="946080" y="1947600"/>
              <a:ext cx="3608640" cy="364536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标题" descr=""/>
          <p:cNvPicPr/>
          <p:nvPr/>
        </p:nvPicPr>
        <p:blipFill>
          <a:blip r:embed="rId2"/>
          <a:stretch/>
        </p:blipFill>
        <p:spPr>
          <a:xfrm>
            <a:off x="1378080" y="2414520"/>
            <a:ext cx="2706480" cy="2760840"/>
          </a:xfrm>
          <a:prstGeom prst="rect">
            <a:avLst/>
          </a:prstGeom>
          <a:ln w="0">
            <a:noFill/>
          </a:ln>
        </p:spPr>
      </p:pic>
      <p:sp>
        <p:nvSpPr>
          <p:cNvPr id="671" name="文本5"/>
          <p:cNvSpPr/>
          <p:nvPr/>
        </p:nvSpPr>
        <p:spPr>
          <a:xfrm>
            <a:off x="3848040" y="522504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4"/>
          <p:cNvSpPr/>
          <p:nvPr/>
        </p:nvSpPr>
        <p:spPr>
          <a:xfrm>
            <a:off x="4562640" y="450900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3"/>
          <p:cNvSpPr/>
          <p:nvPr/>
        </p:nvSpPr>
        <p:spPr>
          <a:xfrm>
            <a:off x="4834080" y="360504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2"/>
          <p:cNvSpPr/>
          <p:nvPr/>
        </p:nvSpPr>
        <p:spPr>
          <a:xfrm>
            <a:off x="4567320" y="272628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1"/>
          <p:cNvSpPr/>
          <p:nvPr/>
        </p:nvSpPr>
        <p:spPr>
          <a:xfrm>
            <a:off x="3795840" y="194616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圆圈1" descr=""/>
          <p:cNvPicPr/>
          <p:nvPr/>
        </p:nvPicPr>
        <p:blipFill>
          <a:blip r:embed="rId3"/>
          <a:stretch/>
        </p:blipFill>
        <p:spPr>
          <a:xfrm>
            <a:off x="3376440" y="192564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677" name="圆圈2" descr=""/>
          <p:cNvPicPr/>
          <p:nvPr/>
        </p:nvPicPr>
        <p:blipFill>
          <a:blip r:embed="rId4"/>
          <a:stretch/>
        </p:blipFill>
        <p:spPr>
          <a:xfrm>
            <a:off x="4170240" y="271296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678" name="圆圈3" descr=""/>
          <p:cNvPicPr/>
          <p:nvPr/>
        </p:nvPicPr>
        <p:blipFill>
          <a:blip r:embed="rId5"/>
          <a:stretch/>
        </p:blipFill>
        <p:spPr>
          <a:xfrm>
            <a:off x="4432320" y="3578400"/>
            <a:ext cx="425520" cy="420480"/>
          </a:xfrm>
          <a:prstGeom prst="rect">
            <a:avLst/>
          </a:prstGeom>
          <a:ln w="0">
            <a:noFill/>
          </a:ln>
        </p:spPr>
      </p:pic>
      <p:pic>
        <p:nvPicPr>
          <p:cNvPr id="679" name="圆圈4" descr=""/>
          <p:cNvPicPr/>
          <p:nvPr/>
        </p:nvPicPr>
        <p:blipFill>
          <a:blip r:embed="rId6"/>
          <a:stretch/>
        </p:blipFill>
        <p:spPr>
          <a:xfrm>
            <a:off x="4164120" y="44928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680" name="圆圈5" descr=""/>
          <p:cNvPicPr/>
          <p:nvPr/>
        </p:nvPicPr>
        <p:blipFill>
          <a:blip r:embed="rId7"/>
          <a:stretch/>
        </p:blipFill>
        <p:spPr>
          <a:xfrm>
            <a:off x="3462480" y="5187960"/>
            <a:ext cx="420480" cy="426960"/>
          </a:xfrm>
          <a:prstGeom prst="rect">
            <a:avLst/>
          </a:prstGeom>
          <a:ln w="0">
            <a:noFill/>
          </a:ln>
        </p:spPr>
      </p:pic>
      <p:sp>
        <p:nvSpPr>
          <p:cNvPr id="681" name="文本框 74"/>
          <p:cNvSpPr/>
          <p:nvPr/>
        </p:nvSpPr>
        <p:spPr>
          <a:xfrm>
            <a:off x="8024760" y="29923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75"/>
          <p:cNvSpPr/>
          <p:nvPr/>
        </p:nvSpPr>
        <p:spPr>
          <a:xfrm>
            <a:off x="8012160" y="392112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"/>
          <p:cNvSpPr/>
          <p:nvPr/>
        </p:nvSpPr>
        <p:spPr>
          <a:xfrm>
            <a:off x="8020080" y="261792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图表 34" descr=""/>
          <p:cNvPicPr/>
          <p:nvPr/>
        </p:nvPicPr>
        <p:blipFill>
          <a:blip r:embed="rId2"/>
          <a:stretch/>
        </p:blipFill>
        <p:spPr>
          <a:xfrm>
            <a:off x="1028880" y="2119320"/>
            <a:ext cx="6217920" cy="3589200"/>
          </a:xfrm>
          <a:prstGeom prst="rect">
            <a:avLst/>
          </a:prstGeom>
          <a:ln w="0">
            <a:noFill/>
          </a:ln>
        </p:spPr>
      </p:pic>
      <p:sp>
        <p:nvSpPr>
          <p:cNvPr id="686" name="文本框 35"/>
          <p:cNvSpPr/>
          <p:nvPr/>
        </p:nvSpPr>
        <p:spPr>
          <a:xfrm>
            <a:off x="64620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36"/>
          <p:cNvSpPr/>
          <p:nvPr/>
        </p:nvSpPr>
        <p:spPr>
          <a:xfrm>
            <a:off x="230184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7"/>
          <p:cNvSpPr/>
          <p:nvPr/>
        </p:nvSpPr>
        <p:spPr>
          <a:xfrm>
            <a:off x="3959280" y="570384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38"/>
          <p:cNvSpPr/>
          <p:nvPr/>
        </p:nvSpPr>
        <p:spPr>
          <a:xfrm>
            <a:off x="561492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39"/>
          <p:cNvSpPr/>
          <p:nvPr/>
        </p:nvSpPr>
        <p:spPr>
          <a:xfrm>
            <a:off x="7819920" y="4129200"/>
            <a:ext cx="505080" cy="465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0"/>
          <p:cNvSpPr/>
          <p:nvPr/>
        </p:nvSpPr>
        <p:spPr>
          <a:xfrm>
            <a:off x="8296200" y="4556160"/>
            <a:ext cx="2432160" cy="1444680"/>
          </a:xfrm>
          <a:prstGeom prst="rect">
            <a:avLst/>
          </a:prstGeom>
          <a:solidFill>
            <a:srgbClr val="2b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41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862760" y="4175280"/>
            <a:ext cx="435240" cy="350640"/>
          </a:xfrm>
          <a:prstGeom prst="rect">
            <a:avLst/>
          </a:prstGeom>
          <a:ln w="0">
            <a:noFill/>
          </a:ln>
        </p:spPr>
      </p:pic>
      <p:sp>
        <p:nvSpPr>
          <p:cNvPr id="693" name="文本框 42"/>
          <p:cNvSpPr/>
          <p:nvPr/>
        </p:nvSpPr>
        <p:spPr>
          <a:xfrm>
            <a:off x="8325000" y="4587840"/>
            <a:ext cx="32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43"/>
          <p:cNvSpPr/>
          <p:nvPr/>
        </p:nvSpPr>
        <p:spPr>
          <a:xfrm>
            <a:off x="8325000" y="49086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76"/>
          <p:cNvSpPr/>
          <p:nvPr/>
        </p:nvSpPr>
        <p:spPr>
          <a:xfrm>
            <a:off x="8325000" y="52578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77"/>
          <p:cNvSpPr/>
          <p:nvPr/>
        </p:nvSpPr>
        <p:spPr>
          <a:xfrm>
            <a:off x="8325000" y="557388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03:33:03Z</dcterms:created>
  <dc:creator>冯注龙</dc:creator>
  <dc:description/>
  <cp:keywords/>
  <dc:language>en-US</dc:language>
  <cp:lastModifiedBy>Administrator</cp:lastModifiedBy>
  <dcterms:modified xsi:type="dcterms:W3CDTF">2016-12-01T02:46:54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