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jpeg" ContentType="image/jpeg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76C-E224-4E95-BAB0-6DC0CBD1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7AA-A66A-4C01-B46A-D7562BB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B70-7D19-483E-9EF7-70391685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0FC-4060-463F-9FEC-EA1FCE28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BF5-5850-4EC0-BD49-AAFE58D3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4770-3402-4FDC-B963-A435E0E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1D5-D86E-4EAA-83BC-B2F9989D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36C-5F88-4156-B458-1C43192F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83B-FADD-4948-A8CF-90F881B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736-85FE-4A84-98F3-2B338475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E1F-5CB1-46F3-8A6F-9C64BBF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9FA-B1BD-4067-9E99-E0BAB7D2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F0A-5E6B-4E54-B027-990D5A8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02C-A958-43C4-9DB9-5C6F9E4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3CCE-77DD-4BB9-8CD3-44293D11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903F-A272-408C-9DFA-1C5AE36A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8E8C-3096-47E5-A4F4-6DF3391D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B9A-D5FA-4A06-976B-0C2BC5F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A15-ABCC-4DF0-A399-ECC4F88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3E7-20E8-4F80-9C50-E6BCE85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FA5-0136-4612-A5AC-1A7BFA3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DCA-7D28-4C54-9E0F-8F955F3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102-AA8A-4166-9CEB-9E36131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0D7-C69A-4262-B1BA-605C094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031-9583-4109-9D16-D39469F0A8F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1C65-02D5-47AE-B698-86C28412C65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g.com.cn/news/news_list_s.php?keyword=&#23478;&#23621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2971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住宅风水图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45000" cy="533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3492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553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683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622440"/>
            <a:ext cx="62481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457200"/>
            <a:ext cx="6070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6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9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09680" y="251460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住宅风水图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629400" cy="62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453960"/>
            <a:ext cx="678204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5508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544680"/>
            <a:ext cx="701028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635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3244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62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546120"/>
            <a:ext cx="6553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2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0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8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8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2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408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819520" y="1828800"/>
            <a:ext cx="2485800" cy="3314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1371600"/>
            <a:ext cx="2657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889000" cy="4952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838080"/>
            <a:ext cx="2516040" cy="437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576840" y="762120"/>
            <a:ext cx="2567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43000" cy="522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2728800" cy="446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5653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73920" y="1143000"/>
            <a:ext cx="21700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2981160" cy="4809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57600" y="1219320"/>
            <a:ext cx="2682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6934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室内风水：人对房屋的直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501336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吉：人在宅中，感到心情愉悦、安静、平静、放松、自在、没有压抑感和紧张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凶：不舒服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寒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热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枯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3927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寒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冷，略带不正常，如寒气、寒光、寒颤等。给人寒冷感觉的环境，不宜人居，更不宜久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客厅太大，产生一种冷冷清清的气氛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女人的卧室，冷色调用得太多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卧室地板用白色大理石，令人有一种空虚和不实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铁床和金属家具用得过多，室内显得过于冷硬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房屋内不可有三角形和尖刺状的装饰物，因为这种冷、寒、硬的摆设会产生冷酷和散气的感觉，为堪舆风水大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热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温度过高，天热、酷热、烦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住宅过于狭小、深长，给人单调、无依、拥挤得感觉，即烦热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房子小、人口多，会有拥挤、燥热的感觉，因此房屋大小与居住的人口，比例要适宜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室内的家俱和摆设，不能超过总空间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％，否则会让人有压抑、心烦气燥的感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枯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没水分，如枯竭、枯萎、枯井等，表示乏味和死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暗色用太多。住宅色彩，原则上浅色为主，中色为辅，再适当配合深色家俱为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一个房间不宜开两个门；或者将临街的窗户开得过大，在这种房间久坐会使人心神分散，并感到乏味和恐怖，尤其是高层公寓，常居会令人感到茫然和危险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寂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静，没有声音，如寂静、寂寥、寂寞等，表示清静和孤独，含有一定的不正常因素。但视情况而定，比如山郊和村野的寺院道观就允许带一些寂，而公司、商号、店铺、工厂，寂就意味着萧条、不景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宅大人少，房间太多而人口太少，产生冷清、肃杀气氛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总之，根据实际需要，该寒要寒，该热要热。比如麦当劳、肯塔基的装修不宜用冷色，但冷饮店、室内溜冰场用冷色营造凉爽、冬季的氛围是合适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2017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客厅风水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风水乃阳宅风水的核心，关系一个家庭整体宅运的吉凶、事业升迁的顺逆、运数的高低、家人财运的好坏、夫妻缘份的深浅、子女读书、考试的运势、健康状况是否正常等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00360" y="549360"/>
            <a:ext cx="61196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方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最好位于住家的前半部靠近大门的位置，以便直接吸纳从大门进入的气。如果必须经过一条走廊才能到达客厅，那么走廊一定要保持整洁，而且照明一定要充足，以免阻碍气进入客厅。如果是夹层屋设计，客厅应位于下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5450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格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的格局最好是正方形或长方形，座椅区不可冲煞到屋角，沙发不可压梁。如果有突出的屋角放出暗箭，可摆设盆景或家俱化解。如果客厅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形，可用家俱将之隔成两个方形区域，视为两个独立的房间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63640" y="3024360"/>
            <a:ext cx="525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调整家饰尖锐的物品，例如刀剑、火器、奖牌、动物标本，都不应该挂在墙上。因为这些物品都会产生阴气，导致争吵或暴力行为。同样的也应避免摆设有棱角的台灯或装饰品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50920" y="3500280"/>
            <a:ext cx="5040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梁柱风水的化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中若有梁柱出现，无论在家居设计方面或者风水方面均是需要解决的难题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直者为柱，横者为梁，梁柱均是来托户屋的重量，因此均不可或缺，差别只在是否出现显眼的位置而已。倘若出现在显眼地方，会对客厅的风水造成妨碍，便需要设法遮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客厅的柱主要分为两种，一种是与墙相连的柱，称为墙柱，而另一种是孤立的柱。均与建筑设计有关，有目前的建筑设计中，柱网已成为一个很受关注的问题，所以独立柱已经较少见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因为墙柱较易处理，但独立柱稍为处理失当，客厅便会黯然失色，风水亦大打折扣。一般来说，柱愈大便愈难处理，所以在选择居所时，便要看清楚屋内是否独立柱大而多，倘若有这种情况出现，便应割爱而另择佳处置业为宜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865080"/>
            <a:ext cx="662940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柱上有梁，因此坐近柱边，往往会受横梁压顶，所以应尽量避免。有人喜欢在两柱之间摆放沙发，以为这是善用空间，其实是错误的，原因就是横梁压顶，犹如受人胯下之辱，发展及活力受压制，乃风水大忌。而如果是以柜来摆放在两柱之间，虽有横梁压顶，但压的是柜而并不是人，因此并无大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连墙的墙柱通常用书柜，洒柜，陈列柜等便可将它遮掩得天衣无缝，与客厅的其它部分浑然一体。独立柱则难以处理得多，因为有独立柱存在，令人视野受阻，而活动空间又遇到障碍，必须巧妙布局，才可化腐朽为神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如果独立柱柜距壁不远，可采用以木板或矮柜把柱与墙壁连成一体。柱壁板可以挂画或花草来作装饰，而矮柜则可令视野通透，增加景深，没有沉闷闭塞之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倘若不用矮柜，选用高柜亦可，但视野当然会打折扣，此外，若用高身木板来间墙，则墙上宜加装饰照明，以免太过单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独立柱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距离壁太远，不能以柜或板把它与墙壁相连，则必须以其作为中心来置，以下是两个既美观而又符合风水之道的解决方案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柱位作分隔线；因为客厅中的独立柱很显眼，因此可以把它当成分界线，一边铺地毯，而一边则铺石材。此外亦可做成台阶，一边高一边低。这样看起来，仿佛原先的设计便是以独立柱作为高低级的分界线，观感便会自然得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花槽绕柱；阔大的客厅中，可在独立柱的四边围上薄薄的木槽，槽里可放些易于生长的室内植物。为了节省空间，独立柱的下半部不宜设花槽，花槽应在柱的中部开始，则既美观而又不累，并且达到了客厅立体绿化的效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因为柱位遮挡了部分阳光，故此在柱壁上应该装置灯光来作辅助照明，则既可解决客厅中光线不匀的弊疾，又可增加美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2962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色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19700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家中颜色的最佳选择为乳白色，象牙色，白色，这三种颜色与人的视觉神经最适合，因为太阳光是白色系列，代表着光明，更代表着希望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装饰全部用</a:t>
            </a:r>
            <a:r>
              <a:rPr b="0" lang="zh-CN" sz="2000" spc="-1" strike="noStrike">
                <a:solidFill>
                  <a:srgbClr val="c0c0c0"/>
                </a:solidFill>
                <a:latin typeface="Arial"/>
              </a:rPr>
              <a:t>深蓝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时间久了，家中会显得阴气沉沉，人也会变得低沉消极，家庭成员的身体也会受到伤害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多用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橘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虽然是充满生气，也很有温暖的感觉。但是过多的橘色，也会使人产生厌烦的感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油漆</a:t>
            </a:r>
            <a:r>
              <a:rPr b="0" lang="zh-CN" sz="2000" spc="-1" strike="noStrike">
                <a:solidFill>
                  <a:srgbClr val="9933ff"/>
                </a:solidFill>
                <a:latin typeface="Arial"/>
              </a:rPr>
              <a:t>紫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多者，虽然经常说紫气是富贵、高雅的象征，但紫色中所含有的红色系列，无形中会发出刺眼的色泽，易使居家的人有一种受伤害的感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漆</a:t>
            </a:r>
            <a:r>
              <a:rPr b="0" lang="zh-CN" sz="2000" spc="-1" strike="noStrike">
                <a:solidFill>
                  <a:srgbClr val="ff9999"/>
                </a:solidFill>
                <a:latin typeface="Arial"/>
              </a:rPr>
              <a:t>粉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者，视为凶兆。粉红色易使人心情暴躁，易发生口角、是非，且红色从心理学角度看对人的精神健康不利。需要注意的是，一般新婚夫妇为了调节气氛，营造浪漫氛围，经常将家具漆成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。但却不知道红色容易使人产生莫名其妙的心火，经常会为芝麻绿豆大的小事争吵不休，甚至一度恶化到走上离婚的不归路，目前社会上离婚率这么惊人，与家庭装饰中颜色的使用有着很大关系。所以，在居家装饰中最好不用此色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家中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较多，会使家人意志日渐消沉。并非经常所说的，眼睛应多接触绿色，这种绿色是指大自然的自然色，并非人为的调配色彩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木材原色是最佳的色调，其返璞归真的特点使人易生灵感与智慧，尤其是书房部分，尽量选择原木色。总之，各种色调要搭配得当，以恰到好处为原则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生理学家们早有研究，房间的色彩能直接影响到人体的生理功能。最直接的影响莫过于视力，据研究，在各种颜色中以</a:t>
            </a:r>
            <a:r>
              <a:rPr b="0" lang="zh-CN" sz="2000" spc="-1" strike="noStrike">
                <a:solidFill>
                  <a:srgbClr val="00ccff"/>
                </a:solidFill>
                <a:latin typeface="Arial"/>
              </a:rPr>
              <a:t>青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对眼睛最有益，房间的颜色对食欲也有很大影响，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橙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可以刺激胃口增进人的食欲，房间的颜色也会影响人的睡眠，一般说来，紫色有利于人们镇静、安定，能使人尽快地进入梦乡。有的人将卧室漆得五颜六色 非常鲜艳，这些色调会使人神经兴奋对卧室来说不适宜的，而厨房、卫生问则可用灰色，使环境的光线更加柔和。书房可采用</a:t>
            </a:r>
            <a:r>
              <a:rPr b="0" lang="zh-CN" sz="2000" spc="-1" strike="noStrike">
                <a:solidFill>
                  <a:srgbClr val="66ff33"/>
                </a:solidFill>
                <a:latin typeface="Arial"/>
              </a:rPr>
              <a:t>浅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会给人以宁静舒适的感觉，而客厅、餐厅则要采用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浅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ffcc66"/>
                </a:solidFill>
                <a:latin typeface="Arial"/>
              </a:rPr>
              <a:t>粉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可增添柔和、欢乐的气氛，聚集人气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楼梯风水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904760"/>
            <a:ext cx="4956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楼梯是人经常走动的地方，带有很强的气场，楼梯的形状带有煞气，若楼梯口对冲大门、房门、厨房门、卫生间门，则会影响门气，从而影响家运，对人产生不利，因此，家居风水中的楼梯风水布置也很重要。</a:t>
            </a:r>
            <a:br>
              <a:rPr sz="28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3038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口不宜对冲大门、房门、厨房门、卫生间门。楼梯口有煞气，不宜冲大门、房门、厨房门、卫生间门，否则受其煞气影响，会导致多病及破财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有煞气，忌在房内设楼梯，否则不利妇人和小孩，会导致妇人难孕难产，小孩体弱多病，大人若住于有楼梯的房，也会多病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忌楼梯压于床上，否则不利人丁。楼梯若压于床头，会多病及血光之灾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忌楼梯冲卧房、冲睡床。楼梯煞气会对人的健康造成很大的影响，严重者会有流产、堕胎或血光之灾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转台不宜设在宅内中心，否则会影响居住者的运气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大门忌对向上的楼梯，犯之主伤病、不利健康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大门忌对向下的楼梯，犯之主退财、破财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传统的建筑型制里，譬如干阑式建筑、吊脚楼等，楼梯是比较重要的组成部分，有承上启下的作用。现代的住宅多是平面的结构，楼梯经常只是作为一种公共的设施，所以不少人对它的作用并不重视，但是随着复式、跃式、别墅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TownHous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等结构住宅的流行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家居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多个层面的空间分隔就要靠楼梯来衔接。这时候，楼梯就被纳入住宅的内部空间，它的方位、形状从此就对住宅的内部布局产生了强烈的影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6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8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4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1:45Z</dcterms:created>
  <dc:creator>Eric</dc:creator>
  <dc:description/>
  <dc:language>en-US</dc:language>
  <cp:lastModifiedBy>Eric</cp:lastModifiedBy>
  <dcterms:modified xsi:type="dcterms:W3CDTF">2010-11-15T09:24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