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4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6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5813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添加爱的祝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6058080"/>
            <a:ext cx="2556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叶根友非主流手写"/>
                <a:ea typeface="叶根友非主流手写"/>
              </a:rPr>
              <a:t>www.qq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8690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  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Sudestada"/>
                <a:ea typeface="叶根友风帆简体"/>
              </a:rPr>
              <a:t>www.qq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48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微软用户</cp:lastModifiedBy>
  <cp:lastPrinted>1899-12-30T00:00:00Z</cp:lastPrinted>
  <dcterms:modified xsi:type="dcterms:W3CDTF">2011-12-06T08:57:18Z</dcterms:modified>
  <cp:revision>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