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6CC5-D21D-4DCB-9F68-F365515472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7EC0-E6E3-43B7-ACBB-145CE38306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8159-0456-42B1-9ADF-BE38D3057D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BB32E-BD82-4D26-95AE-C76CBEB2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111F46-CDFE-4EF7-B085-174B15E5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FC6CB4-5B51-4B81-8C92-AC0A2240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9B1739-470E-4019-A557-A06E6784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1E0677-203E-46CB-9C5D-574BC2D2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5F5FA1-A77F-4B7A-994C-BB7F2888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C1E4A-BCD7-4CCF-945A-D21FA589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8AD72A-FA14-4B7E-9C50-352211DF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5B0DB9-BBC0-48B8-9E50-11075C0D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AEAC57-1351-45DB-B7FC-225695DF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8B7511-3803-453C-8D7D-F1C30E29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B034-AAC5-40DE-B9E3-D51CDF11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C51E8D-6CBA-47C6-9F6D-454BD444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98369C-6267-400A-8EBF-87B6CC72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4036EA-78B3-43FA-BEA0-AA2106CC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99748A-3DAD-446E-90BE-C1CA3175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965A0E-99F0-4780-A380-713770F8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808314-3855-49C0-A4BE-31E292C3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D50094-6576-4C59-9F58-5418C2B6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9A4402-B9F6-461E-A0A1-93EC93D7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B6C25F-1A4F-47E5-83E8-33C8A626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8D4CA4-D16A-4608-974D-E622D2AA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B051-51AC-452A-901F-705B997D1C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F462AD-0E05-4E49-9D9D-238FDD81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564706-80F9-426D-B504-B35BD513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384AF9-416F-4F82-A05B-4F46E099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67B1A9-722D-436B-95CB-B4D4BF29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BD5551-FF53-4D81-BCC8-EB9E6CF2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D7F62C-DDFF-4617-B8BA-7CB5E808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2FB563-BA09-4F25-AAA2-02137B91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277866-96AB-4319-9DBB-CAC66833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57A5B9-5B67-4D17-B469-931EDD5D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F98776-3AB6-4175-A1AF-BC2E3095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166A5-5106-4B8C-8CCC-99220590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A95847-450E-42F7-A4FB-10F7725A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DC1E56-AB83-44A1-81C4-5A8D713C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F43C38-802B-48A1-B7E0-8D9BE80A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D031E-F82D-4FE7-8131-170AE123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F034C-DE74-4004-AF61-D6E095C8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D2390-0A0C-4AC1-9D52-72F7A162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FD2B9-DDE8-4FE5-9264-37A55E95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FCC70-E84B-44BD-B67C-A2252E9A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A5442-0708-4CF5-8045-C19FFEA5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46BC0-1CC4-4765-936C-82FADF00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68802-2968-4492-931D-51B56CE5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67190-5AED-4753-B654-3FEF01BC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CA1DD-B3B7-461D-8CD8-EA47B8AC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8884A-3F4A-498A-97C2-E16A651E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D9847-0D1F-419D-9373-61D0ABD4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C1538-32DE-4DB4-A17A-D1974924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D958B-84B4-4D5E-89F5-39ABDA9B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8F404-F0A6-46F1-94EE-638D9437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F297D-ADCF-4910-80B3-37E63F60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717E1-F74E-4879-A1DF-4C70F348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0306-331E-491A-99F5-A378E20D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5CB58-8CDE-41F5-87C7-E350819A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C6F13-40A9-408E-B019-901C8BCE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71557-463A-445E-87EE-47CFB7E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62F13-EBBA-4991-A0C7-63E92044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BEAD7-C84A-484F-B792-862D56FF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8DF75-FCB0-4DBA-9B51-5A5C8E40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386DD-419A-40DE-887E-D06BEAAC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E7375-3F99-4C39-9FDB-253E0D4B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A365C5-38E4-40E1-B3F6-A007A799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8FDEC-D213-4D04-AD02-578162E4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E07D-2866-47A1-BDA3-A60BB506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B70A4F-D752-4817-85CE-745C8D73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2791E-478B-4539-B6B5-720F26C1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07503-E163-4DEC-92C7-87813FAB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1402A-43CF-41C1-8F6C-3A5997D2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0DA57-349D-4AF6-BA78-C5D468A9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7CE2F-CF7C-4A69-8AD0-F8D6FA48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F4C4F-9EFB-44D9-9221-2CE684C3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79ABE-B1E9-4BF5-91C4-8785BF93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E4860-3DF0-4E23-BE2A-079A1484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3A0DD-A96D-4456-B714-F4F5EB14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C98C-E898-45AE-BDB2-BD76147E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8A2FC-2DBA-41E6-A081-F421B7D3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0568A-DFC0-4D14-9FDD-C0B2869E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3DA89-981C-4DA1-BCA4-A218EA90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FA3B3-7227-42F6-9F66-DCAA4E8D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92D71-7657-4069-A73E-0E2D208F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CADBAC-2592-4966-8BA8-E651784A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1DA2D-F58A-4045-9B9A-3E4360A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1AC6E-EADB-4352-9F86-5AA54ABD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A60FA-B771-49C3-968F-D64B0243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AD33E-5DFC-4923-B0EE-88B8EEF9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AE90-846B-4954-B4E9-A9F6884A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24DB4-56DA-4E4E-9C9A-42709E27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C2D53-87BE-47C1-9D40-A39178DA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F86A4-A4B7-4743-8F99-B18D406A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EDF0F-448C-4517-86B2-85732340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0D49B-30B1-46EC-B63B-BC767FB1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DDE6E-1C0E-46CE-B3A0-01BD2B40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C7A6B-799B-4C82-98EA-12A40531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DFD83-B7E3-4F77-B9FB-F4301219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E17700-9907-4F46-8A09-1D2B9145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40F7E-9979-4B7A-B6DF-65523035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DD5D-D226-48C4-AF20-E5F39BD1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C90EC-CC00-4F19-A7AC-93ECE369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FC4EF-372C-41B9-A0E2-285150EA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CBCDC-2801-47F0-84EF-FD3D1030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2826A-A946-4B3B-8216-8182B62C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C2956-E45D-48A7-87D5-25694BCA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E1777-45A7-4445-B291-0FDB9B8B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4FB23-9307-410B-AFAE-D80A9BD3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EA2E4-A009-4A40-A29A-0248FD40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8F238-D41D-4B50-A6D8-77D4F0BC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37D24C-56C9-415B-97BA-106D6CDB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63CB2-4C52-4C9E-A67C-A6325AE7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E07C8-9B8A-422A-AD20-2BB10E71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B7163C-8171-47D1-B236-6617AC59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CC487-98B5-4E7D-A869-C428E900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D6EB3-E4C3-44A1-ACBB-C92E6608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8374D-FFCC-401B-BE5F-7E230D4B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5E58C3-4DE0-4969-B52B-9EF224F2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56996F-FA0E-40DC-8D06-698E2B04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FF2AE6-BEA5-4BFC-A6E3-66DFEED4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E2CA25-CE42-41D0-B78E-1A83C87B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50C529-7199-455C-AED9-C665916E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741A-5B9E-4AC7-97AA-64A385AD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C25BC9-4A72-4C0C-AB12-1CF9642F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33FF03-1302-4C67-BBB1-CB43ADC6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59114F-54A9-40DC-BFB2-F0683AC6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FEE918-C72F-476C-8A64-6F5DE834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47BB09-8556-4C15-B56F-5049AF01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60B732-3EC1-4A4B-A719-57F7A89B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A27B26-3E99-4AC0-98C3-7626C8FE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03D019-B602-45A3-A6CC-85565079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1878C1-0A14-4DF9-A6E7-B7F0D504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F8CE00-70BD-4CC8-9A64-114EC621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2886-C237-4224-81B8-E756BDEAB5EA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8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D884-3821-45AD-BFDE-11B6EA077896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31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A6BF-2E7E-4DC9-94D9-796FEB672CB1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4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2251-E6D7-423F-A9E2-6035DFB91F6A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7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48BF-3BC3-498F-A1FD-77D7952C5E40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0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F232-24FF-475C-8CD5-24FABD34CEAB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3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5220-4095-4A6B-A086-F6BCCDCCD398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6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43A3-80F5-46E3-ADC5-4934167221FE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19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1653-044A-40FF-8103-424E57E1BB4D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14"/>
          <p:cNvSpPr/>
          <p:nvPr/>
        </p:nvSpPr>
        <p:spPr>
          <a:xfrm>
            <a:off x="88920" y="549360"/>
            <a:ext cx="8947080" cy="93492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2"/>
          <a:stretch/>
        </p:blipFill>
        <p:spPr>
          <a:xfrm>
            <a:off x="7667640" y="44280"/>
            <a:ext cx="1301760" cy="2779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ftr" idx="22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75F5-AE26-461B-9330-D9D31DC7C2D1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5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A082-ED46-4A47-86F4-5064220DEA21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4"/>
          <p:cNvSpPr/>
          <p:nvPr/>
        </p:nvSpPr>
        <p:spPr>
          <a:xfrm>
            <a:off x="179280" y="5013360"/>
            <a:ext cx="8837640" cy="129528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 rot="1248600">
            <a:off x="1623600" y="50760"/>
            <a:ext cx="5694480" cy="47181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"/>
          <p:cNvPicPr/>
          <p:nvPr/>
        </p:nvPicPr>
        <p:blipFill>
          <a:blip r:embed="rId2"/>
          <a:stretch/>
        </p:blipFill>
        <p:spPr>
          <a:xfrm>
            <a:off x="6175440" y="3645000"/>
            <a:ext cx="2789280" cy="11523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"/>
          <p:cNvPicPr/>
          <p:nvPr/>
        </p:nvPicPr>
        <p:blipFill>
          <a:blip r:embed="rId3"/>
          <a:stretch/>
        </p:blipFill>
        <p:spPr>
          <a:xfrm>
            <a:off x="127080" y="3645000"/>
            <a:ext cx="2573280" cy="1179360"/>
          </a:xfrm>
          <a:prstGeom prst="rect">
            <a:avLst/>
          </a:prstGeom>
          <a:ln w="0">
            <a:noFill/>
          </a:ln>
        </p:spPr>
      </p:pic>
      <p:sp>
        <p:nvSpPr>
          <p:cNvPr id="542" name="TextBox 6"/>
          <p:cNvSpPr/>
          <p:nvPr/>
        </p:nvSpPr>
        <p:spPr>
          <a:xfrm>
            <a:off x="395280" y="5229360"/>
            <a:ext cx="81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述职报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24"/>
          <p:cNvSpPr/>
          <p:nvPr/>
        </p:nvSpPr>
        <p:spPr>
          <a:xfrm>
            <a:off x="3166920" y="4638600"/>
            <a:ext cx="28101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25"/>
          <p:cNvSpPr/>
          <p:nvPr/>
        </p:nvSpPr>
        <p:spPr>
          <a:xfrm>
            <a:off x="6156360" y="4638600"/>
            <a:ext cx="28083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矩形 2"/>
          <p:cNvSpPr/>
          <p:nvPr/>
        </p:nvSpPr>
        <p:spPr>
          <a:xfrm>
            <a:off x="179280" y="4638600"/>
            <a:ext cx="28083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4" descr="C:\Documents and Settings\Administrator\桌面\锐\2012年新年素材\龙4\6090.jpg"/>
          <p:cNvPicPr/>
          <p:nvPr/>
        </p:nvPicPr>
        <p:blipFill>
          <a:blip r:embed="rId1"/>
          <a:stretch/>
        </p:blipFill>
        <p:spPr>
          <a:xfrm>
            <a:off x="6300720" y="4724280"/>
            <a:ext cx="2519280" cy="15271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"/>
          <p:cNvPicPr/>
          <p:nvPr/>
        </p:nvPicPr>
        <p:blipFill>
          <a:blip r:embed="rId2"/>
          <a:stretch/>
        </p:blipFill>
        <p:spPr>
          <a:xfrm>
            <a:off x="2664000" y="3429000"/>
            <a:ext cx="3995640" cy="3672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"/>
          <p:cNvPicPr/>
          <p:nvPr/>
        </p:nvPicPr>
        <p:blipFill>
          <a:blip r:embed="rId3"/>
          <a:stretch/>
        </p:blipFill>
        <p:spPr>
          <a:xfrm>
            <a:off x="250920" y="4840200"/>
            <a:ext cx="2665440" cy="1160640"/>
          </a:xfrm>
          <a:prstGeom prst="rect">
            <a:avLst/>
          </a:prstGeom>
          <a:ln w="0">
            <a:noFill/>
          </a:ln>
        </p:spPr>
      </p:pic>
      <p:sp>
        <p:nvSpPr>
          <p:cNvPr id="602" name="矩形 28"/>
          <p:cNvSpPr/>
          <p:nvPr/>
        </p:nvSpPr>
        <p:spPr>
          <a:xfrm>
            <a:off x="88920" y="549360"/>
            <a:ext cx="8947080" cy="367164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29"/>
          <p:cNvSpPr/>
          <p:nvPr/>
        </p:nvSpPr>
        <p:spPr>
          <a:xfrm>
            <a:off x="971640" y="21495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,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飞龙崛起 再创佳绩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1"/>
          <p:cNvSpPr/>
          <p:nvPr/>
        </p:nvSpPr>
        <p:spPr>
          <a:xfrm>
            <a:off x="250920" y="5493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图示 3" descr=""/>
          <p:cNvPicPr/>
          <p:nvPr/>
        </p:nvPicPr>
        <p:blipFill>
          <a:blip r:embed="rId1"/>
          <a:stretch/>
        </p:blipFill>
        <p:spPr>
          <a:xfrm>
            <a:off x="1316160" y="1835280"/>
            <a:ext cx="61578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图示 3" descr=""/>
          <p:cNvPicPr/>
          <p:nvPr/>
        </p:nvPicPr>
        <p:blipFill>
          <a:blip r:embed="rId1"/>
          <a:stretch/>
        </p:blipFill>
        <p:spPr>
          <a:xfrm>
            <a:off x="1427040" y="2048040"/>
            <a:ext cx="5424480" cy="3127320"/>
          </a:xfrm>
          <a:prstGeom prst="rect">
            <a:avLst/>
          </a:prstGeom>
          <a:ln w="0">
            <a:noFill/>
          </a:ln>
        </p:spPr>
      </p:pic>
      <p:grpSp>
        <p:nvGrpSpPr>
          <p:cNvPr id="547" name="组合 1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548" name="圆角矩形 5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9" name="圆角矩形 4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550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"/>
          <p:cNvGrpSpPr/>
          <p:nvPr/>
        </p:nvGrpSpPr>
        <p:grpSpPr>
          <a:xfrm>
            <a:off x="108000" y="1542960"/>
            <a:ext cx="1942920" cy="517680"/>
            <a:chOff x="108000" y="1542960"/>
            <a:chExt cx="1942920" cy="517680"/>
          </a:xfrm>
        </p:grpSpPr>
        <p:sp>
          <p:nvSpPr>
            <p:cNvPr id="553" name="矩形 5"/>
            <p:cNvSpPr/>
            <p:nvPr/>
          </p:nvSpPr>
          <p:spPr>
            <a:xfrm>
              <a:off x="108000" y="1542960"/>
              <a:ext cx="194292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6"/>
            <p:cNvSpPr/>
            <p:nvPr/>
          </p:nvSpPr>
          <p:spPr>
            <a:xfrm>
              <a:off x="108000" y="1542960"/>
              <a:ext cx="194292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Ⅰ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员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5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组合 12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557" name="圆角矩形 13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8" name="圆角矩形 14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559" name="圆角矩形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组合 2"/>
          <p:cNvGrpSpPr/>
          <p:nvPr/>
        </p:nvGrpSpPr>
        <p:grpSpPr>
          <a:xfrm>
            <a:off x="108000" y="1542960"/>
            <a:ext cx="1800000" cy="517680"/>
            <a:chOff x="108000" y="1542960"/>
            <a:chExt cx="1800000" cy="517680"/>
          </a:xfrm>
        </p:grpSpPr>
        <p:sp>
          <p:nvSpPr>
            <p:cNvPr id="562" name="矩形 3"/>
            <p:cNvSpPr/>
            <p:nvPr/>
          </p:nvSpPr>
          <p:spPr>
            <a:xfrm>
              <a:off x="108000" y="1542960"/>
              <a:ext cx="180000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矩形 4"/>
            <p:cNvSpPr/>
            <p:nvPr/>
          </p:nvSpPr>
          <p:spPr>
            <a:xfrm>
              <a:off x="108000" y="1542960"/>
              <a:ext cx="180000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Ⅱ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效能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组合 10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566" name="圆角矩形 11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7" name="圆角矩形 12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568" name="圆角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组合 1"/>
          <p:cNvGrpSpPr/>
          <p:nvPr/>
        </p:nvGrpSpPr>
        <p:grpSpPr>
          <a:xfrm>
            <a:off x="108000" y="1542960"/>
            <a:ext cx="3095640" cy="517680"/>
            <a:chOff x="108000" y="1542960"/>
            <a:chExt cx="3095640" cy="517680"/>
          </a:xfrm>
        </p:grpSpPr>
        <p:sp>
          <p:nvSpPr>
            <p:cNvPr id="571" name="矩形 2"/>
            <p:cNvSpPr/>
            <p:nvPr/>
          </p:nvSpPr>
          <p:spPr>
            <a:xfrm>
              <a:off x="108000" y="1542960"/>
              <a:ext cx="309564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矩形 3"/>
            <p:cNvSpPr/>
            <p:nvPr/>
          </p:nvSpPr>
          <p:spPr>
            <a:xfrm>
              <a:off x="108000" y="1542960"/>
              <a:ext cx="309564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Ⅲ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工作指标达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3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组合 10"/>
          <p:cNvGrpSpPr/>
          <p:nvPr/>
        </p:nvGrpSpPr>
        <p:grpSpPr>
          <a:xfrm>
            <a:off x="179280" y="657360"/>
            <a:ext cx="1219320" cy="755640"/>
            <a:chOff x="179280" y="657360"/>
            <a:chExt cx="1219320" cy="755640"/>
          </a:xfrm>
        </p:grpSpPr>
        <p:sp>
          <p:nvSpPr>
            <p:cNvPr id="575" name="圆角矩形 11"/>
            <p:cNvSpPr/>
            <p:nvPr/>
          </p:nvSpPr>
          <p:spPr>
            <a:xfrm>
              <a:off x="193680" y="667800"/>
              <a:ext cx="1195560" cy="73188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6" name="圆角矩形 12"/>
            <p:cNvGrpSpPr/>
            <p:nvPr/>
          </p:nvGrpSpPr>
          <p:grpSpPr>
            <a:xfrm>
              <a:off x="179280" y="657360"/>
              <a:ext cx="1219320" cy="755640"/>
              <a:chOff x="179280" y="657360"/>
              <a:chExt cx="1219320" cy="755640"/>
            </a:xfrm>
          </p:grpSpPr>
          <p:pic>
            <p:nvPicPr>
              <p:cNvPr id="577" name="圆角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57360"/>
                <a:ext cx="12193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"/>
              <p:cNvSpPr/>
              <p:nvPr/>
            </p:nvSpPr>
            <p:spPr>
              <a:xfrm>
                <a:off x="215280" y="689400"/>
                <a:ext cx="11520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1"/>
          <p:cNvSpPr/>
          <p:nvPr/>
        </p:nvSpPr>
        <p:spPr>
          <a:xfrm>
            <a:off x="1403280" y="6332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力态度自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0" name="圆角矩形 3"/>
          <p:cNvGrpSpPr/>
          <p:nvPr/>
        </p:nvGrpSpPr>
        <p:grpSpPr>
          <a:xfrm>
            <a:off x="165240" y="609480"/>
            <a:ext cx="1242720" cy="781200"/>
            <a:chOff x="165240" y="609480"/>
            <a:chExt cx="1242720" cy="781200"/>
          </a:xfrm>
        </p:grpSpPr>
        <p:pic>
          <p:nvPicPr>
            <p:cNvPr id="58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65240" y="609480"/>
              <a:ext cx="124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201600" y="642960"/>
              <a:ext cx="1174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1"/>
          <p:cNvSpPr/>
          <p:nvPr/>
        </p:nvSpPr>
        <p:spPr>
          <a:xfrm>
            <a:off x="1403280" y="62064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的主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4" name="组合 1"/>
          <p:cNvGrpSpPr/>
          <p:nvPr/>
        </p:nvGrpSpPr>
        <p:grpSpPr>
          <a:xfrm>
            <a:off x="179280" y="620640"/>
            <a:ext cx="1219320" cy="755640"/>
            <a:chOff x="179280" y="620640"/>
            <a:chExt cx="1219320" cy="755640"/>
          </a:xfrm>
        </p:grpSpPr>
        <p:sp>
          <p:nvSpPr>
            <p:cNvPr id="585" name="圆角矩形 3"/>
            <p:cNvSpPr/>
            <p:nvPr/>
          </p:nvSpPr>
          <p:spPr>
            <a:xfrm>
              <a:off x="238680" y="643680"/>
              <a:ext cx="1150560" cy="7088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6" name="圆角矩形 2"/>
            <p:cNvGrpSpPr/>
            <p:nvPr/>
          </p:nvGrpSpPr>
          <p:grpSpPr>
            <a:xfrm>
              <a:off x="179280" y="620640"/>
              <a:ext cx="1219320" cy="755640"/>
              <a:chOff x="179280" y="620640"/>
              <a:chExt cx="1219320" cy="755640"/>
            </a:xfrm>
          </p:grpSpPr>
          <p:pic>
            <p:nvPicPr>
              <p:cNvPr id="587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20640"/>
                <a:ext cx="12193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"/>
              <p:cNvSpPr/>
              <p:nvPr/>
            </p:nvSpPr>
            <p:spPr>
              <a:xfrm>
                <a:off x="215280" y="652680"/>
                <a:ext cx="11520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6"/>
          <p:cNvGrpSpPr/>
          <p:nvPr/>
        </p:nvGrpSpPr>
        <p:grpSpPr>
          <a:xfrm>
            <a:off x="179280" y="620640"/>
            <a:ext cx="1219320" cy="770040"/>
            <a:chOff x="179280" y="620640"/>
            <a:chExt cx="1219320" cy="770040"/>
          </a:xfrm>
        </p:grpSpPr>
        <p:sp>
          <p:nvSpPr>
            <p:cNvPr id="590" name="圆角矩形 2"/>
            <p:cNvSpPr/>
            <p:nvPr/>
          </p:nvSpPr>
          <p:spPr>
            <a:xfrm>
              <a:off x="193680" y="620640"/>
              <a:ext cx="1195560" cy="7448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e732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1" name="圆角矩形 1"/>
            <p:cNvGrpSpPr/>
            <p:nvPr/>
          </p:nvGrpSpPr>
          <p:grpSpPr>
            <a:xfrm>
              <a:off x="179280" y="621360"/>
              <a:ext cx="1219320" cy="769320"/>
              <a:chOff x="179280" y="621360"/>
              <a:chExt cx="1219320" cy="769320"/>
            </a:xfrm>
          </p:grpSpPr>
          <p:pic>
            <p:nvPicPr>
              <p:cNvPr id="592" name="圆角矩形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21360"/>
                <a:ext cx="1219320" cy="76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" name=""/>
              <p:cNvSpPr/>
              <p:nvPr/>
            </p:nvSpPr>
            <p:spPr>
              <a:xfrm>
                <a:off x="215280" y="655560"/>
                <a:ext cx="11520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4" name="矩形 3"/>
          <p:cNvSpPr/>
          <p:nvPr/>
        </p:nvSpPr>
        <p:spPr>
          <a:xfrm>
            <a:off x="1403280" y="62064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续工作设想及改善计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"/>
          <p:cNvSpPr/>
          <p:nvPr/>
        </p:nvSpPr>
        <p:spPr>
          <a:xfrm>
            <a:off x="1424160" y="242100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的主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3:33:56Z</dcterms:created>
  <dc:creator>冯凯欣</dc:creator>
  <dc:description/>
  <dc:language>en-US</dc:language>
  <cp:lastModifiedBy>www.pc6.com</cp:lastModifiedBy>
  <dcterms:modified xsi:type="dcterms:W3CDTF">2012-02-16T03:58:11Z</dcterms:modified>
  <cp:revision>67</cp:revision>
  <dc:subject/>
  <dc:title>PowerPoint 演示文稿</dc:title>
</cp:coreProperties>
</file>