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36A-72E6-4B9C-95A6-3A31BBC9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7AA-7ED2-4DAF-805C-614898D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5D36-E7D0-4E83-A770-46DCEF9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CCFB-847D-4568-8B49-CABA6AE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6DE37-4D5B-4883-80C6-3F6D623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6938-6F55-4AC4-9A04-3DDB267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802E-B4B3-4459-8AFC-937D253D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730B-CFFE-455D-BEB0-C9A10935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5AC7-17A9-45D1-A32B-070DD8B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54325-0D3D-49F2-BE7F-863723F8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00C2-1C0E-4E40-902D-86C887DC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6D7C9-4E68-4F0B-99E9-7105421B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B9C-BE5B-41AB-8443-A3F59F0F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6047-31A8-4E08-B846-31E1CA7B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238F4-B747-4560-BDA2-B93FF1E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AE04-2757-4B07-90B2-CA73B70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4BEF-4BD4-454C-8C5F-A79636E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ADC3F-D879-4A6B-9DE8-011944F2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B0C1-4B2E-42B9-A4D3-9527DE5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14D6-CCF0-47E7-B9D9-D704BAA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B52F-BAE2-4E41-8C27-F8FED15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FB2A1-9119-4CBD-A999-FEAB2F0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D8C19-E968-4C67-8E9E-BDCA4DB8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478-231B-4C59-A9D7-87B9EB22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EFE0-C586-4EFA-A773-4396523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4AED-B6D1-4AC1-87E6-A1F7AF70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A50E4-076B-4E4C-BCF6-E8C303B7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0400-E41D-47F6-AC9D-DE6339CD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4AC6-72BA-4618-823D-E044DB6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3F69-4E18-4973-AC95-1B82EDD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FDB2-DB21-4FC4-BBC1-9D9F833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9A86-ED37-4DE4-8D7B-A4E1F52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F4FBB-F99F-4F51-8BF5-7667EBD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864B-7922-4D50-9FFF-21DACCA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20E6-287E-4D4A-AD5E-06B7426A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55EE6-E80F-4EA7-8614-6DB9969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1114-3645-4EA9-9744-F6EE823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9CF0-A4EF-461B-93F2-E87F0BCB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EE71F-5AE9-474D-9D43-62BEBEC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E00E-C348-44DA-89ED-EC11FD9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4215-FEE9-4EFE-B261-4E325A1A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0D84-647D-4738-ABB7-919BE746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3200A-4F5A-4AB7-9AA6-DA6132D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B44A8-8AC7-462A-B8B1-E2401D7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15F15-FDFB-48BE-8D06-692D6D7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9A04-4295-49EA-AFE1-C615F1A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3B8BC-8981-47BB-9D4B-5740570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9A839-2A6F-4325-A67F-9E2187C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591B3-8A4A-472C-8477-8AACD2B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D0D9-C343-4C52-AA20-1ECA89AC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EC9A5-B56A-4DA6-BFC7-30D588AB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E90D2-A7EA-42D0-8462-7B0D939F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0CED9-29F5-4A50-8E8C-9A1DD23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BAB30-FFB4-475D-BE93-DC9C71B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981D2-9E37-45C6-8B11-3B6C567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DF5B-C319-466D-8CEC-4C967B3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C71-8AAF-409B-8AD1-4F68BA7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B02F3-5762-4A10-89D9-BFCC1B02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230DE-B8F8-4BB0-B4B1-F21FC26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5C66D-6862-41BD-9F1F-94AFFA0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5D9AD-9F66-4685-92B3-02CD76D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CF5AF-F730-4D3A-BAEB-AE3A4B1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1A927-7D81-44C6-A158-666E6A2E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52FF6-89B6-471F-9306-67814CE0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F22FD-E8DF-46AF-BED4-5CF3265C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D730-389D-4536-A09A-618B6799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A6648-B8D0-42AE-BC3F-5DB72CE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25B-8E3E-4B52-A2F5-6B14818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EBC51-C1D8-446F-9448-BC381D0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D14A4-4BFC-453B-B000-FF5C507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405C5-74A5-42C4-8662-9D6335C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AA704-BF09-482B-920F-F01CBA9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F2BE7-FE92-4168-9654-586CF9E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D1EA-7DF5-4355-A6D9-99F8C72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7781-34E3-40AD-B91D-54B3ED8E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C1204-0519-486E-9C61-2254B114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F4F1C-588A-47DF-92CB-4ED66291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5C077-D71D-4574-8EB3-C993AE57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C104-125A-4DA8-84EB-AE4D066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50946-B04D-492A-95B8-280B8FE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15DAE-066B-45FC-807D-16C09E0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B31D4-65E1-4F52-9C5B-0E4A226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0CF23-2B2D-4336-BE11-2F430A0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5A19A-09A2-40C1-BAEE-C686C4D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2DF0F-F074-4764-9612-A374F05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42060-17E9-44B3-A1B1-9E499C5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5EC9-1E9B-49C4-BBDA-3202348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7AC82-3D18-46CB-89BF-A27EBCC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9707D-DF85-47EE-82F2-0569CEE5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E9A-6CA7-4705-88E0-981B5E36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095C6-2864-4432-9704-EF682A90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DE4B-802A-4FAD-9D1B-A5BAF095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543-6DB2-4567-A5FE-F616012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C39E-20E9-46B1-A2A3-882B837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5BF6-A1AC-4D7D-96A9-5E4F1EA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AD06-0892-4A95-B8D1-F29A3EB3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FC7-35A0-4B99-80D1-67654441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215A-5F96-4C4F-8FF9-2E6D321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A41-74DD-4909-B88E-76DD98D4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69A-03CC-4144-92CA-22BCEFCE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496-2FE2-4D2C-B414-71FC6C5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C1B-4581-4446-AFBE-DC5F9275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A9FE-4054-4D51-82D3-DB53EC4D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4062-B324-4ECB-8524-582410B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C4DA-89A7-41E0-93F4-13108B6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F0B1-1082-47E3-A693-502DF66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BBDD-79C1-417C-84BA-62D628D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760F-8B16-4918-8490-FDA8909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A947-634D-46A5-A8D7-7BC553F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5F00-A0E9-43B7-929B-C48D1B4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0DFA-4F05-46BA-B140-28BB1A9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A6D-8A26-4A83-A012-9F37773C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CC45-C0DC-4245-A72A-AFF5E3D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C402-21EA-4407-857F-53C09EF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A1D9-837E-420B-9041-042F472D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F233-8D4F-451E-B3EB-64EB4B41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FF6F-D982-4F5E-B7A1-BE790799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D63D-D6F6-4366-BDF4-8F725F7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B08C-D9F8-4175-B7B5-1ED18D4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3D4E-50DC-4FA5-8064-17E58AD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3BDC-38B5-49E0-8B72-D8A7122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7DD2-990F-46F2-8953-6ED33B1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FDE-2F73-48BA-8519-9E5E7FA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8B17-06BB-4FEA-8344-933A11A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8B6A-5FD9-4976-8D97-3E4FF71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8A0C-A832-4B93-BF1D-4CDE222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042F-496E-4C5F-844D-54035B8F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C357-A1C3-475D-B1B8-FC1268D5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12BE-400A-4F5F-9E02-B6E96762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DC828-2632-4DD6-BB36-4EDAA81C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63C3-1A2F-444C-892E-0D095B2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6BA9-7C41-4BAD-8A32-96D041B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6656-4196-499F-A0C9-9EC42ADC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565-004A-4CF2-A743-0432B54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32A0-C605-4B89-A236-71C398AB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2991-3E16-4893-BFB7-60C322A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7844-0B4A-47F4-A855-56C752C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02F3-A0C5-4401-995C-A54EA55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EC78-A3E3-4B98-8533-9E3C808C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E2969-F9CF-4F18-B9C2-1759E612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25F6-55F5-4224-8194-81BE68C7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6BF70-3FF4-4B5C-91A4-2D07835E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89C2-F6E8-4F79-9663-DE9835C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707B-927D-4CD4-A457-2E5E2B7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1755-1683-4493-BC1A-064209F5E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450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53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54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55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58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459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463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61A0-2FD5-464B-91EF-4508B8725F80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11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512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513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16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17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BEF3-FF4A-4B6A-88C4-E5AFB24B8CB0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566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569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570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571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74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75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61AE-9C83-481E-ADF8-32B5D041C7D0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624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27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28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29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32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633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635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61D-DD56-4055-A539-65366061EECB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682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85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86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7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690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691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C012-393D-496E-9CCF-8CA77930EF0D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740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743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744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745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49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751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BE18-FE6F-4A4F-AD1B-81AE80394008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47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48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49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3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B72C-235D-4D28-A514-1CC714BAF1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:\work\第二\条纹冲线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F:\work\第二\条纹冲线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21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22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3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AD61-4E0D-403B-9045-50E0A2C04B24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79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80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81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285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8062-8E0B-4163-B93E-BF55C573D459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37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38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39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42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343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170-2F80-45EE-993B-BD3CF6F957A5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2480" y="5802480"/>
            <a:ext cx="922320" cy="8697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9"/>
          <p:cNvSpPr/>
          <p:nvPr/>
        </p:nvSpPr>
        <p:spPr>
          <a:xfrm>
            <a:off x="-326520" y="575316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Haettenschweiler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-111240" y="6300720"/>
            <a:ext cx="225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00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95" name="27 Imagen" descr=""/>
          <p:cNvPicPr/>
          <p:nvPr/>
        </p:nvPicPr>
        <p:blipFill>
          <a:blip r:embed="rId4"/>
          <a:stretch/>
        </p:blipFill>
        <p:spPr>
          <a:xfrm>
            <a:off x="4167360" y="608184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396" name="28 Imagen" descr=""/>
          <p:cNvPicPr/>
          <p:nvPr/>
        </p:nvPicPr>
        <p:blipFill>
          <a:blip r:embed="rId5"/>
          <a:stretch/>
        </p:blipFill>
        <p:spPr>
          <a:xfrm>
            <a:off x="4741920" y="608184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397" name="30 CuadroTexto"/>
          <p:cNvSpPr/>
          <p:nvPr/>
        </p:nvSpPr>
        <p:spPr>
          <a:xfrm>
            <a:off x="4469760" y="609300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31 CuadroTexto"/>
          <p:cNvSpPr/>
          <p:nvPr/>
        </p:nvSpPr>
        <p:spPr>
          <a:xfrm>
            <a:off x="4789440" y="60930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2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09580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19680" y="6126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9"/>
          <a:stretch/>
        </p:blipFill>
        <p:spPr>
          <a:xfrm>
            <a:off x="7310520" y="5894280"/>
            <a:ext cx="303120" cy="360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0"/>
          <p:cNvSpPr/>
          <p:nvPr/>
        </p:nvSpPr>
        <p:spPr>
          <a:xfrm>
            <a:off x="7689600" y="5964120"/>
            <a:ext cx="10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群：</a:t>
            </a:r>
            <a:r>
              <a:rPr b="0" lang="en-US" sz="1100" spc="-1" strike="noStrike">
                <a:solidFill>
                  <a:srgbClr val="ff6699"/>
                </a:solidFill>
                <a:latin typeface="Arial"/>
                <a:ea typeface="Arial Unicode MS"/>
              </a:rPr>
              <a:t>1809568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0"/>
          <a:stretch/>
        </p:blipFill>
        <p:spPr>
          <a:xfrm>
            <a:off x="7321680" y="6246720"/>
            <a:ext cx="280800" cy="3175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2"/>
          <p:cNvSpPr/>
          <p:nvPr/>
        </p:nvSpPr>
        <p:spPr>
          <a:xfrm>
            <a:off x="7697880" y="6288120"/>
            <a:ext cx="75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@PPT</a:t>
            </a:r>
            <a:r>
              <a:rPr b="0" lang="zh-CN" sz="1100" spc="-1" strike="noStrike">
                <a:solidFill>
                  <a:srgbClr val="ff6699"/>
                </a:solidFill>
                <a:latin typeface="微软雅黑"/>
                <a:ea typeface="微软雅黑"/>
              </a:rPr>
              <a:t>精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882-163B-45BE-99B8-79A34490CBDA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8" descr="F:\work\第二\条纹冲线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96" name="TextBox 8" descr=""/>
          <p:cNvPicPr/>
          <p:nvPr/>
        </p:nvPicPr>
        <p:blipFill>
          <a:blip r:embed="rId2"/>
          <a:stretch/>
        </p:blipFill>
        <p:spPr>
          <a:xfrm>
            <a:off x="3865680" y="701640"/>
            <a:ext cx="4917960" cy="7491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23"/>
          <p:cNvSpPr/>
          <p:nvPr/>
        </p:nvSpPr>
        <p:spPr>
          <a:xfrm>
            <a:off x="7107120" y="1773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等类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3"/>
          <p:cNvSpPr/>
          <p:nvPr/>
        </p:nvSpPr>
        <p:spPr>
          <a:xfrm>
            <a:off x="8183520" y="87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658800" y="2143080"/>
            <a:ext cx="7821720" cy="2022480"/>
            <a:chOff x="658800" y="2143080"/>
            <a:chExt cx="7821720" cy="2022480"/>
          </a:xfrm>
        </p:grpSpPr>
        <p:sp>
          <p:nvSpPr>
            <p:cNvPr id="800" name="AutoShape 3"/>
            <p:cNvSpPr/>
            <p:nvPr/>
          </p:nvSpPr>
          <p:spPr>
            <a:xfrm>
              <a:off x="658800" y="2143080"/>
              <a:ext cx="7821720" cy="2022480"/>
            </a:xfrm>
            <a:prstGeom prst="roundRect">
              <a:avLst>
                <a:gd name="adj" fmla="val 4935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3"/>
            <p:cNvSpPr/>
            <p:nvPr/>
          </p:nvSpPr>
          <p:spPr>
            <a:xfrm>
              <a:off x="658800" y="2239920"/>
              <a:ext cx="7820280" cy="1828800"/>
            </a:xfrm>
            <a:prstGeom prst="roundRect">
              <a:avLst>
                <a:gd name="adj" fmla="val 6125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 Box 11"/>
          <p:cNvSpPr/>
          <p:nvPr/>
        </p:nvSpPr>
        <p:spPr>
          <a:xfrm>
            <a:off x="890640" y="2500200"/>
            <a:ext cx="735804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济学家认为，任何一个国家或地区在其工业化开始之前，某些重大的障碍必须清除，而另一些有利的因素则必须创造出来。他们认为，任何单一的“障碍”或“先决条件”，都有办法避开或找出替代办法，但存在许多障碍或缺乏各种所必需的前提条件，将会给经济发展造成重重困难，甚至在某些情况下将无法发展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Box 22"/>
          <p:cNvSpPr/>
          <p:nvPr/>
        </p:nvSpPr>
        <p:spPr>
          <a:xfrm>
            <a:off x="8209440" y="87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457280" y="2008080"/>
            <a:ext cx="6229440" cy="719280"/>
            <a:chOff x="1457280" y="2008080"/>
            <a:chExt cx="6229440" cy="719280"/>
          </a:xfrm>
        </p:grpSpPr>
        <p:sp>
          <p:nvSpPr>
            <p:cNvPr id="805" name="AutoShape 3"/>
            <p:cNvSpPr/>
            <p:nvPr/>
          </p:nvSpPr>
          <p:spPr>
            <a:xfrm>
              <a:off x="1458720" y="200808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3"/>
            <p:cNvSpPr/>
            <p:nvPr/>
          </p:nvSpPr>
          <p:spPr>
            <a:xfrm>
              <a:off x="1457280" y="2097000"/>
              <a:ext cx="62294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3"/>
          <p:cNvSpPr/>
          <p:nvPr/>
        </p:nvSpPr>
        <p:spPr>
          <a:xfrm>
            <a:off x="3209760" y="218268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457280" y="2943360"/>
            <a:ext cx="6229440" cy="718920"/>
            <a:chOff x="1457280" y="2943360"/>
            <a:chExt cx="6229440" cy="718920"/>
          </a:xfrm>
        </p:grpSpPr>
        <p:sp>
          <p:nvSpPr>
            <p:cNvPr id="809" name="AutoShape 3"/>
            <p:cNvSpPr/>
            <p:nvPr/>
          </p:nvSpPr>
          <p:spPr>
            <a:xfrm>
              <a:off x="1457280" y="2943360"/>
              <a:ext cx="62294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3"/>
            <p:cNvSpPr/>
            <p:nvPr/>
          </p:nvSpPr>
          <p:spPr>
            <a:xfrm>
              <a:off x="1457280" y="3032640"/>
              <a:ext cx="6229440" cy="5400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6"/>
          <p:cNvSpPr/>
          <p:nvPr/>
        </p:nvSpPr>
        <p:spPr>
          <a:xfrm>
            <a:off x="3209760" y="311796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459080" y="3924360"/>
            <a:ext cx="6225840" cy="718920"/>
            <a:chOff x="1459080" y="3924360"/>
            <a:chExt cx="6225840" cy="718920"/>
          </a:xfrm>
        </p:grpSpPr>
        <p:sp>
          <p:nvSpPr>
            <p:cNvPr id="813" name="AutoShape 3"/>
            <p:cNvSpPr/>
            <p:nvPr/>
          </p:nvSpPr>
          <p:spPr>
            <a:xfrm>
              <a:off x="1459080" y="392436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3"/>
            <p:cNvSpPr/>
            <p:nvPr/>
          </p:nvSpPr>
          <p:spPr>
            <a:xfrm>
              <a:off x="1459080" y="4012920"/>
              <a:ext cx="62258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Rectangle 19"/>
          <p:cNvSpPr/>
          <p:nvPr/>
        </p:nvSpPr>
        <p:spPr>
          <a:xfrm>
            <a:off x="3209760" y="410040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1457280" y="3000240"/>
            <a:ext cx="6229440" cy="719280"/>
            <a:chOff x="1457280" y="3000240"/>
            <a:chExt cx="6229440" cy="719280"/>
          </a:xfrm>
        </p:grpSpPr>
        <p:sp>
          <p:nvSpPr>
            <p:cNvPr id="817" name="AutoShape 3"/>
            <p:cNvSpPr/>
            <p:nvPr/>
          </p:nvSpPr>
          <p:spPr>
            <a:xfrm>
              <a:off x="1458720" y="300024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3"/>
            <p:cNvSpPr/>
            <p:nvPr/>
          </p:nvSpPr>
          <p:spPr>
            <a:xfrm>
              <a:off x="1457280" y="3089160"/>
              <a:ext cx="6229440" cy="5414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Rectangle 13"/>
          <p:cNvSpPr/>
          <p:nvPr/>
        </p:nvSpPr>
        <p:spPr>
          <a:xfrm>
            <a:off x="3209760" y="3174840"/>
            <a:ext cx="27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7"/>
          <p:cNvSpPr/>
          <p:nvPr/>
        </p:nvSpPr>
        <p:spPr>
          <a:xfrm>
            <a:off x="8046000" y="8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AutoShape 207"/>
          <p:cNvSpPr/>
          <p:nvPr/>
        </p:nvSpPr>
        <p:spPr>
          <a:xfrm>
            <a:off x="712800" y="198432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96"/>
          <p:cNvSpPr/>
          <p:nvPr/>
        </p:nvSpPr>
        <p:spPr>
          <a:xfrm>
            <a:off x="1009800" y="3370320"/>
            <a:ext cx="2117520" cy="219528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228"/>
          <p:cNvSpPr/>
          <p:nvPr/>
        </p:nvSpPr>
        <p:spPr>
          <a:xfrm>
            <a:off x="1282680" y="39639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9"/>
          <p:cNvSpPr/>
          <p:nvPr/>
        </p:nvSpPr>
        <p:spPr>
          <a:xfrm>
            <a:off x="1282680" y="442440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"/>
          <p:cNvSpPr/>
          <p:nvPr/>
        </p:nvSpPr>
        <p:spPr>
          <a:xfrm>
            <a:off x="915840" y="2603520"/>
            <a:ext cx="23050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3"/>
          <p:cNvSpPr/>
          <p:nvPr/>
        </p:nvSpPr>
        <p:spPr>
          <a:xfrm>
            <a:off x="915840" y="2693880"/>
            <a:ext cx="23050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29"/>
          <p:cNvSpPr/>
          <p:nvPr/>
        </p:nvSpPr>
        <p:spPr>
          <a:xfrm>
            <a:off x="165672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2206800" y="1622520"/>
            <a:ext cx="4751280" cy="718920"/>
            <a:chOff x="2206800" y="1622520"/>
            <a:chExt cx="4751280" cy="718920"/>
          </a:xfrm>
        </p:grpSpPr>
        <p:sp>
          <p:nvSpPr>
            <p:cNvPr id="829" name="AutoShape 3"/>
            <p:cNvSpPr/>
            <p:nvPr/>
          </p:nvSpPr>
          <p:spPr>
            <a:xfrm>
              <a:off x="2206800" y="1622520"/>
              <a:ext cx="475128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3"/>
            <p:cNvSpPr/>
            <p:nvPr/>
          </p:nvSpPr>
          <p:spPr>
            <a:xfrm>
              <a:off x="2206800" y="1711800"/>
              <a:ext cx="4751280" cy="5400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3"/>
          <p:cNvSpPr/>
          <p:nvPr/>
        </p:nvSpPr>
        <p:spPr>
          <a:xfrm>
            <a:off x="4040280" y="1782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22"/>
          <p:cNvSpPr/>
          <p:nvPr/>
        </p:nvSpPr>
        <p:spPr>
          <a:xfrm>
            <a:off x="988920" y="3303720"/>
            <a:ext cx="2158920" cy="74520"/>
          </a:xfrm>
          <a:custGeom>
            <a:avLst/>
            <a:gdLst>
              <a:gd name="textAreaLeft" fmla="*/ 220320 w 2158920"/>
              <a:gd name="textAreaRight" fmla="*/ 1938600 w 21589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96"/>
          <p:cNvSpPr/>
          <p:nvPr/>
        </p:nvSpPr>
        <p:spPr>
          <a:xfrm>
            <a:off x="3492360" y="337032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28"/>
          <p:cNvSpPr/>
          <p:nvPr/>
        </p:nvSpPr>
        <p:spPr>
          <a:xfrm>
            <a:off x="3767040" y="39639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29"/>
          <p:cNvSpPr/>
          <p:nvPr/>
        </p:nvSpPr>
        <p:spPr>
          <a:xfrm>
            <a:off x="3767040" y="44244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"/>
          <p:cNvSpPr/>
          <p:nvPr/>
        </p:nvSpPr>
        <p:spPr>
          <a:xfrm>
            <a:off x="3400560" y="2603520"/>
            <a:ext cx="230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"/>
          <p:cNvSpPr/>
          <p:nvPr/>
        </p:nvSpPr>
        <p:spPr>
          <a:xfrm>
            <a:off x="3400560" y="269388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29"/>
          <p:cNvSpPr/>
          <p:nvPr/>
        </p:nvSpPr>
        <p:spPr>
          <a:xfrm>
            <a:off x="414036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22"/>
          <p:cNvSpPr/>
          <p:nvPr/>
        </p:nvSpPr>
        <p:spPr>
          <a:xfrm>
            <a:off x="3471840" y="3303720"/>
            <a:ext cx="2160720" cy="74520"/>
          </a:xfrm>
          <a:custGeom>
            <a:avLst/>
            <a:gdLst>
              <a:gd name="textAreaLeft" fmla="*/ 220320 w 2160720"/>
              <a:gd name="textAreaRight" fmla="*/ 1940400 w 21607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196"/>
          <p:cNvSpPr/>
          <p:nvPr/>
        </p:nvSpPr>
        <p:spPr>
          <a:xfrm>
            <a:off x="6002280" y="337032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28"/>
          <p:cNvSpPr/>
          <p:nvPr/>
        </p:nvSpPr>
        <p:spPr>
          <a:xfrm>
            <a:off x="6275520" y="396396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29"/>
          <p:cNvSpPr/>
          <p:nvPr/>
        </p:nvSpPr>
        <p:spPr>
          <a:xfrm>
            <a:off x="6275520" y="442440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5908680" y="2603520"/>
            <a:ext cx="2303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908680" y="269388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29"/>
          <p:cNvSpPr/>
          <p:nvPr/>
        </p:nvSpPr>
        <p:spPr>
          <a:xfrm>
            <a:off x="6648480" y="28242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222"/>
          <p:cNvSpPr/>
          <p:nvPr/>
        </p:nvSpPr>
        <p:spPr>
          <a:xfrm>
            <a:off x="5979960" y="3303720"/>
            <a:ext cx="2160720" cy="74520"/>
          </a:xfrm>
          <a:custGeom>
            <a:avLst/>
            <a:gdLst>
              <a:gd name="textAreaLeft" fmla="*/ 220320 w 2160720"/>
              <a:gd name="textAreaRight" fmla="*/ 1940400 w 21607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4"/>
          <p:cNvSpPr/>
          <p:nvPr/>
        </p:nvSpPr>
        <p:spPr>
          <a:xfrm>
            <a:off x="730944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1"/>
          <p:cNvSpPr/>
          <p:nvPr/>
        </p:nvSpPr>
        <p:spPr>
          <a:xfrm>
            <a:off x="2798640" y="2803680"/>
            <a:ext cx="180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4552920" y="2803680"/>
            <a:ext cx="144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>
            <a:off x="6296040" y="2803680"/>
            <a:ext cx="3240" cy="24476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56"/>
          <p:cNvSpPr/>
          <p:nvPr/>
        </p:nvSpPr>
        <p:spPr>
          <a:xfrm>
            <a:off x="161172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57"/>
          <p:cNvSpPr/>
          <p:nvPr/>
        </p:nvSpPr>
        <p:spPr>
          <a:xfrm>
            <a:off x="336420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8"/>
          <p:cNvSpPr/>
          <p:nvPr/>
        </p:nvSpPr>
        <p:spPr>
          <a:xfrm>
            <a:off x="511920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9"/>
          <p:cNvSpPr/>
          <p:nvPr/>
        </p:nvSpPr>
        <p:spPr>
          <a:xfrm>
            <a:off x="6882120" y="530856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25"/>
          <p:cNvSpPr/>
          <p:nvPr/>
        </p:nvSpPr>
        <p:spPr>
          <a:xfrm>
            <a:off x="1419120" y="5094360"/>
            <a:ext cx="506520" cy="15228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26"/>
          <p:cNvSpPr/>
          <p:nvPr/>
        </p:nvSpPr>
        <p:spPr>
          <a:xfrm>
            <a:off x="3165480" y="4738680"/>
            <a:ext cx="503280" cy="5079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27"/>
          <p:cNvSpPr/>
          <p:nvPr/>
        </p:nvSpPr>
        <p:spPr>
          <a:xfrm>
            <a:off x="4919760" y="4240080"/>
            <a:ext cx="506160" cy="100656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28"/>
          <p:cNvSpPr/>
          <p:nvPr/>
        </p:nvSpPr>
        <p:spPr>
          <a:xfrm>
            <a:off x="6664320" y="4100400"/>
            <a:ext cx="504720" cy="1157400"/>
          </a:xfrm>
          <a:prstGeom prst="rect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29"/>
          <p:cNvSpPr/>
          <p:nvPr/>
        </p:nvSpPr>
        <p:spPr>
          <a:xfrm>
            <a:off x="1925640" y="3990960"/>
            <a:ext cx="492120" cy="125568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30"/>
          <p:cNvSpPr/>
          <p:nvPr/>
        </p:nvSpPr>
        <p:spPr>
          <a:xfrm>
            <a:off x="3668760" y="4187880"/>
            <a:ext cx="506520" cy="105876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31"/>
          <p:cNvSpPr/>
          <p:nvPr/>
        </p:nvSpPr>
        <p:spPr>
          <a:xfrm>
            <a:off x="5425920" y="3581280"/>
            <a:ext cx="492120" cy="166536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2"/>
          <p:cNvSpPr/>
          <p:nvPr/>
        </p:nvSpPr>
        <p:spPr>
          <a:xfrm>
            <a:off x="7169040" y="3884760"/>
            <a:ext cx="495360" cy="1361880"/>
          </a:xfrm>
          <a:prstGeom prst="rect">
            <a:avLst/>
          </a:prstGeom>
          <a:solidFill>
            <a:srgbClr val="0070c0">
              <a:alpha val="85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1365120" y="1220760"/>
            <a:ext cx="6445440" cy="647640"/>
            <a:chOff x="1365120" y="1220760"/>
            <a:chExt cx="6445440" cy="647640"/>
          </a:xfrm>
        </p:grpSpPr>
        <p:sp>
          <p:nvSpPr>
            <p:cNvPr id="866" name="AutoShape 3"/>
            <p:cNvSpPr/>
            <p:nvPr/>
          </p:nvSpPr>
          <p:spPr>
            <a:xfrm>
              <a:off x="1365120" y="1220760"/>
              <a:ext cx="64454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3"/>
            <p:cNvSpPr/>
            <p:nvPr/>
          </p:nvSpPr>
          <p:spPr>
            <a:xfrm>
              <a:off x="1365120" y="1318320"/>
              <a:ext cx="6444360" cy="4521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Rectangle 13"/>
          <p:cNvSpPr/>
          <p:nvPr/>
        </p:nvSpPr>
        <p:spPr>
          <a:xfrm>
            <a:off x="4040280" y="134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56"/>
          <p:cNvSpPr/>
          <p:nvPr/>
        </p:nvSpPr>
        <p:spPr>
          <a:xfrm>
            <a:off x="196740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6"/>
          <p:cNvSpPr/>
          <p:nvPr/>
        </p:nvSpPr>
        <p:spPr>
          <a:xfrm>
            <a:off x="1472040" y="477360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6"/>
          <p:cNvSpPr/>
          <p:nvPr/>
        </p:nvSpPr>
        <p:spPr>
          <a:xfrm>
            <a:off x="3632040" y="386244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6"/>
          <p:cNvSpPr/>
          <p:nvPr/>
        </p:nvSpPr>
        <p:spPr>
          <a:xfrm>
            <a:off x="3211920" y="44067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6"/>
          <p:cNvSpPr/>
          <p:nvPr/>
        </p:nvSpPr>
        <p:spPr>
          <a:xfrm>
            <a:off x="5372280" y="32511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6"/>
          <p:cNvSpPr/>
          <p:nvPr/>
        </p:nvSpPr>
        <p:spPr>
          <a:xfrm>
            <a:off x="4951800" y="39117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6"/>
          <p:cNvSpPr/>
          <p:nvPr/>
        </p:nvSpPr>
        <p:spPr>
          <a:xfrm>
            <a:off x="7137360" y="355932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6"/>
          <p:cNvSpPr/>
          <p:nvPr/>
        </p:nvSpPr>
        <p:spPr>
          <a:xfrm>
            <a:off x="6704640" y="37609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8"/>
          <p:cNvSpPr/>
          <p:nvPr/>
        </p:nvSpPr>
        <p:spPr>
          <a:xfrm>
            <a:off x="1109520" y="2298600"/>
            <a:ext cx="0" cy="29527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8"/>
          <p:cNvSpPr/>
          <p:nvPr/>
        </p:nvSpPr>
        <p:spPr>
          <a:xfrm>
            <a:off x="1100160" y="5251320"/>
            <a:ext cx="6840360" cy="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35"/>
          <p:cNvSpPr/>
          <p:nvPr/>
        </p:nvSpPr>
        <p:spPr>
          <a:xfrm>
            <a:off x="730944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1"/>
          <p:cNvSpPr/>
          <p:nvPr/>
        </p:nvSpPr>
        <p:spPr>
          <a:xfrm>
            <a:off x="5000760" y="1143000"/>
            <a:ext cx="27860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2—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工业投资累计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551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，工业新增固定资产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34.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，年均新增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4.2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元。随着工业建设的发展，工业生产也得到迅速发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" descr="F:\work\第二\工业\jianshe3_287.png"/>
          <p:cNvPicPr/>
          <p:nvPr/>
        </p:nvPicPr>
        <p:blipFill>
          <a:blip r:embed="rId1"/>
          <a:stretch/>
        </p:blipFill>
        <p:spPr>
          <a:xfrm>
            <a:off x="1357200" y="1071720"/>
            <a:ext cx="3286080" cy="4978080"/>
          </a:xfrm>
          <a:prstGeom prst="rect">
            <a:avLst/>
          </a:prstGeom>
          <a:ln w="0">
            <a:noFill/>
          </a:ln>
        </p:spPr>
      </p:pic>
      <p:sp>
        <p:nvSpPr>
          <p:cNvPr id="882" name="TextBox 5"/>
          <p:cNvSpPr/>
          <p:nvPr/>
        </p:nvSpPr>
        <p:spPr>
          <a:xfrm>
            <a:off x="7309440" y="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8" descr="F:\work\第二\条纹冲线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84" name="TextBox 6" descr=""/>
          <p:cNvPicPr/>
          <p:nvPr/>
        </p:nvPicPr>
        <p:blipFill>
          <a:blip r:embed="rId2"/>
          <a:stretch/>
        </p:blipFill>
        <p:spPr>
          <a:xfrm>
            <a:off x="6066000" y="743040"/>
            <a:ext cx="2717640" cy="750960"/>
          </a:xfrm>
          <a:prstGeom prst="rect">
            <a:avLst/>
          </a:prstGeom>
          <a:ln w="0">
            <a:noFill/>
          </a:ln>
        </p:spPr>
      </p:pic>
      <p:sp>
        <p:nvSpPr>
          <p:cNvPr id="885" name="TextBox 4"/>
          <p:cNvSpPr/>
          <p:nvPr/>
        </p:nvSpPr>
        <p:spPr>
          <a:xfrm>
            <a:off x="7433640" y="500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9:14:42Z</dcterms:created>
  <dc:creator>Administrator</dc:creator>
  <dc:description/>
  <dc:language>en-US</dc:language>
  <cp:lastModifiedBy>微软用户</cp:lastModifiedBy>
  <cp:lastPrinted>1899-12-30T00:00:00Z</cp:lastPrinted>
  <dcterms:modified xsi:type="dcterms:W3CDTF">2011-12-12T07:45:18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