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719931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938A-E508-4E1B-B10F-E61BB3382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0FBB-2B13-4D7F-814F-EF707807B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9066-0F5F-4238-A2CA-524F20049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2612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7000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224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2612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7000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64BD-D8C7-4488-BE00-8A3620EF2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8FC0C-D705-4BD2-B14B-DD0D0032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943AC-4B62-4111-ABEE-3C47F1B5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52A17-37B0-4D91-8CCD-D6EEF9B9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E1AC8-FDBE-4E3A-8D8C-3B970EEE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DA4CD-72DF-452C-89ED-A3EEB66C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0000" y="186480"/>
            <a:ext cx="6479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D91BE-2F96-4AB3-93FA-8B53CF08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BBE26-BFD0-421F-931B-17866C07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5659-5208-4A89-9C05-32307901A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522EE-945D-4BB4-A4ED-3A237625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1B8D4-2E83-4723-8CE9-974C443E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15621-A02F-4AA9-8012-3F05421B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14047-14B0-4F92-A3EB-92EE8DB5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2612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7000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224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52612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77000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93AD8-7EFE-4C3A-A209-EA4A0DCF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61D9-7A24-4A43-8C07-117CAA49C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CD6F-8B64-45C9-8BE5-8CDB9EE78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A8B1-2411-4A69-89B7-85C36AF1C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186480"/>
            <a:ext cx="6479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2BCB-C567-42E4-8584-8B6441890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7F81-6205-4E46-A307-5841275D3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927F-FEF5-49C9-986C-60A145906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1206-FF3D-4705-81EF-17BE6B2EC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5160960" y="4211280"/>
            <a:ext cx="1765440" cy="523800"/>
          </a:xfrm>
          <a:prstGeom prst="rect">
            <a:avLst/>
          </a:prstGeom>
          <a:noFill/>
          <a:ln w="0">
            <a:noFill/>
          </a:ln>
        </p:spPr>
        <p:txBody>
          <a:bodyPr lIns="283680" rIns="283680" tIns="170280" bIns="17028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600" spc="-1" strike="noStrike">
                <a:solidFill>
                  <a:srgbClr val="6d757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FCD28FA3-408F-41EF-98B5-8968C290DBDF}" type="slidenum">
              <a:rPr b="0" lang="zh-CN" sz="600" spc="-1" strike="noStrike">
                <a:solidFill>
                  <a:srgbClr val="6d7579"/>
                </a:solidFill>
                <a:latin typeface="Arial"/>
              </a:rPr>
              <a:t>&lt;number&gt;</a:t>
            </a:fld>
            <a:r>
              <a:rPr b="0" lang="de-DE" sz="600" spc="-1" strike="noStrike">
                <a:solidFill>
                  <a:srgbClr val="6d7579"/>
                </a:solidFill>
                <a:latin typeface="Arial"/>
              </a:rPr>
              <a:t>  Titel oder Name, Abteilung,  </a:t>
            </a:r>
            <a:r>
              <a:rPr b="0" lang="zh-CN" sz="600" spc="-1" strike="noStrike">
                <a:solidFill>
                  <a:srgbClr val="6d7579"/>
                </a:solidFill>
                <a:latin typeface="Arial"/>
              </a:rPr>
              <a:t>Dat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1482840" y="4108320"/>
            <a:ext cx="1560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By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策划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Oct.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PMingLiU"/>
              </a:rPr>
              <a:t> 31th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,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82600" y="4141800"/>
            <a:ext cx="1192320" cy="30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360" y="187200"/>
            <a:ext cx="6480000" cy="779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60360" y="1091880"/>
            <a:ext cx="6480000" cy="308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6000"/>
          </a:bodyPr>
          <a:p>
            <a:pPr marL="259200" indent="-25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160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17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09600" indent="-1731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360000" y="4262400"/>
            <a:ext cx="167940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2460600" y="4262400"/>
            <a:ext cx="227952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5160600" y="4262400"/>
            <a:ext cx="167940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437A1FDE-7C29-465D-ACEE-F9BCB7208B42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797040"/>
            <a:ext cx="7201080" cy="12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82880" y="1332000"/>
            <a:ext cx="2909880" cy="16653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0"/>
            <a:ext cx="7238880" cy="652320"/>
            <a:chOff x="0" y="0"/>
            <a:chExt cx="7238880" cy="65232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44820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110844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6"/>
            <a:stretch/>
          </p:blipFill>
          <p:spPr>
            <a:xfrm>
              <a:off x="155664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7"/>
            <a:stretch/>
          </p:blipFill>
          <p:spPr>
            <a:xfrm>
              <a:off x="215208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8"/>
            <a:stretch/>
          </p:blipFill>
          <p:spPr>
            <a:xfrm>
              <a:off x="260028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9"/>
            <a:stretch/>
          </p:blipFill>
          <p:spPr>
            <a:xfrm>
              <a:off x="326052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0"/>
            <a:stretch/>
          </p:blipFill>
          <p:spPr>
            <a:xfrm>
              <a:off x="370872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1"/>
            <a:stretch/>
          </p:blipFill>
          <p:spPr>
            <a:xfrm>
              <a:off x="434340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12"/>
            <a:stretch/>
          </p:blipFill>
          <p:spPr>
            <a:xfrm>
              <a:off x="479196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13"/>
            <a:stretch/>
          </p:blipFill>
          <p:spPr>
            <a:xfrm>
              <a:off x="545220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4"/>
            <a:stretch/>
          </p:blipFill>
          <p:spPr>
            <a:xfrm>
              <a:off x="590040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5"/>
            <a:stretch/>
          </p:blipFill>
          <p:spPr>
            <a:xfrm>
              <a:off x="649548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6"/>
            <a:stretch/>
          </p:blipFill>
          <p:spPr>
            <a:xfrm>
              <a:off x="694404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196920" y="4140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1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680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21079800">
            <a:off x="-11269440" y="-3051000"/>
            <a:ext cx="9296640" cy="84247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1079800">
            <a:off x="-8992800" y="-4356000"/>
            <a:ext cx="9296280" cy="71737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89800" y="325440"/>
            <a:ext cx="935280" cy="40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和你在空中飞翔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过高山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过大洋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向那遥远的天堂！</a:t>
            </a:r>
            <a:br>
              <a:rPr sz="1100"/>
            </a:b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和你扬帆远航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见狂风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见巨浪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到那美丽的地方！</a:t>
            </a:r>
            <a:br>
              <a:rPr sz="1100"/>
            </a:b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美丽的爱情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美丽的爱情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向我招手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带我到爱的天堂！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830520" y="3203640"/>
            <a:ext cx="685080" cy="929160"/>
            <a:chOff x="-830520" y="3203640"/>
            <a:chExt cx="685080" cy="929160"/>
          </a:xfrm>
        </p:grpSpPr>
        <p:sp>
          <p:nvSpPr>
            <p:cNvPr id="106" name=""/>
            <p:cNvSpPr/>
            <p:nvPr/>
          </p:nvSpPr>
          <p:spPr>
            <a:xfrm rot="399000">
              <a:off x="-459360" y="34902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-830520" y="3203640"/>
              <a:ext cx="685080" cy="929160"/>
              <a:chOff x="-830520" y="3203640"/>
              <a:chExt cx="685080" cy="9291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-653040" y="3462120"/>
                <a:ext cx="219240" cy="670680"/>
                <a:chOff x="-653040" y="3462120"/>
                <a:chExt cx="219240" cy="670680"/>
              </a:xfrm>
            </p:grpSpPr>
            <p:sp>
              <p:nvSpPr>
                <p:cNvPr id="109" name=""/>
                <p:cNvSpPr/>
                <p:nvPr/>
              </p:nvSpPr>
              <p:spPr>
                <a:xfrm rot="399000">
                  <a:off x="-530280" y="346716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399000">
                  <a:off x="-558000" y="352080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942600">
                  <a:off x="-627120" y="393300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-830520" y="3203640"/>
                <a:ext cx="685080" cy="540720"/>
                <a:chOff x="-830520" y="3203640"/>
                <a:chExt cx="685080" cy="540720"/>
              </a:xfrm>
            </p:grpSpPr>
            <p:sp>
              <p:nvSpPr>
                <p:cNvPr id="113" name=""/>
                <p:cNvSpPr/>
                <p:nvPr/>
              </p:nvSpPr>
              <p:spPr>
                <a:xfrm rot="399000">
                  <a:off x="-648720" y="34808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399000">
                  <a:off x="-778680" y="349596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399000">
                  <a:off x="-793440" y="34246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399000">
                  <a:off x="-825840" y="33861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399000">
                  <a:off x="-801360" y="33656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399000">
                  <a:off x="-766800" y="336960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399000">
                  <a:off x="-703080" y="33030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399000">
                  <a:off x="-739440" y="331236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399000">
                  <a:off x="-708480" y="335088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399000">
                  <a:off x="-726480" y="32490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 flipV="1">
                  <a:off x="-631440" y="3262320"/>
                  <a:ext cx="166680" cy="2764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399000">
                  <a:off x="-623160" y="327420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399000">
                  <a:off x="-584640" y="32572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399000">
                  <a:off x="-542160" y="32443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399000">
                  <a:off x="-489240" y="3240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399000">
                  <a:off x="-480240" y="32050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399000">
                  <a:off x="-459000" y="325080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399000">
                  <a:off x="-448920" y="328932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399000">
                  <a:off x="-456120" y="32230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399000">
                  <a:off x="-460440" y="328356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399000">
                  <a:off x="-452520" y="334548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399000">
                  <a:off x="-454320" y="33818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399000">
                  <a:off x="-479160" y="339300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399000">
                  <a:off x="-478080" y="35442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399000">
                  <a:off x="-478080" y="35460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399000">
                  <a:off x="-493560" y="35532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399000">
                  <a:off x="-505080" y="3549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399000">
                  <a:off x="-716400" y="34884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399000">
                  <a:off x="-475920" y="353988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399000">
                  <a:off x="-493560" y="354564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399000">
                  <a:off x="-470880" y="325908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399000">
                  <a:off x="-619200" y="34945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399000">
                  <a:off x="-626760" y="35283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399000">
                  <a:off x="-487080" y="355356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080000">
                  <a:off x="-438840" y="351324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399000">
                  <a:off x="-475560" y="334368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-815400" y="3749040"/>
            <a:ext cx="682200" cy="935640"/>
            <a:chOff x="-815400" y="3749040"/>
            <a:chExt cx="682200" cy="935640"/>
          </a:xfrm>
        </p:grpSpPr>
        <p:sp>
          <p:nvSpPr>
            <p:cNvPr id="150" name=""/>
            <p:cNvSpPr/>
            <p:nvPr/>
          </p:nvSpPr>
          <p:spPr>
            <a:xfrm rot="251400">
              <a:off x="-443160" y="40338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-815400" y="3749040"/>
              <a:ext cx="682200" cy="935640"/>
              <a:chOff x="-815400" y="3749040"/>
              <a:chExt cx="682200" cy="93564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-609840" y="4010400"/>
                <a:ext cx="191160" cy="674280"/>
                <a:chOff x="-609840" y="4010400"/>
                <a:chExt cx="191160" cy="674280"/>
              </a:xfrm>
            </p:grpSpPr>
            <p:sp>
              <p:nvSpPr>
                <p:cNvPr id="153" name=""/>
                <p:cNvSpPr/>
                <p:nvPr/>
              </p:nvSpPr>
              <p:spPr>
                <a:xfrm rot="251400">
                  <a:off x="-513720" y="401364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rot="251400">
                  <a:off x="-531360" y="406908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795000">
                  <a:off x="-587520" y="448416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-815400" y="3749040"/>
                <a:ext cx="682200" cy="542880"/>
                <a:chOff x="-815400" y="3749040"/>
                <a:chExt cx="682200" cy="542880"/>
              </a:xfrm>
            </p:grpSpPr>
            <p:sp>
              <p:nvSpPr>
                <p:cNvPr id="157" name=""/>
                <p:cNvSpPr/>
                <p:nvPr/>
              </p:nvSpPr>
              <p:spPr>
                <a:xfrm rot="251400">
                  <a:off x="-631440" y="403092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251400">
                  <a:off x="-761040" y="404928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251400">
                  <a:off x="-779040" y="397836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251400">
                  <a:off x="-812160" y="394128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251400">
                  <a:off x="-788400" y="391968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251400">
                  <a:off x="-753120" y="39218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251400">
                  <a:off x="-690840" y="385416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251400">
                  <a:off x="-727200" y="38646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251400">
                  <a:off x="-695160" y="390204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251400">
                  <a:off x="-715320" y="380016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>
                  <a:off x="-625320" y="3815640"/>
                  <a:ext cx="178560" cy="2692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251400">
                  <a:off x="-610920" y="382320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251400">
                  <a:off x="-573120" y="380520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251400">
                  <a:off x="-530640" y="37915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251400">
                  <a:off x="-477360" y="378648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251400">
                  <a:off x="-469440" y="3750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251400">
                  <a:off x="-447120" y="379512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51400">
                  <a:off x="-436680" y="38325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251400">
                  <a:off x="-445320" y="37648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251400">
                  <a:off x="-447480" y="382464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251400">
                  <a:off x="-438120" y="388548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251400">
                  <a:off x="-439920" y="392112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251400">
                  <a:off x="-464040" y="39326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251400">
                  <a:off x="-459360" y="408636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51400">
                  <a:off x="-459360" y="40896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51400">
                  <a:off x="-473040" y="409824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251400">
                  <a:off x="-484920" y="409644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251400">
                  <a:off x="-699840" y="403956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251400">
                  <a:off x="-457560" y="408096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251400">
                  <a:off x="-473400" y="40888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251400">
                  <a:off x="-459000" y="380448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251400">
                  <a:off x="-599760" y="404388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251400">
                  <a:off x="-604800" y="407808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251400">
                  <a:off x="-464400" y="409860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932400">
                  <a:off x="-421200" y="405540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251400">
                  <a:off x="-462240" y="388836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3" name="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194" name="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197" name="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201" name="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399000">
                  <a:off x="-1375560" y="252900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399000">
                  <a:off x="-1055880" y="228384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399000">
                  <a:off x="-1074960" y="257724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399000">
                  <a:off x="-1101960" y="25833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399000">
                  <a:off x="-1313280" y="252144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399000">
                  <a:off x="-1067760" y="229212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399000">
                  <a:off x="-1216080" y="252756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1080000">
                  <a:off x="-1035720" y="254628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7" name=""/>
          <p:cNvGrpSpPr/>
          <p:nvPr/>
        </p:nvGrpSpPr>
        <p:grpSpPr>
          <a:xfrm>
            <a:off x="-850320" y="3619080"/>
            <a:ext cx="450000" cy="645840"/>
            <a:chOff x="-850320" y="3619080"/>
            <a:chExt cx="450000" cy="645840"/>
          </a:xfrm>
        </p:grpSpPr>
        <p:sp>
          <p:nvSpPr>
            <p:cNvPr id="238" name=""/>
            <p:cNvSpPr/>
            <p:nvPr/>
          </p:nvSpPr>
          <p:spPr>
            <a:xfrm rot="20032800">
              <a:off x="-601200" y="3812760"/>
              <a:ext cx="71280" cy="1548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-850320" y="3619080"/>
              <a:ext cx="450000" cy="645840"/>
              <a:chOff x="-850320" y="3619080"/>
              <a:chExt cx="450000" cy="64584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-648000" y="3813480"/>
                <a:ext cx="199800" cy="451440"/>
                <a:chOff x="-648000" y="3813480"/>
                <a:chExt cx="199800" cy="451440"/>
              </a:xfrm>
            </p:grpSpPr>
            <p:sp>
              <p:nvSpPr>
                <p:cNvPr id="241" name=""/>
                <p:cNvSpPr/>
                <p:nvPr/>
              </p:nvSpPr>
              <p:spPr>
                <a:xfrm rot="20032800">
                  <a:off x="-639000" y="3824280"/>
                  <a:ext cx="63000" cy="550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20032800">
                  <a:off x="-565560" y="3853800"/>
                  <a:ext cx="32040" cy="3020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20576400">
                  <a:off x="-498960" y="4128480"/>
                  <a:ext cx="31680" cy="134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-850320" y="3619080"/>
                <a:ext cx="450000" cy="416880"/>
                <a:chOff x="-850320" y="3619080"/>
                <a:chExt cx="450000" cy="416880"/>
              </a:xfrm>
            </p:grpSpPr>
            <p:sp>
              <p:nvSpPr>
                <p:cNvPr id="245" name=""/>
                <p:cNvSpPr/>
                <p:nvPr/>
              </p:nvSpPr>
              <p:spPr>
                <a:xfrm rot="20032800">
                  <a:off x="-706320" y="3863520"/>
                  <a:ext cx="110160" cy="5256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20032800">
                  <a:off x="-783000" y="3898800"/>
                  <a:ext cx="189720" cy="4716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20032800">
                  <a:off x="-817920" y="3861360"/>
                  <a:ext cx="197640" cy="4716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20032800">
                  <a:off x="-846720" y="3848040"/>
                  <a:ext cx="205560" cy="6300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20032800">
                  <a:off x="-835200" y="3826080"/>
                  <a:ext cx="204480" cy="802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20032800">
                  <a:off x="-814320" y="3817080"/>
                  <a:ext cx="197640" cy="788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20032800">
                  <a:off x="-786240" y="3764880"/>
                  <a:ext cx="149040" cy="1260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20032800">
                  <a:off x="-809280" y="37785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20032800">
                  <a:off x="-777960" y="37893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20032800">
                  <a:off x="-809640" y="3730320"/>
                  <a:ext cx="182880" cy="17064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flipV="1">
                  <a:off x="-782280" y="3766320"/>
                  <a:ext cx="196920" cy="9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20032800">
                  <a:off x="-734760" y="3726000"/>
                  <a:ext cx="110520" cy="1735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20032800">
                  <a:off x="-715680" y="3708720"/>
                  <a:ext cx="85680" cy="17856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0032800">
                  <a:off x="-690840" y="3692520"/>
                  <a:ext cx="5724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20032800">
                  <a:off x="-655920" y="3677040"/>
                  <a:ext cx="28440" cy="2019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20032800">
                  <a:off x="-659880" y="3651120"/>
                  <a:ext cx="33120" cy="2192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20032800">
                  <a:off x="-636840" y="3671640"/>
                  <a:ext cx="31320" cy="19764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20032800">
                  <a:off x="-627480" y="3686040"/>
                  <a:ext cx="55080" cy="165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20032800">
                  <a:off x="-649800" y="3632760"/>
                  <a:ext cx="110520" cy="205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20032800">
                  <a:off x="-640440" y="3663000"/>
                  <a:ext cx="142200" cy="1738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20032800">
                  <a:off x="-626040" y="3691800"/>
                  <a:ext cx="165960" cy="134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20032800">
                  <a:off x="-622080" y="3709080"/>
                  <a:ext cx="189720" cy="1105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20032800">
                  <a:off x="-634320" y="3715560"/>
                  <a:ext cx="221400" cy="1105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20032800">
                  <a:off x="-597240" y="3832920"/>
                  <a:ext cx="135360" cy="151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20032800">
                  <a:off x="-591480" y="3844080"/>
                  <a:ext cx="94680" cy="2340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20032800">
                  <a:off x="-588240" y="3860640"/>
                  <a:ext cx="63000" cy="4716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032800">
                  <a:off x="-592920" y="3867480"/>
                  <a:ext cx="45000" cy="532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20032800">
                  <a:off x="-756720" y="3882600"/>
                  <a:ext cx="158040" cy="122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20032800">
                  <a:off x="-601200" y="3823560"/>
                  <a:ext cx="158040" cy="972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20032800">
                  <a:off x="-590760" y="3842280"/>
                  <a:ext cx="110520" cy="6300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20032800">
                  <a:off x="-642600" y="3688920"/>
                  <a:ext cx="5760" cy="1818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20032800">
                  <a:off x="-669240" y="3860640"/>
                  <a:ext cx="94680" cy="102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20032800">
                  <a:off x="-650160" y="3881520"/>
                  <a:ext cx="86760" cy="1422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20032800">
                  <a:off x="-564480" y="3855240"/>
                  <a:ext cx="55080" cy="1184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0714400">
                  <a:off x="-581040" y="3818160"/>
                  <a:ext cx="71280" cy="154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0032800">
                  <a:off x="-632520" y="3732480"/>
                  <a:ext cx="47520" cy="1263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96296E-006 C 1.94444E-006 0.04676 0.25052 0.08264 0.55538 0.08264 C 0.86944 0.08264 1.11996 0.04676 1.11996 -2.96296E-006 C 1.11996 -0.04676 1.37031 -0.08264 1.68455 -0.08264 C 1.98941 -0.08264 2.23993 -0.04676 2.23993 -2.96296E-006 E">
                                      <p:cBhvr>
                                        <p:cTn id="2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9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94444E-006 -2.96296E-006 C 1.94444E-006 0.04676 0.25052 0.08264 0.55538 0.08264 C 0.86944 0.08264 1.11996 0.04676 1.11996 -2.96296E-006 C 1.11996 -0.04676 1.37031 -0.08264 1.68455 -0.08264 C 1.98941 -0.08264 2.23993 -0.04676 2.23993 -2.96296E-006 E">
                                      <p:cBhvr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32194E-006 3.26087E-007 C 0.0785 -0.05876 0.25799 -0.31997 0.47166 -0.35292 C 0.68511 -0.38587 1.1129 -0.22996 1.2818 -0.19769 E">
                                      <p:cBhvr>
                                        <p:cTn id="28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30" dur="5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32" dur="5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1268E-007 2.6087E-006 C 0.08842 -0.02718 0.3118 -0.13417 0.5301 -0.16339 C 0.7484 -0.1926 1.14774 -0.17324 1.31025 -0.17561 E">
                                      <p:cBhvr>
                                        <p:cTn id="34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440" y="3240"/>
            <a:ext cx="7199640" cy="47037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040360" y="826920"/>
            <a:ext cx="201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梦想装上一个螺旋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俯视大地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心装上一双翅膀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一起去飞翔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天空装上一扇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去星辰徜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44360" y="2217600"/>
            <a:ext cx="2592360" cy="148428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495000" y="1408680"/>
            <a:ext cx="874800" cy="735120"/>
            <a:chOff x="495000" y="1408680"/>
            <a:chExt cx="874800" cy="735120"/>
          </a:xfrm>
        </p:grpSpPr>
        <p:sp>
          <p:nvSpPr>
            <p:cNvPr id="285" name=""/>
            <p:cNvSpPr/>
            <p:nvPr/>
          </p:nvSpPr>
          <p:spPr>
            <a:xfrm rot="2931600">
              <a:off x="1040040" y="179964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495000" y="1408680"/>
              <a:ext cx="874800" cy="735120"/>
              <a:chOff x="495000" y="1408680"/>
              <a:chExt cx="874800" cy="73512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495000" y="1701720"/>
                <a:ext cx="597600" cy="442080"/>
                <a:chOff x="495000" y="1701720"/>
                <a:chExt cx="597600" cy="442080"/>
              </a:xfrm>
            </p:grpSpPr>
            <p:sp>
              <p:nvSpPr>
                <p:cNvPr id="288" name=""/>
                <p:cNvSpPr/>
                <p:nvPr/>
              </p:nvSpPr>
              <p:spPr>
                <a:xfrm rot="2931600">
                  <a:off x="985320" y="17226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2931600">
                  <a:off x="812520" y="168156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3475200">
                  <a:off x="567720" y="197244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768240" y="1408680"/>
                <a:ext cx="601560" cy="619200"/>
                <a:chOff x="768240" y="1408680"/>
                <a:chExt cx="601560" cy="619200"/>
              </a:xfrm>
            </p:grpSpPr>
            <p:sp>
              <p:nvSpPr>
                <p:cNvPr id="292" name=""/>
                <p:cNvSpPr/>
                <p:nvPr/>
              </p:nvSpPr>
              <p:spPr>
                <a:xfrm rot="2931600">
                  <a:off x="880920" y="16772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2931600">
                  <a:off x="761760" y="164196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2931600">
                  <a:off x="797040" y="15832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2931600">
                  <a:off x="789480" y="153432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2931600">
                  <a:off x="812880" y="153108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2931600">
                  <a:off x="838440" y="155412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2931600">
                  <a:off x="916200" y="151452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2931600">
                  <a:off x="885960" y="151236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931600">
                  <a:off x="882720" y="15616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2931600">
                  <a:off x="906480" y="14670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1025280" y="1483200"/>
                  <a:ext cx="62280" cy="3171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2931600">
                  <a:off x="978840" y="151848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2931600">
                  <a:off x="1020960" y="15184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2931600">
                  <a:off x="1060920" y="15217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2931600">
                  <a:off x="1102320" y="153792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2931600">
                  <a:off x="1123200" y="15166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2931600">
                  <a:off x="1119600" y="156780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2931600">
                  <a:off x="1112040" y="162072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2931600">
                  <a:off x="1121040" y="15868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2931600">
                  <a:off x="1087200" y="1650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2931600">
                  <a:off x="1066320" y="172116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2931600">
                  <a:off x="1047240" y="176292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2931600">
                  <a:off x="1015560" y="177048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2931600">
                  <a:off x="978480" y="185868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2931600">
                  <a:off x="980280" y="183852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2931600">
                  <a:off x="959040" y="181368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2931600">
                  <a:off x="952560" y="179352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rot="2931600">
                  <a:off x="836280" y="166896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2931600">
                  <a:off x="981000" y="18691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2931600">
                  <a:off x="946800" y="18280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2931600">
                  <a:off x="1117800" y="155628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2931600">
                  <a:off x="871560" y="169020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2931600">
                  <a:off x="825120" y="169848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2931600">
                  <a:off x="929520" y="18003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3612600">
                  <a:off x="1040400" y="183060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2931600">
                  <a:off x="1076760" y="164700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05644E-007 -4.55285E-006 C 0.08995 0.01457 0.32716 0.09147 0.53968 0.08673 C 0.75198 0.08198 1.12081 -0.00406 1.27337 -0.02777 E">
                                      <p:cBhvr>
                                        <p:cTn id="51" dur="5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26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44360" y="287352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47640" y="539640"/>
            <a:ext cx="288144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把曾经握在手心不放也不舍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平摊了晒在阳光下的诗篇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怎么也撕不碎梦想中的缠绵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用笔尖细吐生活的心酸和甘甜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留在夕去的日子怀念今天的当年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时光的尾巴看似很长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不知道何时的一瞬间就定格在了永远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画着世人看不见的光环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人生就此别过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对错不重要功过也成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-905760" y="2221920"/>
            <a:ext cx="682200" cy="934920"/>
            <a:chOff x="-905760" y="2221920"/>
            <a:chExt cx="682200" cy="934920"/>
          </a:xfrm>
        </p:grpSpPr>
        <p:sp>
          <p:nvSpPr>
            <p:cNvPr id="332" name=""/>
            <p:cNvSpPr/>
            <p:nvPr/>
          </p:nvSpPr>
          <p:spPr>
            <a:xfrm rot="251400">
              <a:off x="-533520" y="250632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-905760" y="2221920"/>
              <a:ext cx="682200" cy="934920"/>
              <a:chOff x="-905760" y="2221920"/>
              <a:chExt cx="682200" cy="93492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-700200" y="2483280"/>
                <a:ext cx="191160" cy="673560"/>
                <a:chOff x="-700200" y="2483280"/>
                <a:chExt cx="191160" cy="673560"/>
              </a:xfrm>
            </p:grpSpPr>
            <p:sp>
              <p:nvSpPr>
                <p:cNvPr id="335" name=""/>
                <p:cNvSpPr/>
                <p:nvPr/>
              </p:nvSpPr>
              <p:spPr>
                <a:xfrm rot="251400">
                  <a:off x="-604080" y="248652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1400">
                  <a:off x="-621720" y="254196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795000">
                  <a:off x="-677880" y="295668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-905760" y="2221920"/>
                <a:ext cx="682200" cy="542520"/>
                <a:chOff x="-905760" y="2221920"/>
                <a:chExt cx="682200" cy="542520"/>
              </a:xfrm>
            </p:grpSpPr>
            <p:sp>
              <p:nvSpPr>
                <p:cNvPr id="339" name=""/>
                <p:cNvSpPr/>
                <p:nvPr/>
              </p:nvSpPr>
              <p:spPr>
                <a:xfrm rot="251400">
                  <a:off x="-721800" y="250380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1400">
                  <a:off x="-851400" y="252216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251400">
                  <a:off x="-869400" y="24508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251400">
                  <a:off x="-902520" y="241380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251400">
                  <a:off x="-878760" y="239220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251400">
                  <a:off x="-843480" y="239472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251400">
                  <a:off x="-781200" y="2327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251400">
                  <a:off x="-817560" y="233748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251400">
                  <a:off x="-785520" y="237456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251400">
                  <a:off x="-805680" y="2273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>
                  <a:off x="-715320" y="228816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251400">
                  <a:off x="-701280" y="229608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251400">
                  <a:off x="-663480" y="22780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251400">
                  <a:off x="-621000" y="226440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251400">
                  <a:off x="-567720" y="2259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251400">
                  <a:off x="-559800" y="222300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251400">
                  <a:off x="-537480" y="226800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251400">
                  <a:off x="-527040" y="230544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251400">
                  <a:off x="-535680" y="223776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251400">
                  <a:off x="-537840" y="229752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251400">
                  <a:off x="-528480" y="235836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251400">
                  <a:off x="-529920" y="23936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rot="251400">
                  <a:off x="-554400" y="240552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251400">
                  <a:off x="-549720" y="255924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251400">
                  <a:off x="-549720" y="256212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251400">
                  <a:off x="-563400" y="257076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251400">
                  <a:off x="-575280" y="2568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251400">
                  <a:off x="-790200" y="251244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251400">
                  <a:off x="-547920" y="255384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251400">
                  <a:off x="-563760" y="256176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251400">
                  <a:off x="-549360" y="227736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251400">
                  <a:off x="-690120" y="251676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251400">
                  <a:off x="-695160" y="25509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251400">
                  <a:off x="-554760" y="257112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932400">
                  <a:off x="-511560" y="252828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rot="251400">
                  <a:off x="-552600" y="236124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65" dur="5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7201080" cy="4762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4176720" y="291636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392720" y="468360"/>
            <a:ext cx="259236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梦想在青春里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放肆、张扬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把世界随心所欲地翻转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青春，是一朵艳丽的花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梦想在花蕊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妖冶地飞舞歌唱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迷失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那上演着繁华不肯谢幕的年华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-745560" y="3160080"/>
            <a:ext cx="682200" cy="934920"/>
            <a:chOff x="-745560" y="3160080"/>
            <a:chExt cx="682200" cy="934920"/>
          </a:xfrm>
        </p:grpSpPr>
        <p:sp>
          <p:nvSpPr>
            <p:cNvPr id="379" name=""/>
            <p:cNvSpPr/>
            <p:nvPr/>
          </p:nvSpPr>
          <p:spPr>
            <a:xfrm rot="251400">
              <a:off x="-373320" y="344448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-745560" y="3160080"/>
              <a:ext cx="682200" cy="934920"/>
              <a:chOff x="-745560" y="3160080"/>
              <a:chExt cx="682200" cy="93492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-540000" y="3421440"/>
                <a:ext cx="191160" cy="673560"/>
                <a:chOff x="-540000" y="3421440"/>
                <a:chExt cx="191160" cy="673560"/>
              </a:xfrm>
            </p:grpSpPr>
            <p:sp>
              <p:nvSpPr>
                <p:cNvPr id="382" name=""/>
                <p:cNvSpPr/>
                <p:nvPr/>
              </p:nvSpPr>
              <p:spPr>
                <a:xfrm rot="251400">
                  <a:off x="-443880" y="342468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251400">
                  <a:off x="-461520" y="348012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795000">
                  <a:off x="-517680" y="389484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-745560" y="3160080"/>
                <a:ext cx="682200" cy="542520"/>
                <a:chOff x="-745560" y="3160080"/>
                <a:chExt cx="682200" cy="542520"/>
              </a:xfrm>
            </p:grpSpPr>
            <p:sp>
              <p:nvSpPr>
                <p:cNvPr id="386" name=""/>
                <p:cNvSpPr/>
                <p:nvPr/>
              </p:nvSpPr>
              <p:spPr>
                <a:xfrm rot="251400">
                  <a:off x="-561600" y="344196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251400">
                  <a:off x="-691200" y="346032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rot="251400">
                  <a:off x="-709200" y="338904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251400">
                  <a:off x="-742320" y="33519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251400">
                  <a:off x="-718560" y="333036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251400">
                  <a:off x="-683280" y="333288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251400">
                  <a:off x="-621000" y="32652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rot="251400">
                  <a:off x="-657360" y="327564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rot="251400">
                  <a:off x="-625320" y="331272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rot="251400">
                  <a:off x="-645480" y="32112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>
                  <a:off x="-555120" y="322632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251400">
                  <a:off x="-541080" y="323424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251400">
                  <a:off x="-503280" y="321624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251400">
                  <a:off x="-460800" y="32025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251400">
                  <a:off x="-407520" y="319752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251400">
                  <a:off x="-399600" y="316116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251400">
                  <a:off x="-377280" y="320616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251400">
                  <a:off x="-366840" y="324360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rot="251400">
                  <a:off x="-375480" y="31759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rot="251400">
                  <a:off x="-377640" y="323568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251400">
                  <a:off x="-368280" y="329652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251400">
                  <a:off x="-369720" y="333180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251400">
                  <a:off x="-394200" y="334368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251400">
                  <a:off x="-389520" y="34974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251400">
                  <a:off x="-389520" y="350028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251400">
                  <a:off x="-403200" y="350892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251400">
                  <a:off x="-415080" y="350712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rot="251400">
                  <a:off x="-630000" y="34506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rot="251400">
                  <a:off x="-387720" y="349200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251400">
                  <a:off x="-403560" y="349992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rot="251400">
                  <a:off x="-389160" y="321552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rot="251400">
                  <a:off x="-529920" y="34549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rot="251400">
                  <a:off x="-534960" y="348912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251400">
                  <a:off x="-394560" y="350928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932400">
                  <a:off x="-351360" y="346644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251400">
                  <a:off x="-392400" y="329940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74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2232000" y="301788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032360" y="468360"/>
            <a:ext cx="230508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生活的精彩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是由于梦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生命的延续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是由于梦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再泥泞的道路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也无法阻拦我的前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因为就在不远的前方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有一道通向梦想的曙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206040" y="1333080"/>
            <a:ext cx="681840" cy="934920"/>
            <a:chOff x="6206040" y="1333080"/>
            <a:chExt cx="681840" cy="934920"/>
          </a:xfrm>
        </p:grpSpPr>
        <p:sp>
          <p:nvSpPr>
            <p:cNvPr id="426" name=""/>
            <p:cNvSpPr/>
            <p:nvPr/>
          </p:nvSpPr>
          <p:spPr>
            <a:xfrm rot="251400">
              <a:off x="6577560" y="161748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6206040" y="1333080"/>
              <a:ext cx="681840" cy="934920"/>
              <a:chOff x="6206040" y="1333080"/>
              <a:chExt cx="681840" cy="93492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6411240" y="1594080"/>
                <a:ext cx="190800" cy="673920"/>
                <a:chOff x="6411240" y="1594080"/>
                <a:chExt cx="190800" cy="673920"/>
              </a:xfrm>
            </p:grpSpPr>
            <p:sp>
              <p:nvSpPr>
                <p:cNvPr id="429" name=""/>
                <p:cNvSpPr/>
                <p:nvPr/>
              </p:nvSpPr>
              <p:spPr>
                <a:xfrm rot="251400">
                  <a:off x="6506640" y="159732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251400">
                  <a:off x="6489000" y="165312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795000">
                  <a:off x="6433200" y="206784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6206040" y="1333080"/>
                <a:ext cx="681840" cy="542520"/>
                <a:chOff x="6206040" y="1333080"/>
                <a:chExt cx="681840" cy="542520"/>
              </a:xfrm>
            </p:grpSpPr>
            <p:sp>
              <p:nvSpPr>
                <p:cNvPr id="433" name=""/>
                <p:cNvSpPr/>
                <p:nvPr/>
              </p:nvSpPr>
              <p:spPr>
                <a:xfrm rot="251400">
                  <a:off x="6389280" y="161496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251400">
                  <a:off x="6259680" y="163296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251400">
                  <a:off x="6241680" y="156204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251400">
                  <a:off x="6208920" y="15249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251400">
                  <a:off x="6232320" y="150336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251400">
                  <a:off x="6267600" y="150588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251400">
                  <a:off x="6329880" y="14382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251400">
                  <a:off x="6293520" y="144864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251400">
                  <a:off x="6325560" y="148536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251400">
                  <a:off x="6305400" y="13842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H="1" flipV="1">
                  <a:off x="6396120" y="139932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251400">
                  <a:off x="6409800" y="140724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251400">
                  <a:off x="6447600" y="138924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251400">
                  <a:off x="6490080" y="13755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251400">
                  <a:off x="6543360" y="137052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251400">
                  <a:off x="6551280" y="133416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251400">
                  <a:off x="6573600" y="137916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251400">
                  <a:off x="6584040" y="141660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251400">
                  <a:off x="6575400" y="13489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251400">
                  <a:off x="6573240" y="140868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251400">
                  <a:off x="6582600" y="146952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251400">
                  <a:off x="6581160" y="150480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251400">
                  <a:off x="6556680" y="151668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rot="251400">
                  <a:off x="6561360" y="16704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251400">
                  <a:off x="6561360" y="167328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251400">
                  <a:off x="6547680" y="168192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rot="251400">
                  <a:off x="6535800" y="168012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251400">
                  <a:off x="6320880" y="16236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rot="251400">
                  <a:off x="6563160" y="166500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rot="251400">
                  <a:off x="6547320" y="167292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251400">
                  <a:off x="6561720" y="138852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251400">
                  <a:off x="6420960" y="16279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251400">
                  <a:off x="6415920" y="166212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251400">
                  <a:off x="6556320" y="168228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932400">
                  <a:off x="6599520" y="163944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251400">
                  <a:off x="6558480" y="147240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866E-006 -1.43631E-006 C 0.13073 -0.0603 0.5926 -0.29946 0.78461 -0.3628 C 0.97663 -0.42615 1.07584 -0.37703 1.15256 -0.38076 E">
                                      <p:cBhvr>
                                        <p:cTn id="108" dur="5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936720" y="468360"/>
            <a:ext cx="295272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喜欢阳光的孩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都向往自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喜欢这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云淡风轻的日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把自己化作一架纸飞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伴着风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飘逸在空气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划出一道优美的弧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载满快乐和幸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向远方</a:t>
            </a:r>
            <a:r>
              <a:rPr b="0" lang="en-US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…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84360" y="3017880"/>
            <a:ext cx="2592360" cy="148428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473" name="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476" name="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480" name="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399000">
                  <a:off x="-1375560" y="252900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399000">
                  <a:off x="-1055880" y="228384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399000">
                  <a:off x="-1074960" y="257724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rot="399000">
                  <a:off x="-1101960" y="25833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rot="399000">
                  <a:off x="-1313280" y="252144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399000">
                  <a:off x="-1067760" y="229212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399000">
                  <a:off x="-1216080" y="252756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080000">
                  <a:off x="-1035720" y="254628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167" dur="5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720720" y="1476360"/>
            <a:ext cx="5961240" cy="13032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5113440" y="3484440"/>
            <a:ext cx="2087640" cy="11955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98280" y="-36360"/>
            <a:ext cx="4559400" cy="475272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-830520" y="3203640"/>
            <a:ext cx="685080" cy="929160"/>
            <a:chOff x="-830520" y="3203640"/>
            <a:chExt cx="685080" cy="929160"/>
          </a:xfrm>
        </p:grpSpPr>
        <p:sp>
          <p:nvSpPr>
            <p:cNvPr id="521" name=""/>
            <p:cNvSpPr/>
            <p:nvPr/>
          </p:nvSpPr>
          <p:spPr>
            <a:xfrm rot="399000">
              <a:off x="-459360" y="34902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-830520" y="3203640"/>
              <a:ext cx="685080" cy="929160"/>
              <a:chOff x="-830520" y="3203640"/>
              <a:chExt cx="685080" cy="92916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-653040" y="3462120"/>
                <a:ext cx="219240" cy="670680"/>
                <a:chOff x="-653040" y="3462120"/>
                <a:chExt cx="219240" cy="670680"/>
              </a:xfrm>
            </p:grpSpPr>
            <p:sp>
              <p:nvSpPr>
                <p:cNvPr id="524" name=""/>
                <p:cNvSpPr/>
                <p:nvPr/>
              </p:nvSpPr>
              <p:spPr>
                <a:xfrm rot="399000">
                  <a:off x="-530280" y="346716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399000">
                  <a:off x="-558000" y="352080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942600">
                  <a:off x="-627120" y="393300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-830520" y="3203640"/>
                <a:ext cx="685080" cy="540720"/>
                <a:chOff x="-830520" y="3203640"/>
                <a:chExt cx="685080" cy="540720"/>
              </a:xfrm>
            </p:grpSpPr>
            <p:sp>
              <p:nvSpPr>
                <p:cNvPr id="528" name=""/>
                <p:cNvSpPr/>
                <p:nvPr/>
              </p:nvSpPr>
              <p:spPr>
                <a:xfrm rot="399000">
                  <a:off x="-648720" y="34808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399000">
                  <a:off x="-778680" y="349596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rot="399000">
                  <a:off x="-793440" y="34246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399000">
                  <a:off x="-825840" y="33861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399000">
                  <a:off x="-801360" y="33656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399000">
                  <a:off x="-766800" y="336960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399000">
                  <a:off x="-703080" y="33030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399000">
                  <a:off x="-739440" y="331236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399000">
                  <a:off x="-708480" y="335088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399000">
                  <a:off x="-726480" y="32490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 flipV="1">
                  <a:off x="-631440" y="3262320"/>
                  <a:ext cx="166680" cy="2764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rot="399000">
                  <a:off x="-623160" y="327420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399000">
                  <a:off x="-584640" y="32572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399000">
                  <a:off x="-542160" y="32443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rot="399000">
                  <a:off x="-489240" y="3240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rot="399000">
                  <a:off x="-480240" y="32050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rot="399000">
                  <a:off x="-459000" y="325080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399000">
                  <a:off x="-448920" y="328932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399000">
                  <a:off x="-456120" y="32230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399000">
                  <a:off x="-460440" y="328356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399000">
                  <a:off x="-452520" y="334548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rot="399000">
                  <a:off x="-454320" y="33818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rot="399000">
                  <a:off x="-479160" y="339300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rot="399000">
                  <a:off x="-478080" y="35442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399000">
                  <a:off x="-478080" y="35460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399000">
                  <a:off x="-493560" y="35532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rot="399000">
                  <a:off x="-505080" y="3549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rot="399000">
                  <a:off x="-716400" y="34884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399000">
                  <a:off x="-475920" y="353988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rot="399000">
                  <a:off x="-493560" y="354564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399000">
                  <a:off x="-470880" y="325908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399000">
                  <a:off x="-619200" y="34945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rot="399000">
                  <a:off x="-626760" y="35283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rot="399000">
                  <a:off x="-487080" y="355356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rot="1080000">
                  <a:off x="-438840" y="351324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rot="399000">
                  <a:off x="-475560" y="334368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4" name=""/>
          <p:cNvGrpSpPr/>
          <p:nvPr/>
        </p:nvGrpSpPr>
        <p:grpSpPr>
          <a:xfrm>
            <a:off x="-815400" y="3749040"/>
            <a:ext cx="682200" cy="935640"/>
            <a:chOff x="-815400" y="3749040"/>
            <a:chExt cx="682200" cy="935640"/>
          </a:xfrm>
        </p:grpSpPr>
        <p:sp>
          <p:nvSpPr>
            <p:cNvPr id="565" name=""/>
            <p:cNvSpPr/>
            <p:nvPr/>
          </p:nvSpPr>
          <p:spPr>
            <a:xfrm rot="251400">
              <a:off x="-443160" y="40338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-815400" y="3749040"/>
              <a:ext cx="682200" cy="935640"/>
              <a:chOff x="-815400" y="3749040"/>
              <a:chExt cx="682200" cy="93564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-609840" y="4010400"/>
                <a:ext cx="191160" cy="674280"/>
                <a:chOff x="-609840" y="4010400"/>
                <a:chExt cx="191160" cy="674280"/>
              </a:xfrm>
            </p:grpSpPr>
            <p:sp>
              <p:nvSpPr>
                <p:cNvPr id="568" name=""/>
                <p:cNvSpPr/>
                <p:nvPr/>
              </p:nvSpPr>
              <p:spPr>
                <a:xfrm rot="251400">
                  <a:off x="-513720" y="401364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251400">
                  <a:off x="-531360" y="406908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795000">
                  <a:off x="-587520" y="448416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-815400" y="3749040"/>
                <a:ext cx="682200" cy="542880"/>
                <a:chOff x="-815400" y="3749040"/>
                <a:chExt cx="682200" cy="542880"/>
              </a:xfrm>
            </p:grpSpPr>
            <p:sp>
              <p:nvSpPr>
                <p:cNvPr id="572" name=""/>
                <p:cNvSpPr/>
                <p:nvPr/>
              </p:nvSpPr>
              <p:spPr>
                <a:xfrm rot="251400">
                  <a:off x="-631440" y="403092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rot="251400">
                  <a:off x="-761040" y="404928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251400">
                  <a:off x="-779040" y="397836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251400">
                  <a:off x="-812160" y="394128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rot="251400">
                  <a:off x="-788400" y="391968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251400">
                  <a:off x="-753120" y="39218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251400">
                  <a:off x="-690840" y="385416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rot="251400">
                  <a:off x="-727200" y="38646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251400">
                  <a:off x="-695160" y="390204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251400">
                  <a:off x="-715320" y="380016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 flipV="1">
                  <a:off x="-625320" y="3815640"/>
                  <a:ext cx="178560" cy="2692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rot="251400">
                  <a:off x="-610920" y="382320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rot="251400">
                  <a:off x="-573120" y="380520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251400">
                  <a:off x="-530640" y="37915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251400">
                  <a:off x="-477360" y="378648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251400">
                  <a:off x="-469440" y="3750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rot="251400">
                  <a:off x="-447120" y="379512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51400">
                  <a:off x="-436680" y="38325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rot="251400">
                  <a:off x="-445320" y="37648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rot="251400">
                  <a:off x="-447480" y="382464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51400">
                  <a:off x="-438120" y="388548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251400">
                  <a:off x="-439920" y="392112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rot="251400">
                  <a:off x="-464040" y="39326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251400">
                  <a:off x="-459360" y="408636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rot="251400">
                  <a:off x="-459360" y="40896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rot="251400">
                  <a:off x="-473040" y="409824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251400">
                  <a:off x="-484920" y="409644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251400">
                  <a:off x="-699840" y="403956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251400">
                  <a:off x="-457560" y="408096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251400">
                  <a:off x="-473400" y="40888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251400">
                  <a:off x="-459000" y="380448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rot="251400">
                  <a:off x="-599760" y="404388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rot="251400">
                  <a:off x="-604800" y="407808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rot="251400">
                  <a:off x="-464400" y="409860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932400">
                  <a:off x="-421200" y="405540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rot="251400">
                  <a:off x="-462240" y="388836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08" name="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609" name="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612" name="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616" name="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399000">
                  <a:off x="-1375560" y="252900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399000">
                  <a:off x="-1055880" y="228384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rot="399000">
                  <a:off x="-1074960" y="257724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rot="399000">
                  <a:off x="-1101960" y="25833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rot="399000">
                  <a:off x="-1313280" y="252144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rot="399000">
                  <a:off x="-1067760" y="229212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399000">
                  <a:off x="-1216080" y="252756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080000">
                  <a:off x="-1035720" y="254628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2" name=""/>
          <p:cNvGrpSpPr/>
          <p:nvPr/>
        </p:nvGrpSpPr>
        <p:grpSpPr>
          <a:xfrm>
            <a:off x="-850320" y="3619080"/>
            <a:ext cx="450000" cy="645840"/>
            <a:chOff x="-850320" y="3619080"/>
            <a:chExt cx="450000" cy="645840"/>
          </a:xfrm>
        </p:grpSpPr>
        <p:sp>
          <p:nvSpPr>
            <p:cNvPr id="653" name=""/>
            <p:cNvSpPr/>
            <p:nvPr/>
          </p:nvSpPr>
          <p:spPr>
            <a:xfrm rot="20032800">
              <a:off x="-601200" y="3812760"/>
              <a:ext cx="71280" cy="1548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-850320" y="3619080"/>
              <a:ext cx="450000" cy="645840"/>
              <a:chOff x="-850320" y="3619080"/>
              <a:chExt cx="450000" cy="64584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-648000" y="3813480"/>
                <a:ext cx="199800" cy="451440"/>
                <a:chOff x="-648000" y="3813480"/>
                <a:chExt cx="199800" cy="451440"/>
              </a:xfrm>
            </p:grpSpPr>
            <p:sp>
              <p:nvSpPr>
                <p:cNvPr id="656" name=""/>
                <p:cNvSpPr/>
                <p:nvPr/>
              </p:nvSpPr>
              <p:spPr>
                <a:xfrm rot="20032800">
                  <a:off x="-639000" y="3824280"/>
                  <a:ext cx="63000" cy="550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rot="20032800">
                  <a:off x="-565560" y="3853800"/>
                  <a:ext cx="32040" cy="3020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rot="20576400">
                  <a:off x="-498960" y="4128480"/>
                  <a:ext cx="31680" cy="134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-850320" y="3619080"/>
                <a:ext cx="450000" cy="416880"/>
                <a:chOff x="-850320" y="3619080"/>
                <a:chExt cx="450000" cy="416880"/>
              </a:xfrm>
            </p:grpSpPr>
            <p:sp>
              <p:nvSpPr>
                <p:cNvPr id="660" name=""/>
                <p:cNvSpPr/>
                <p:nvPr/>
              </p:nvSpPr>
              <p:spPr>
                <a:xfrm rot="20032800">
                  <a:off x="-706320" y="3863520"/>
                  <a:ext cx="110160" cy="5256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rot="20032800">
                  <a:off x="-783000" y="3898800"/>
                  <a:ext cx="189720" cy="4716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rot="20032800">
                  <a:off x="-817920" y="3861360"/>
                  <a:ext cx="197640" cy="4716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rot="20032800">
                  <a:off x="-846720" y="3848040"/>
                  <a:ext cx="205560" cy="6300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rot="20032800">
                  <a:off x="-835200" y="3826080"/>
                  <a:ext cx="204480" cy="802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rot="20032800">
                  <a:off x="-814320" y="3817080"/>
                  <a:ext cx="197640" cy="788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rot="20032800">
                  <a:off x="-786240" y="3764880"/>
                  <a:ext cx="149040" cy="1260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rot="20032800">
                  <a:off x="-809280" y="37785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rot="20032800">
                  <a:off x="-777960" y="37893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rot="20032800">
                  <a:off x="-809640" y="3730320"/>
                  <a:ext cx="182880" cy="17064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 flipV="1">
                  <a:off x="-782280" y="3766320"/>
                  <a:ext cx="196920" cy="9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rot="20032800">
                  <a:off x="-734760" y="3726000"/>
                  <a:ext cx="110520" cy="1735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rot="20032800">
                  <a:off x="-715680" y="3708720"/>
                  <a:ext cx="85680" cy="17856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rot="20032800">
                  <a:off x="-690840" y="3692520"/>
                  <a:ext cx="5724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rot="20032800">
                  <a:off x="-655920" y="3677040"/>
                  <a:ext cx="28440" cy="2019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rot="20032800">
                  <a:off x="-659880" y="3651120"/>
                  <a:ext cx="33120" cy="2192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rot="20032800">
                  <a:off x="-636840" y="3671640"/>
                  <a:ext cx="31320" cy="19764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rot="20032800">
                  <a:off x="-627480" y="3686040"/>
                  <a:ext cx="55080" cy="165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20032800">
                  <a:off x="-649800" y="3632760"/>
                  <a:ext cx="110520" cy="205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rot="20032800">
                  <a:off x="-640440" y="3663000"/>
                  <a:ext cx="142200" cy="1738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rot="20032800">
                  <a:off x="-626040" y="3691800"/>
                  <a:ext cx="165960" cy="134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rot="20032800">
                  <a:off x="-622080" y="3709080"/>
                  <a:ext cx="189720" cy="1105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20032800">
                  <a:off x="-634320" y="3715560"/>
                  <a:ext cx="221400" cy="1105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20032800">
                  <a:off x="-597240" y="3832920"/>
                  <a:ext cx="135360" cy="151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20032800">
                  <a:off x="-591480" y="3844080"/>
                  <a:ext cx="94680" cy="2340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rot="20032800">
                  <a:off x="-588240" y="3860640"/>
                  <a:ext cx="63000" cy="4716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rot="20032800">
                  <a:off x="-592920" y="3867480"/>
                  <a:ext cx="45000" cy="532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rot="20032800">
                  <a:off x="-756720" y="3882600"/>
                  <a:ext cx="158040" cy="122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rot="20032800">
                  <a:off x="-601200" y="3823560"/>
                  <a:ext cx="158040" cy="972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rot="20032800">
                  <a:off x="-590760" y="3842280"/>
                  <a:ext cx="110520" cy="6300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rot="20032800">
                  <a:off x="-642600" y="3688920"/>
                  <a:ext cx="5760" cy="1818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rot="20032800">
                  <a:off x="-669240" y="3860640"/>
                  <a:ext cx="94680" cy="102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rot="20032800">
                  <a:off x="-650160" y="3881520"/>
                  <a:ext cx="86760" cy="1422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20032800">
                  <a:off x="-564480" y="3855240"/>
                  <a:ext cx="55080" cy="1184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rot="20714400">
                  <a:off x="-581040" y="3818160"/>
                  <a:ext cx="71280" cy="154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rot="20032800">
                  <a:off x="-632520" y="3732480"/>
                  <a:ext cx="47520" cy="1263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30000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32194E-006 3.26087E-007 C 0.0785 -0.05876 0.25799 -0.31997 0.47166 -0.35292 C 0.68511 -0.38587 1.1129 -0.22996 1.2818 -0.19769 E">
                                      <p:cBhvr>
                                        <p:cTn id="179" dur="5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181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183" dur="5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1268E-007 2.6087E-006 C 0.08842 -0.02718 0.3118 -0.13417 0.5301 -0.16339 C 0.7484 -0.1926 1.14774 -0.17324 1.31025 -0.17561 E">
                                      <p:cBhvr>
                                        <p:cTn id="185" dur="5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4:20:13Z</dcterms:created>
  <dc:creator>jones keller</dc:creator>
  <dc:description/>
  <cp:keywords/>
  <dc:language>en-US</dc:language>
  <cp:lastModifiedBy>微软用户</cp:lastModifiedBy>
  <cp:lastPrinted>1899-12-30T00:00:00Z</cp:lastPrinted>
  <dcterms:modified xsi:type="dcterms:W3CDTF">2011-12-22T09:22:42Z</dcterms:modified>
  <cp:revision>1266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