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9AD-3E87-4B4D-B7AC-BCA8FD77DE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素材天下网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909-7986-4A18-950F-613EA28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76E-274F-4E4A-955F-FE469EB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D4D-3141-41BB-9A0E-FDC4EA57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3B8-05C9-40C0-BF6A-5797FA61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FBA-BE19-40DA-9D78-B81BD4C9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383-5771-440F-996A-A1E1452F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591-2988-4CCF-A77A-5EE30C3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7EC-7E39-4682-AE32-BFB303C3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E17-4738-4D98-A343-11D2B127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7F1-80FF-4C76-A634-9313BFB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3C7-DC2F-4898-A1E1-507642A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B2A-BAC7-464F-B2FD-BFF6294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5641-2312-45F9-9F8C-2972417B6EFB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3.png"/>
          <p:cNvPicPr/>
          <p:nvPr/>
        </p:nvPicPr>
        <p:blipFill>
          <a:blip r:embed="rId2"/>
          <a:stretch/>
        </p:blipFill>
        <p:spPr>
          <a:xfrm rot="21189000">
            <a:off x="2214720" y="333000"/>
            <a:ext cx="4338360" cy="5381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2.png"/>
          <p:cNvPicPr/>
          <p:nvPr/>
        </p:nvPicPr>
        <p:blipFill>
          <a:blip r:embed="rId3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6" dur="6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3.png"/>
          <p:cNvPicPr/>
          <p:nvPr/>
        </p:nvPicPr>
        <p:blipFill>
          <a:blip r:embed="rId2"/>
          <a:stretch/>
        </p:blipFill>
        <p:spPr>
          <a:xfrm rot="21288600">
            <a:off x="2214720" y="333360"/>
            <a:ext cx="4338360" cy="5381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2.png"/>
          <p:cNvPicPr/>
          <p:nvPr/>
        </p:nvPicPr>
        <p:blipFill>
          <a:blip r:embed="rId3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3184560" y="1995480"/>
            <a:ext cx="481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的情人节到了，还记得我们的许诺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209760" y="2568600"/>
            <a:ext cx="4521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与你共度今生，爱到永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8" descr="4.png"/>
          <p:cNvPicPr/>
          <p:nvPr/>
        </p:nvPicPr>
        <p:blipFill>
          <a:blip r:embed="rId4"/>
          <a:stretch/>
        </p:blipFill>
        <p:spPr>
          <a:xfrm>
            <a:off x="0" y="0"/>
            <a:ext cx="451656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5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0" descr="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5.png"/>
          <p:cNvPicPr/>
          <p:nvPr/>
        </p:nvPicPr>
        <p:blipFill>
          <a:blip r:embed="rId3"/>
          <a:stretch/>
        </p:blipFill>
        <p:spPr>
          <a:xfrm>
            <a:off x="693720" y="530280"/>
            <a:ext cx="3083040" cy="4654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2.png"/>
          <p:cNvPicPr/>
          <p:nvPr/>
        </p:nvPicPr>
        <p:blipFill>
          <a:blip r:embed="rId4"/>
          <a:stretch/>
        </p:blipFill>
        <p:spPr>
          <a:xfrm>
            <a:off x="0" y="41148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184560" y="1995480"/>
            <a:ext cx="468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浪漫的情人节到了，还记得我们的许诺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209760" y="2568600"/>
            <a:ext cx="4521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与你共度今生，爱到永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4.png"/>
          <p:cNvPicPr/>
          <p:nvPr/>
        </p:nvPicPr>
        <p:blipFill>
          <a:blip r:embed="rId5"/>
          <a:stretch/>
        </p:blipFill>
        <p:spPr>
          <a:xfrm>
            <a:off x="0" y="0"/>
            <a:ext cx="451656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6.png"/>
          <p:cNvPicPr/>
          <p:nvPr/>
        </p:nvPicPr>
        <p:blipFill>
          <a:blip r:embed="rId6"/>
          <a:stretch/>
        </p:blipFill>
        <p:spPr>
          <a:xfrm>
            <a:off x="3643200" y="830160"/>
            <a:ext cx="5021280" cy="446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7"/>
          <a:stretch/>
        </p:blipFill>
        <p:spPr>
          <a:xfrm>
            <a:off x="3274920" y="4856040"/>
            <a:ext cx="25941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8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7:39:44Z</dcterms:created>
  <dc:creator>锐普</dc:creator>
  <dc:description/>
  <dc:language>en-US</dc:language>
  <cp:lastModifiedBy>user</cp:lastModifiedBy>
  <dcterms:modified xsi:type="dcterms:W3CDTF">2011-05-21T03:09:34Z</dcterms:modified>
  <cp:revision>25</cp:revision>
  <dc:subject/>
  <dc:title>情人节</dc:title>
</cp:coreProperties>
</file>