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82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82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333000"/>
            <a:ext cx="8218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82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82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300160" indent="-822708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04840" indent="-823176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8304840" indent="-823176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8304840" indent="-823176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8304840" indent="-823176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8304840" indent="-8231760">
              <a:spcAft>
                <a:spcPts val="601"/>
              </a:spcAft>
              <a:buClr>
                <a:srgbClr val="ffffff"/>
              </a:buClr>
              <a:buSzPct val="25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7" descr=""/>
          <p:cNvPicPr/>
          <p:nvPr/>
        </p:nvPicPr>
        <p:blipFill>
          <a:blip r:embed="rId1"/>
          <a:srcRect l="0" t="11246" r="33463" b="-1261"/>
          <a:stretch/>
        </p:blipFill>
        <p:spPr>
          <a:xfrm>
            <a:off x="0" y="2349360"/>
            <a:ext cx="5291280" cy="45086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1640" y="3933360"/>
            <a:ext cx="410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</a:rPr>
              <a:t>行政人力资源部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4c4c"/>
                </a:solidFill>
                <a:latin typeface="微软雅黑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副标题 2"/>
          <p:cNvSpPr/>
          <p:nvPr/>
        </p:nvSpPr>
        <p:spPr>
          <a:xfrm>
            <a:off x="4572000" y="580536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2011</a:t>
            </a: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072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99ff"/>
                </a:solidFill>
                <a:latin typeface="微软雅黑"/>
                <a:ea typeface="微软雅黑"/>
              </a:rPr>
              <a:t>2012</a:t>
            </a:r>
            <a:r>
              <a:rPr b="1" lang="zh-CN" sz="6600" spc="-1" strike="noStrike">
                <a:solidFill>
                  <a:srgbClr val="3399ff"/>
                </a:solidFill>
                <a:latin typeface="微软雅黑"/>
                <a:ea typeface="微软雅黑"/>
              </a:rPr>
              <a:t>年应届毕业生</a:t>
            </a:r>
            <a:br>
              <a:rPr sz="6600"/>
            </a:br>
            <a:r>
              <a:rPr b="1" lang="zh-CN" sz="6600" spc="-1" strike="noStrike">
                <a:solidFill>
                  <a:srgbClr val="3399ff"/>
                </a:solidFill>
                <a:latin typeface="微软雅黑"/>
                <a:ea typeface="微软雅黑"/>
              </a:rPr>
              <a:t>培训方案</a:t>
            </a:r>
            <a:endParaRPr b="1" lang="en-US" sz="66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56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58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61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64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1"/>
          <a:stretch/>
        </p:blipFill>
        <p:spPr>
          <a:xfrm>
            <a:off x="639720" y="3009960"/>
            <a:ext cx="1330200" cy="58104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69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AutoShape 27"/>
            <p:cNvSpPr/>
            <p:nvPr/>
          </p:nvSpPr>
          <p:spPr>
            <a:xfrm flipH="1" flipV="1" rot="4780800">
              <a:off x="135036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70"/>
          <p:cNvSpPr/>
          <p:nvPr/>
        </p:nvSpPr>
        <p:spPr>
          <a:xfrm>
            <a:off x="611280" y="3411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职业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训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8"/>
          <p:cNvSpPr/>
          <p:nvPr/>
        </p:nvSpPr>
        <p:spPr>
          <a:xfrm>
            <a:off x="2916360" y="1557360"/>
            <a:ext cx="230328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与定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8"/>
          <p:cNvSpPr/>
          <p:nvPr/>
        </p:nvSpPr>
        <p:spPr>
          <a:xfrm>
            <a:off x="2916360" y="249228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8"/>
          <p:cNvSpPr/>
          <p:nvPr/>
        </p:nvSpPr>
        <p:spPr>
          <a:xfrm>
            <a:off x="2916360" y="342900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力与情绪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8"/>
          <p:cNvSpPr/>
          <p:nvPr/>
        </p:nvSpPr>
        <p:spPr>
          <a:xfrm>
            <a:off x="2916360" y="4365720"/>
            <a:ext cx="230328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沟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48"/>
          <p:cNvSpPr/>
          <p:nvPr/>
        </p:nvSpPr>
        <p:spPr>
          <a:xfrm>
            <a:off x="2916360" y="5300640"/>
            <a:ext cx="230328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道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化训练由人力资源部组织协调实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84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86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89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92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4" descr=""/>
          <p:cNvPicPr/>
          <p:nvPr/>
        </p:nvPicPr>
        <p:blipFill>
          <a:blip r:embed="rId1"/>
          <a:stretch/>
        </p:blipFill>
        <p:spPr>
          <a:xfrm>
            <a:off x="639720" y="3009960"/>
            <a:ext cx="1330200" cy="58104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97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27"/>
            <p:cNvSpPr/>
            <p:nvPr/>
          </p:nvSpPr>
          <p:spPr>
            <a:xfrm flipH="1" flipV="1" rot="4780800">
              <a:off x="135036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Oval 35"/>
          <p:cNvSpPr/>
          <p:nvPr/>
        </p:nvSpPr>
        <p:spPr>
          <a:xfrm>
            <a:off x="631800" y="4653000"/>
            <a:ext cx="134640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70"/>
          <p:cNvSpPr/>
          <p:nvPr/>
        </p:nvSpPr>
        <p:spPr>
          <a:xfrm>
            <a:off x="611280" y="3411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产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实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料机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工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设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检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研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线实习由工程技术中心按材料和加工两个专业统筹安排，本科生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，研究生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。在轮岗时应特别注意知识产权保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考核与评估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2158920" y="4714920"/>
            <a:ext cx="441972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Freeform 6"/>
          <p:cNvSpPr/>
          <p:nvPr/>
        </p:nvSpPr>
        <p:spPr>
          <a:xfrm>
            <a:off x="5283360" y="3359160"/>
            <a:ext cx="9360" cy="4680"/>
          </a:xfrm>
          <a:custGeom>
            <a:avLst/>
            <a:gdLst>
              <a:gd name="textAreaLeft" fmla="*/ 0 w 9360"/>
              <a:gd name="textAreaRight" fmla="*/ 9720 w 9360"/>
              <a:gd name="textAreaTop" fmla="*/ 0 h 4680"/>
              <a:gd name="textAreaBottom" fmla="*/ 4680 h 4680"/>
            </a:gdLst>
            <a:ahLst/>
            <a:rect l="textAreaLeft" t="textAreaTop" r="textAreaRight" b="textAreaBottom"/>
            <a:pathLst>
              <a:path w="1" h="4763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7"/>
          <p:cNvSpPr/>
          <p:nvPr/>
        </p:nvSpPr>
        <p:spPr>
          <a:xfrm>
            <a:off x="3222720" y="3854520"/>
            <a:ext cx="2498760" cy="1239840"/>
          </a:xfrm>
          <a:custGeom>
            <a:avLst/>
            <a:gdLst>
              <a:gd name="textAreaLeft" fmla="*/ 0 w 2498760"/>
              <a:gd name="textAreaRight" fmla="*/ 2499120 w 249876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250" h="124">
                <a:moveTo>
                  <a:pt x="201" y="54"/>
                </a:moveTo>
                <a:cubicBezTo>
                  <a:pt x="135" y="110"/>
                  <a:pt x="51" y="122"/>
                  <a:pt x="0" y="86"/>
                </a:cubicBezTo>
                <a:cubicBezTo>
                  <a:pt x="26" y="108"/>
                  <a:pt x="68" y="124"/>
                  <a:pt x="133" y="105"/>
                </a:cubicBezTo>
                <a:cubicBezTo>
                  <a:pt x="181" y="91"/>
                  <a:pt x="223" y="55"/>
                  <a:pt x="250" y="12"/>
                </a:cubicBezTo>
                <a:cubicBezTo>
                  <a:pt x="247" y="0"/>
                  <a:pt x="247" y="0"/>
                  <a:pt x="247" y="0"/>
                </a:cubicBezTo>
                <a:cubicBezTo>
                  <a:pt x="235" y="19"/>
                  <a:pt x="219" y="38"/>
                  <a:pt x="201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8"/>
          <p:cNvSpPr/>
          <p:nvPr/>
        </p:nvSpPr>
        <p:spPr>
          <a:xfrm>
            <a:off x="5591160" y="2136600"/>
            <a:ext cx="530280" cy="1689120"/>
          </a:xfrm>
          <a:custGeom>
            <a:avLst/>
            <a:gdLst>
              <a:gd name="textAreaLeft" fmla="*/ 0 w 530280"/>
              <a:gd name="textAreaRight" fmla="*/ 530640 w 53028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53" h="169">
                <a:moveTo>
                  <a:pt x="13" y="13"/>
                </a:moveTo>
                <a:cubicBezTo>
                  <a:pt x="44" y="49"/>
                  <a:pt x="44" y="105"/>
                  <a:pt x="19" y="156"/>
                </a:cubicBezTo>
                <a:cubicBezTo>
                  <a:pt x="19" y="156"/>
                  <a:pt x="19" y="156"/>
                  <a:pt x="19" y="156"/>
                </a:cubicBezTo>
                <a:cubicBezTo>
                  <a:pt x="21" y="169"/>
                  <a:pt x="21" y="169"/>
                  <a:pt x="21" y="169"/>
                </a:cubicBezTo>
                <a:cubicBezTo>
                  <a:pt x="53" y="108"/>
                  <a:pt x="53" y="39"/>
                  <a:pt x="0" y="0"/>
                </a:cubicBezTo>
                <a:cubicBezTo>
                  <a:pt x="5" y="4"/>
                  <a:pt x="9" y="8"/>
                  <a:pt x="1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9"/>
          <p:cNvSpPr/>
          <p:nvPr/>
        </p:nvSpPr>
        <p:spPr>
          <a:xfrm>
            <a:off x="3138480" y="3619440"/>
            <a:ext cx="4680" cy="11160"/>
          </a:xfrm>
          <a:custGeom>
            <a:avLst/>
            <a:gdLst>
              <a:gd name="textAreaLeft" fmla="*/ 0 w 4680"/>
              <a:gd name="textAreaRight" fmla="*/ 4680 w 4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763" h="1">
                <a:moveTo>
                  <a:pt x="0" y="1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10"/>
          <p:cNvSpPr/>
          <p:nvPr/>
        </p:nvSpPr>
        <p:spPr>
          <a:xfrm>
            <a:off x="4152960" y="2025720"/>
            <a:ext cx="90360" cy="388800"/>
          </a:xfrm>
          <a:custGeom>
            <a:avLst/>
            <a:gdLst>
              <a:gd name="textAreaLeft" fmla="*/ 0 w 90360"/>
              <a:gd name="textAreaRight" fmla="*/ 90720 w 903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9" h="39">
                <a:moveTo>
                  <a:pt x="6" y="39"/>
                </a:moveTo>
                <a:cubicBezTo>
                  <a:pt x="9" y="11"/>
                  <a:pt x="9" y="11"/>
                  <a:pt x="9" y="11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31"/>
                  <a:pt x="0" y="31"/>
                  <a:pt x="0" y="31"/>
                </a:cubicBezTo>
                <a:lnTo>
                  <a:pt x="6" y="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11"/>
          <p:cNvSpPr/>
          <p:nvPr/>
        </p:nvSpPr>
        <p:spPr>
          <a:xfrm>
            <a:off x="2854440" y="3984480"/>
            <a:ext cx="409320" cy="209520"/>
          </a:xfrm>
          <a:custGeom>
            <a:avLst/>
            <a:gdLst>
              <a:gd name="textAreaLeft" fmla="*/ 0 w 409320"/>
              <a:gd name="textAreaRight" fmla="*/ 409680 w 4093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1" h="21">
                <a:moveTo>
                  <a:pt x="41" y="0"/>
                </a:moveTo>
                <a:cubicBezTo>
                  <a:pt x="33" y="0"/>
                  <a:pt x="33" y="0"/>
                  <a:pt x="33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1"/>
                  <a:pt x="8" y="20"/>
                  <a:pt x="8" y="20"/>
                </a:cubicBezTo>
                <a:lnTo>
                  <a:pt x="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12"/>
          <p:cNvSpPr/>
          <p:nvPr/>
        </p:nvSpPr>
        <p:spPr>
          <a:xfrm>
            <a:off x="2692440" y="2035080"/>
            <a:ext cx="1500120" cy="214812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2148120"/>
              <a:gd name="textAreaBottom" fmla="*/ 2148480 h 2148120"/>
            </a:gdLst>
            <a:ahLst/>
            <a:rect l="textAreaLeft" t="textAreaTop" r="textAreaRight" b="textAreaBottom"/>
            <a:pathLst>
              <a:path w="150" h="215">
                <a:moveTo>
                  <a:pt x="95" y="65"/>
                </a:moveTo>
                <a:cubicBezTo>
                  <a:pt x="111" y="49"/>
                  <a:pt x="128" y="38"/>
                  <a:pt x="146" y="30"/>
                </a:cubicBezTo>
                <a:cubicBezTo>
                  <a:pt x="146" y="30"/>
                  <a:pt x="146" y="30"/>
                  <a:pt x="146" y="30"/>
                </a:cubicBezTo>
                <a:cubicBezTo>
                  <a:pt x="146" y="29"/>
                  <a:pt x="146" y="29"/>
                  <a:pt x="146" y="29"/>
                </a:cubicBezTo>
                <a:cubicBezTo>
                  <a:pt x="150" y="0"/>
                  <a:pt x="150" y="0"/>
                  <a:pt x="150" y="0"/>
                </a:cubicBezTo>
                <a:cubicBezTo>
                  <a:pt x="128" y="8"/>
                  <a:pt x="105" y="22"/>
                  <a:pt x="85" y="39"/>
                </a:cubicBezTo>
                <a:cubicBezTo>
                  <a:pt x="26" y="90"/>
                  <a:pt x="0" y="161"/>
                  <a:pt x="16" y="215"/>
                </a:cubicBezTo>
                <a:cubicBezTo>
                  <a:pt x="49" y="195"/>
                  <a:pt x="49" y="195"/>
                  <a:pt x="49" y="195"/>
                </a:cubicBezTo>
                <a:cubicBezTo>
                  <a:pt x="37" y="157"/>
                  <a:pt x="54" y="104"/>
                  <a:pt x="95" y="65"/>
                </a:cubicBezTo>
                <a:close/>
              </a:path>
            </a:pathLst>
          </a:custGeom>
          <a:solidFill>
            <a:srgbClr val="00a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13"/>
          <p:cNvSpPr/>
          <p:nvPr/>
        </p:nvSpPr>
        <p:spPr>
          <a:xfrm>
            <a:off x="2892600" y="3645000"/>
            <a:ext cx="2798640" cy="1430280"/>
          </a:xfrm>
          <a:custGeom>
            <a:avLst/>
            <a:gdLst>
              <a:gd name="textAreaLeft" fmla="*/ 0 w 2798640"/>
              <a:gd name="textAreaRight" fmla="*/ 2799000 w 2798640"/>
              <a:gd name="textAreaTop" fmla="*/ 0 h 1430280"/>
              <a:gd name="textAreaBottom" fmla="*/ 1430640 h 1430280"/>
            </a:gdLst>
            <a:ahLst/>
            <a:rect l="textAreaLeft" t="textAreaTop" r="textAreaRight" b="textAreaBottom"/>
            <a:pathLst>
              <a:path w="280" h="143">
                <a:moveTo>
                  <a:pt x="234" y="75"/>
                </a:moveTo>
                <a:cubicBezTo>
                  <a:pt x="252" y="59"/>
                  <a:pt x="268" y="40"/>
                  <a:pt x="280" y="21"/>
                </a:cubicBezTo>
                <a:cubicBezTo>
                  <a:pt x="280" y="21"/>
                  <a:pt x="280" y="21"/>
                  <a:pt x="280" y="21"/>
                </a:cubicBezTo>
                <a:cubicBezTo>
                  <a:pt x="280" y="21"/>
                  <a:pt x="242" y="5"/>
                  <a:pt x="231" y="0"/>
                </a:cubicBezTo>
                <a:cubicBezTo>
                  <a:pt x="223" y="12"/>
                  <a:pt x="214" y="24"/>
                  <a:pt x="203" y="35"/>
                </a:cubicBezTo>
                <a:cubicBezTo>
                  <a:pt x="161" y="75"/>
                  <a:pt x="108" y="91"/>
                  <a:pt x="71" y="77"/>
                </a:cubicBezTo>
                <a:cubicBezTo>
                  <a:pt x="61" y="74"/>
                  <a:pt x="52" y="68"/>
                  <a:pt x="45" y="61"/>
                </a:cubicBezTo>
                <a:cubicBezTo>
                  <a:pt x="39" y="56"/>
                  <a:pt x="35" y="50"/>
                  <a:pt x="32" y="43"/>
                </a:cubicBezTo>
                <a:cubicBezTo>
                  <a:pt x="0" y="63"/>
                  <a:pt x="0" y="63"/>
                  <a:pt x="0" y="63"/>
                </a:cubicBezTo>
                <a:cubicBezTo>
                  <a:pt x="4" y="72"/>
                  <a:pt x="14" y="91"/>
                  <a:pt x="33" y="107"/>
                </a:cubicBezTo>
                <a:cubicBezTo>
                  <a:pt x="84" y="143"/>
                  <a:pt x="168" y="131"/>
                  <a:pt x="234" y="75"/>
                </a:cubicBezTo>
                <a:close/>
              </a:path>
            </a:pathLst>
          </a:custGeom>
          <a:solidFill>
            <a:srgbClr val="d1e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14"/>
          <p:cNvSpPr/>
          <p:nvPr/>
        </p:nvSpPr>
        <p:spPr>
          <a:xfrm>
            <a:off x="5283360" y="3486240"/>
            <a:ext cx="520560" cy="339480"/>
          </a:xfrm>
          <a:custGeom>
            <a:avLst/>
            <a:gdLst>
              <a:gd name="textAreaLeft" fmla="*/ 0 w 520560"/>
              <a:gd name="textAreaRight" fmla="*/ 520920 w 5205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52" h="34">
                <a:moveTo>
                  <a:pt x="52" y="34"/>
                </a:moveTo>
                <a:cubicBezTo>
                  <a:pt x="50" y="21"/>
                  <a:pt x="50" y="21"/>
                  <a:pt x="50" y="21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3" y="10"/>
                  <a:pt x="3" y="10"/>
                  <a:pt x="3" y="10"/>
                </a:cubicBezTo>
                <a:lnTo>
                  <a:pt x="5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282920" y="1876320"/>
            <a:ext cx="1751040" cy="181944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175" h="182">
                <a:moveTo>
                  <a:pt x="144" y="39"/>
                </a:moveTo>
                <a:cubicBezTo>
                  <a:pt x="140" y="34"/>
                  <a:pt x="136" y="30"/>
                  <a:pt x="131" y="26"/>
                </a:cubicBezTo>
                <a:cubicBezTo>
                  <a:pt x="119" y="18"/>
                  <a:pt x="105" y="11"/>
                  <a:pt x="89" y="6"/>
                </a:cubicBezTo>
                <a:cubicBezTo>
                  <a:pt x="62" y="0"/>
                  <a:pt x="32" y="2"/>
                  <a:pt x="2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37" y="28"/>
                  <a:pt x="72" y="32"/>
                  <a:pt x="94" y="55"/>
                </a:cubicBezTo>
                <a:cubicBezTo>
                  <a:pt x="100" y="60"/>
                  <a:pt x="104" y="67"/>
                  <a:pt x="107" y="74"/>
                </a:cubicBezTo>
                <a:cubicBezTo>
                  <a:pt x="118" y="98"/>
                  <a:pt x="115" y="130"/>
                  <a:pt x="101" y="161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75" y="131"/>
                  <a:pt x="175" y="75"/>
                  <a:pt x="144" y="39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16"/>
          <p:cNvSpPr/>
          <p:nvPr/>
        </p:nvSpPr>
        <p:spPr>
          <a:xfrm>
            <a:off x="4152960" y="2035080"/>
            <a:ext cx="41040" cy="300240"/>
          </a:xfrm>
          <a:custGeom>
            <a:avLst/>
            <a:gdLst>
              <a:gd name="textAreaLeft" fmla="*/ 0 w 41040"/>
              <a:gd name="textAreaRight" fmla="*/ 41400 w 410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8" h="60">
                <a:moveTo>
                  <a:pt x="0" y="60"/>
                </a:moveTo>
                <a:lnTo>
                  <a:pt x="8" y="0"/>
                </a:lnTo>
                <a:lnTo>
                  <a:pt x="0" y="58"/>
                </a:lnTo>
                <a:lnTo>
                  <a:pt x="0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3063960" y="2336760"/>
            <a:ext cx="1139760" cy="164952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w="114" h="165">
                <a:moveTo>
                  <a:pt x="12" y="165"/>
                </a:moveTo>
                <a:cubicBezTo>
                  <a:pt x="12" y="165"/>
                  <a:pt x="12" y="165"/>
                  <a:pt x="12" y="165"/>
                </a:cubicBezTo>
                <a:cubicBezTo>
                  <a:pt x="20" y="165"/>
                  <a:pt x="20" y="165"/>
                  <a:pt x="20" y="165"/>
                </a:cubicBezTo>
                <a:cubicBezTo>
                  <a:pt x="12" y="142"/>
                  <a:pt x="20" y="112"/>
                  <a:pt x="20" y="112"/>
                </a:cubicBezTo>
                <a:cubicBezTo>
                  <a:pt x="20" y="112"/>
                  <a:pt x="38" y="41"/>
                  <a:pt x="114" y="8"/>
                </a:cubicBezTo>
                <a:cubicBezTo>
                  <a:pt x="109" y="0"/>
                  <a:pt x="109" y="0"/>
                  <a:pt x="109" y="0"/>
                </a:cubicBezTo>
                <a:cubicBezTo>
                  <a:pt x="91" y="8"/>
                  <a:pt x="74" y="19"/>
                  <a:pt x="58" y="35"/>
                </a:cubicBezTo>
                <a:cubicBezTo>
                  <a:pt x="17" y="74"/>
                  <a:pt x="0" y="127"/>
                  <a:pt x="12" y="165"/>
                </a:cubicBez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3213000" y="4076640"/>
            <a:ext cx="392040" cy="339840"/>
          </a:xfrm>
          <a:custGeom>
            <a:avLst/>
            <a:gdLst>
              <a:gd name="textAreaLeft" fmla="*/ 0 w 392040"/>
              <a:gd name="textAreaRight" fmla="*/ 392400 w 39204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39" h="34">
                <a:moveTo>
                  <a:pt x="39" y="34"/>
                </a:moveTo>
                <a:cubicBezTo>
                  <a:pt x="20" y="25"/>
                  <a:pt x="12" y="13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7"/>
                  <a:pt x="7" y="13"/>
                  <a:pt x="13" y="18"/>
                </a:cubicBezTo>
                <a:cubicBezTo>
                  <a:pt x="20" y="25"/>
                  <a:pt x="29" y="31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19"/>
          <p:cNvSpPr/>
          <p:nvPr/>
        </p:nvSpPr>
        <p:spPr>
          <a:xfrm>
            <a:off x="4282920" y="2155680"/>
            <a:ext cx="1071720" cy="460440"/>
          </a:xfrm>
          <a:custGeom>
            <a:avLst/>
            <a:gdLst>
              <a:gd name="textAreaLeft" fmla="*/ 0 w 1071720"/>
              <a:gd name="textAreaRight" fmla="*/ 1072080 w 10717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7" h="4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6" y="21"/>
                  <a:pt x="6" y="21"/>
                  <a:pt x="6" y="21"/>
                </a:cubicBezTo>
                <a:cubicBezTo>
                  <a:pt x="60" y="3"/>
                  <a:pt x="92" y="27"/>
                  <a:pt x="107" y="46"/>
                </a:cubicBezTo>
                <a:cubicBezTo>
                  <a:pt x="104" y="39"/>
                  <a:pt x="100" y="32"/>
                  <a:pt x="94" y="27"/>
                </a:cubicBezTo>
                <a:cubicBezTo>
                  <a:pt x="72" y="4"/>
                  <a:pt x="37" y="0"/>
                  <a:pt x="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5870520" y="1449360"/>
            <a:ext cx="27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技能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2720" y="2989440"/>
            <a:ext cx="2594160" cy="360"/>
            <a:chOff x="612720" y="2989440"/>
            <a:chExt cx="2594160" cy="360"/>
          </a:xfrm>
        </p:grpSpPr>
        <p:sp>
          <p:nvSpPr>
            <p:cNvPr id="329" name="Line 21"/>
            <p:cNvSpPr/>
            <p:nvPr/>
          </p:nvSpPr>
          <p:spPr>
            <a:xfrm>
              <a:off x="612720" y="2989440"/>
              <a:ext cx="2594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12720" y="2989440"/>
              <a:ext cx="259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854520" y="4797360"/>
            <a:ext cx="3384360" cy="360"/>
            <a:chOff x="3854520" y="4797360"/>
            <a:chExt cx="3384360" cy="360"/>
          </a:xfrm>
        </p:grpSpPr>
        <p:sp>
          <p:nvSpPr>
            <p:cNvPr id="332" name="Line 22"/>
            <p:cNvSpPr/>
            <p:nvPr/>
          </p:nvSpPr>
          <p:spPr>
            <a:xfrm>
              <a:off x="3854520" y="4797360"/>
              <a:ext cx="3384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3854520" y="479736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283000" y="1988640"/>
            <a:ext cx="3251520" cy="17640"/>
            <a:chOff x="5283000" y="1988640"/>
            <a:chExt cx="3251520" cy="17640"/>
          </a:xfrm>
        </p:grpSpPr>
        <p:sp>
          <p:nvSpPr>
            <p:cNvPr id="335" name="Line 23"/>
            <p:cNvSpPr/>
            <p:nvPr/>
          </p:nvSpPr>
          <p:spPr>
            <a:xfrm flipV="1">
              <a:off x="5283360" y="1988640"/>
              <a:ext cx="3251160" cy="17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 rot="10800000">
              <a:off x="5283000" y="1988280"/>
              <a:ext cx="325116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Rectangle 24"/>
          <p:cNvSpPr/>
          <p:nvPr/>
        </p:nvSpPr>
        <p:spPr>
          <a:xfrm>
            <a:off x="611280" y="3056040"/>
            <a:ext cx="244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类培训采用笔试方式考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4575240" y="4221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1e751"/>
                </a:solidFill>
                <a:latin typeface="微软雅黑"/>
                <a:ea typeface="微软雅黑"/>
              </a:rPr>
              <a:t>态度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930240" y="242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aef7"/>
                </a:solidFill>
                <a:latin typeface="微软雅黑"/>
                <a:ea typeface="微软雅黑"/>
              </a:rPr>
              <a:t>知识类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5892840" y="2085840"/>
            <a:ext cx="2641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类培训采用实际操作及工作评定、资格评定等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3062160" y="5103720"/>
            <a:ext cx="3252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类培训采用工作述职、导师评鉴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核等方式考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费用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pic>
        <p:nvPicPr>
          <p:cNvPr id="344" name="图片 46" descr=""/>
          <p:cNvPicPr/>
          <p:nvPr/>
        </p:nvPicPr>
        <p:blipFill>
          <a:blip r:embed="rId1"/>
          <a:stretch/>
        </p:blipFill>
        <p:spPr>
          <a:xfrm>
            <a:off x="3808440" y="36003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26"/>
          <p:cNvSpPr/>
          <p:nvPr/>
        </p:nvSpPr>
        <p:spPr>
          <a:xfrm>
            <a:off x="4108320" y="1413000"/>
            <a:ext cx="927360" cy="26431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2"/>
          <p:cNvSpPr/>
          <p:nvPr/>
        </p:nvSpPr>
        <p:spPr>
          <a:xfrm>
            <a:off x="906480" y="230652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5"/>
              <a:gd name="adj4" fmla="val 84745"/>
            </a:avLst>
          </a:prstGeom>
          <a:solidFill>
            <a:srgbClr val="7f7f7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0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含交通、住宿、餐费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费等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1670040" y="4610160"/>
            <a:ext cx="1128600" cy="1133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1870560" y="4975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微软雅黑"/>
              </a:rPr>
              <a:t>外训费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1712880" y="464040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2"/>
          <p:cNvSpPr/>
          <p:nvPr/>
        </p:nvSpPr>
        <p:spPr>
          <a:xfrm>
            <a:off x="5580000" y="227664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5"/>
              <a:gd name="adj4" fmla="val 84745"/>
            </a:avLst>
          </a:prstGeom>
          <a:solidFill>
            <a:srgbClr val="7f7f7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0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含教材开发费、导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津贴、课酬、资料书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费用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6343560" y="4579920"/>
            <a:ext cx="1128960" cy="113184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6544080" y="494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微软雅黑"/>
              </a:rPr>
              <a:t>内训费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9"/>
          <p:cNvSpPr/>
          <p:nvPr/>
        </p:nvSpPr>
        <p:spPr>
          <a:xfrm>
            <a:off x="6386400" y="461016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38" h="499">
                <a:moveTo>
                  <a:pt x="1038" y="499"/>
                </a:moveTo>
                <a:cubicBezTo>
                  <a:pt x="1037" y="223"/>
                  <a:pt x="805" y="0"/>
                  <a:pt x="519" y="0"/>
                </a:cubicBezTo>
                <a:cubicBezTo>
                  <a:pt x="233" y="0"/>
                  <a:pt x="1" y="223"/>
                  <a:pt x="0" y="499"/>
                </a:cubicBezTo>
                <a:cubicBezTo>
                  <a:pt x="132" y="413"/>
                  <a:pt x="315" y="360"/>
                  <a:pt x="519" y="360"/>
                </a:cubicBezTo>
                <a:cubicBezTo>
                  <a:pt x="723" y="360"/>
                  <a:pt x="907" y="413"/>
                  <a:pt x="1038" y="4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1476360" y="5661000"/>
            <a:ext cx="139392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6273720" y="5661000"/>
            <a:ext cx="139392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aef7"/>
                </a:solidFill>
                <a:latin typeface="微软雅黑"/>
              </a:rPr>
              <a:t>Thanks</a:t>
            </a:r>
            <a:r>
              <a:rPr b="1" lang="zh-CN" sz="8000" spc="-1" strike="noStrike">
                <a:solidFill>
                  <a:srgbClr val="00aef7"/>
                </a:solidFill>
                <a:latin typeface="微软雅黑"/>
              </a:rPr>
              <a:t>！</a:t>
            </a:r>
            <a:endParaRPr b="1" lang="en-US" sz="8000" spc="-1" strike="noStrike">
              <a:solidFill>
                <a:srgbClr val="ffff00"/>
              </a:solidFill>
              <a:latin typeface="微软雅黑"/>
            </a:endParaRPr>
          </a:p>
        </p:txBody>
      </p:sp>
      <p:pic>
        <p:nvPicPr>
          <p:cNvPr id="357" name="图片 11" descr=""/>
          <p:cNvPicPr/>
          <p:nvPr/>
        </p:nvPicPr>
        <p:blipFill>
          <a:blip r:embed="rId1"/>
          <a:stretch/>
        </p:blipFill>
        <p:spPr>
          <a:xfrm rot="120000">
            <a:off x="1800360" y="1773000"/>
            <a:ext cx="7343640" cy="508464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079800" y="3911760"/>
            <a:ext cx="2738520" cy="398880"/>
            <a:chOff x="3079800" y="3911760"/>
            <a:chExt cx="2738520" cy="398880"/>
          </a:xfrm>
        </p:grpSpPr>
        <p:sp>
          <p:nvSpPr>
            <p:cNvPr id="359" name="TextBox 12"/>
            <p:cNvSpPr/>
            <p:nvPr/>
          </p:nvSpPr>
          <p:spPr>
            <a:xfrm>
              <a:off x="3513240" y="391176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186889</a:t>
              </a: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0" name="图片 14" descr=""/>
            <p:cNvPicPr/>
            <p:nvPr/>
          </p:nvPicPr>
          <p:blipFill>
            <a:blip r:embed="rId2"/>
            <a:stretch/>
          </p:blipFill>
          <p:spPr>
            <a:xfrm>
              <a:off x="3079800" y="3931560"/>
              <a:ext cx="36000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"/>
          <p:cNvGrpSpPr/>
          <p:nvPr/>
        </p:nvGrpSpPr>
        <p:grpSpPr>
          <a:xfrm>
            <a:off x="3079800" y="4873680"/>
            <a:ext cx="3457440" cy="398880"/>
            <a:chOff x="3079800" y="4873680"/>
            <a:chExt cx="3457440" cy="398880"/>
          </a:xfrm>
        </p:grpSpPr>
        <p:pic>
          <p:nvPicPr>
            <p:cNvPr id="362" name="图片 15" descr=""/>
            <p:cNvPicPr/>
            <p:nvPr/>
          </p:nvPicPr>
          <p:blipFill>
            <a:blip r:embed="rId3"/>
            <a:stretch/>
          </p:blipFill>
          <p:spPr>
            <a:xfrm>
              <a:off x="3079800" y="4893480"/>
              <a:ext cx="360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16"/>
            <p:cNvSpPr/>
            <p:nvPr/>
          </p:nvSpPr>
          <p:spPr>
            <a:xfrm>
              <a:off x="3513240" y="4873680"/>
              <a:ext cx="30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xxxxxxxx</a:t>
              </a: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@163.co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079800" y="4392720"/>
            <a:ext cx="2738520" cy="398880"/>
            <a:chOff x="3079800" y="4392720"/>
            <a:chExt cx="2738520" cy="398880"/>
          </a:xfrm>
        </p:grpSpPr>
        <p:pic>
          <p:nvPicPr>
            <p:cNvPr id="365" name="图片 13" descr=""/>
            <p:cNvPicPr/>
            <p:nvPr/>
          </p:nvPicPr>
          <p:blipFill>
            <a:blip r:embed="rId4"/>
            <a:stretch/>
          </p:blipFill>
          <p:spPr>
            <a:xfrm>
              <a:off x="3079800" y="4412520"/>
              <a:ext cx="360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17"/>
            <p:cNvSpPr/>
            <p:nvPr/>
          </p:nvSpPr>
          <p:spPr>
            <a:xfrm>
              <a:off x="3513240" y="439272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Arial"/>
                </a:rPr>
                <a:t>398864</a:t>
              </a:r>
              <a:r>
                <a:rPr b="0" lang="zh-CN" sz="2000" spc="-1" strike="noStrike">
                  <a:solidFill>
                    <a:srgbClr val="4c4c4c"/>
                  </a:solidFill>
                  <a:latin typeface="Arial"/>
                  <a:ea typeface="宋体"/>
                </a:rPr>
                <a:t>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TextBox 19"/>
          <p:cNvSpPr/>
          <p:nvPr/>
        </p:nvSpPr>
        <p:spPr>
          <a:xfrm>
            <a:off x="4572000" y="2565360"/>
            <a:ext cx="147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XXX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微软雅黑"/>
                <a:ea typeface="微软雅黑"/>
              </a:rPr>
              <a:t>Andy G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图片 21" descr=""/>
          <p:cNvPicPr/>
          <p:nvPr/>
        </p:nvPicPr>
        <p:blipFill>
          <a:blip r:embed="rId5"/>
          <a:stretch/>
        </p:blipFill>
        <p:spPr>
          <a:xfrm>
            <a:off x="6083280" y="2708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 </a:t>
            </a: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1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66560" y="1965240"/>
            <a:ext cx="3745080" cy="663840"/>
            <a:chOff x="466560" y="1965240"/>
            <a:chExt cx="3745080" cy="663840"/>
          </a:xfrm>
        </p:grpSpPr>
        <p:sp>
          <p:nvSpPr>
            <p:cNvPr id="45" name="对角圆角矩形 27"/>
            <p:cNvSpPr/>
            <p:nvPr/>
          </p:nvSpPr>
          <p:spPr>
            <a:xfrm>
              <a:off x="466560" y="197388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TextBox 30"/>
            <p:cNvSpPr/>
            <p:nvPr/>
          </p:nvSpPr>
          <p:spPr>
            <a:xfrm>
              <a:off x="1575360" y="19652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目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直接连接符 36"/>
            <p:cNvSpPr/>
            <p:nvPr/>
          </p:nvSpPr>
          <p:spPr>
            <a:xfrm>
              <a:off x="467280" y="261684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6560" y="3446640"/>
            <a:ext cx="3745080" cy="661680"/>
            <a:chOff x="466560" y="3446640"/>
            <a:chExt cx="3745080" cy="661680"/>
          </a:xfrm>
        </p:grpSpPr>
        <p:sp>
          <p:nvSpPr>
            <p:cNvPr id="49" name="对角圆角矩形 40"/>
            <p:cNvSpPr/>
            <p:nvPr/>
          </p:nvSpPr>
          <p:spPr>
            <a:xfrm>
              <a:off x="466560" y="3455280"/>
              <a:ext cx="676800" cy="6530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TextBox 41"/>
            <p:cNvSpPr/>
            <p:nvPr/>
          </p:nvSpPr>
          <p:spPr>
            <a:xfrm>
              <a:off x="1575360" y="34466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形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直接连接符 42"/>
            <p:cNvSpPr/>
            <p:nvPr/>
          </p:nvSpPr>
          <p:spPr>
            <a:xfrm>
              <a:off x="467280" y="409608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66560" y="4925880"/>
            <a:ext cx="3745080" cy="663840"/>
            <a:chOff x="466560" y="4925880"/>
            <a:chExt cx="3745080" cy="663840"/>
          </a:xfrm>
        </p:grpSpPr>
        <p:sp>
          <p:nvSpPr>
            <p:cNvPr id="53" name="对角圆角矩形 43"/>
            <p:cNvSpPr/>
            <p:nvPr/>
          </p:nvSpPr>
          <p:spPr>
            <a:xfrm>
              <a:off x="466560" y="493452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TextBox 44"/>
            <p:cNvSpPr/>
            <p:nvPr/>
          </p:nvSpPr>
          <p:spPr>
            <a:xfrm>
              <a:off x="1575360" y="492588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流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直接连接符 45"/>
            <p:cNvSpPr/>
            <p:nvPr/>
          </p:nvSpPr>
          <p:spPr>
            <a:xfrm>
              <a:off x="467280" y="5577480"/>
              <a:ext cx="374436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30920" y="1965240"/>
            <a:ext cx="3744720" cy="663840"/>
            <a:chOff x="4930920" y="1965240"/>
            <a:chExt cx="3744720" cy="663840"/>
          </a:xfrm>
        </p:grpSpPr>
        <p:sp>
          <p:nvSpPr>
            <p:cNvPr id="57" name="对角圆角矩形 46"/>
            <p:cNvSpPr/>
            <p:nvPr/>
          </p:nvSpPr>
          <p:spPr>
            <a:xfrm>
              <a:off x="4930920" y="197388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TextBox 47"/>
            <p:cNvSpPr/>
            <p:nvPr/>
          </p:nvSpPr>
          <p:spPr>
            <a:xfrm>
              <a:off x="6039720" y="19652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48"/>
            <p:cNvSpPr/>
            <p:nvPr/>
          </p:nvSpPr>
          <p:spPr>
            <a:xfrm>
              <a:off x="4931640" y="261684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30920" y="3446640"/>
            <a:ext cx="3744720" cy="661680"/>
            <a:chOff x="4930920" y="3446640"/>
            <a:chExt cx="3744720" cy="661680"/>
          </a:xfrm>
        </p:grpSpPr>
        <p:sp>
          <p:nvSpPr>
            <p:cNvPr id="61" name="对角圆角矩形 49"/>
            <p:cNvSpPr/>
            <p:nvPr/>
          </p:nvSpPr>
          <p:spPr>
            <a:xfrm>
              <a:off x="4930920" y="3455280"/>
              <a:ext cx="676800" cy="6530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Box 50"/>
            <p:cNvSpPr/>
            <p:nvPr/>
          </p:nvSpPr>
          <p:spPr>
            <a:xfrm>
              <a:off x="6039720" y="344664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考核评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直接连接符 51"/>
            <p:cNvSpPr/>
            <p:nvPr/>
          </p:nvSpPr>
          <p:spPr>
            <a:xfrm>
              <a:off x="4931640" y="409608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930920" y="4925880"/>
            <a:ext cx="3744720" cy="663840"/>
            <a:chOff x="4930920" y="4925880"/>
            <a:chExt cx="3744720" cy="663840"/>
          </a:xfrm>
        </p:grpSpPr>
        <p:sp>
          <p:nvSpPr>
            <p:cNvPr id="65" name="对角圆角矩形 58"/>
            <p:cNvSpPr/>
            <p:nvPr/>
          </p:nvSpPr>
          <p:spPr>
            <a:xfrm>
              <a:off x="4930920" y="4934520"/>
              <a:ext cx="676800" cy="6552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676722" h="654169">
                  <a:moveTo>
                    <a:pt x="327084" y="0"/>
                  </a:moveTo>
                  <a:lnTo>
                    <a:pt x="676722" y="0"/>
                  </a:lnTo>
                  <a:lnTo>
                    <a:pt x="676722" y="0"/>
                  </a:lnTo>
                  <a:arcTo wR="0" hR="0" stAng="0" swAng="0"/>
                  <a:lnTo>
                    <a:pt x="676722" y="327084"/>
                  </a:lnTo>
                  <a:lnTo>
                    <a:pt x="676722" y="327084"/>
                  </a:lnTo>
                  <a:arcTo wR="327084" hR="327084" stAng="0" swAng="5400000"/>
                  <a:lnTo>
                    <a:pt x="0" y="654169"/>
                  </a:lnTo>
                  <a:lnTo>
                    <a:pt x="0" y="654169"/>
                  </a:lnTo>
                  <a:arcTo wR="0" hR="0" stAng="0" swAng="0"/>
                  <a:lnTo>
                    <a:pt x="0" y="327084"/>
                  </a:lnTo>
                  <a:lnTo>
                    <a:pt x="0" y="327084"/>
                  </a:lnTo>
                  <a:arcTo wR="327084" hR="327084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1e751"/>
                  </a:solidFill>
                  <a:latin typeface="Broadway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59"/>
            <p:cNvSpPr/>
            <p:nvPr/>
          </p:nvSpPr>
          <p:spPr>
            <a:xfrm>
              <a:off x="6039720" y="492588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费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直接连接符 60"/>
            <p:cNvSpPr/>
            <p:nvPr/>
          </p:nvSpPr>
          <p:spPr>
            <a:xfrm>
              <a:off x="4931640" y="5577480"/>
              <a:ext cx="3744000" cy="0"/>
            </a:xfrm>
            <a:prstGeom prst="line">
              <a:avLst/>
            </a:prstGeom>
            <a:ln w="2556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于本方案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与公司签订的三方协议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将有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博士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高分子材料硕士生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高分子材料本科生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财务类硕士生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管理类硕士生入职公司。上述人员皆为应届毕业生。实际报道人数可能有所差别。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了给应届毕业生培训工作提供指导，特制定本方案。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方案以技术类毕业生为主体对象制定，财务类、管理类毕业生除岗位培训内容不同，其余内容大致一致。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10400" y="4851360"/>
            <a:ext cx="848880" cy="1530000"/>
            <a:chOff x="7610400" y="4851360"/>
            <a:chExt cx="848880" cy="1530000"/>
          </a:xfrm>
        </p:grpSpPr>
        <p:sp>
          <p:nvSpPr>
            <p:cNvPr id="72" name="Freeform 6"/>
            <p:cNvSpPr/>
            <p:nvPr/>
          </p:nvSpPr>
          <p:spPr>
            <a:xfrm>
              <a:off x="7816680" y="4851360"/>
              <a:ext cx="397080" cy="3121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7610400" y="5196600"/>
              <a:ext cx="848880" cy="118476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673680" y="4851360"/>
            <a:ext cx="850680" cy="1530000"/>
            <a:chOff x="6673680" y="4851360"/>
            <a:chExt cx="850680" cy="1530000"/>
          </a:xfrm>
        </p:grpSpPr>
        <p:sp>
          <p:nvSpPr>
            <p:cNvPr id="75" name="Freeform 6"/>
            <p:cNvSpPr/>
            <p:nvPr/>
          </p:nvSpPr>
          <p:spPr>
            <a:xfrm>
              <a:off x="6880320" y="4851360"/>
              <a:ext cx="397800" cy="31212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6673680" y="5196600"/>
              <a:ext cx="850680" cy="118476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目的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466560" y="1628640"/>
            <a:ext cx="3857760" cy="190980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新员工了解公司历史、政策、企业文化等，提供讨论交流的平台，缓解初进公司的紧张情绪，使其更快适应公司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 flipH="1" rot="10800000">
            <a:off x="466560" y="3789000"/>
            <a:ext cx="3857760" cy="190980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 flipH="1" flipV="1">
            <a:off x="4746600" y="3788640"/>
            <a:ext cx="3857760" cy="1909800"/>
          </a:xfrm>
          <a:custGeom>
            <a:avLst/>
            <a:gdLst>
              <a:gd name="textAreaLeft" fmla="*/ 360 w 3857760"/>
              <a:gd name="textAreaRight" fmla="*/ 3858480 w 3857760"/>
              <a:gd name="textAreaTop" fmla="*/ -360 h 1909800"/>
              <a:gd name="textAreaBottom" fmla="*/ 190980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 flipV="1" rot="10800000">
            <a:off x="4746600" y="1627560"/>
            <a:ext cx="3857760" cy="1909800"/>
          </a:xfrm>
          <a:custGeom>
            <a:avLst/>
            <a:gdLst>
              <a:gd name="textAreaLeft" fmla="*/ 0 w 3857760"/>
              <a:gd name="textAreaRight" fmla="*/ 3858120 w 3857760"/>
              <a:gd name="textAreaTop" fmla="*/ -360 h 1909800"/>
              <a:gd name="textAreaBottom" fmla="*/ 1909800 h 1909800"/>
            </a:gdLst>
            <a:ahLst/>
            <a:rect l="textAreaLeft" t="textAreaTop" r="textAreaRight" b="textAreaBottom"/>
            <a:pathLst>
              <a:path w="4862" h="2408">
                <a:moveTo>
                  <a:pt x="4862" y="1345"/>
                </a:moveTo>
                <a:lnTo>
                  <a:pt x="4862" y="0"/>
                </a:lnTo>
                <a:lnTo>
                  <a:pt x="0" y="0"/>
                </a:lnTo>
                <a:lnTo>
                  <a:pt x="0" y="2408"/>
                </a:lnTo>
                <a:lnTo>
                  <a:pt x="3731" y="2408"/>
                </a:lnTo>
                <a:lnTo>
                  <a:pt x="3736" y="2353"/>
                </a:lnTo>
                <a:lnTo>
                  <a:pt x="3745" y="2300"/>
                </a:lnTo>
                <a:lnTo>
                  <a:pt x="3755" y="2247"/>
                </a:lnTo>
                <a:lnTo>
                  <a:pt x="3769" y="2193"/>
                </a:lnTo>
                <a:lnTo>
                  <a:pt x="3784" y="2142"/>
                </a:lnTo>
                <a:lnTo>
                  <a:pt x="3803" y="2092"/>
                </a:lnTo>
                <a:lnTo>
                  <a:pt x="3822" y="2044"/>
                </a:lnTo>
                <a:lnTo>
                  <a:pt x="3844" y="1996"/>
                </a:lnTo>
                <a:lnTo>
                  <a:pt x="3868" y="1948"/>
                </a:lnTo>
                <a:lnTo>
                  <a:pt x="3896" y="1904"/>
                </a:lnTo>
                <a:lnTo>
                  <a:pt x="3923" y="1859"/>
                </a:lnTo>
                <a:lnTo>
                  <a:pt x="3954" y="1816"/>
                </a:lnTo>
                <a:lnTo>
                  <a:pt x="3985" y="1775"/>
                </a:lnTo>
                <a:lnTo>
                  <a:pt x="4019" y="1736"/>
                </a:lnTo>
                <a:lnTo>
                  <a:pt x="4055" y="1698"/>
                </a:lnTo>
                <a:lnTo>
                  <a:pt x="4091" y="1661"/>
                </a:lnTo>
                <a:lnTo>
                  <a:pt x="4130" y="1626"/>
                </a:lnTo>
                <a:lnTo>
                  <a:pt x="4170" y="1594"/>
                </a:lnTo>
                <a:lnTo>
                  <a:pt x="4212" y="1563"/>
                </a:lnTo>
                <a:lnTo>
                  <a:pt x="4255" y="1532"/>
                </a:lnTo>
                <a:lnTo>
                  <a:pt x="4300" y="1505"/>
                </a:lnTo>
                <a:lnTo>
                  <a:pt x="4346" y="1479"/>
                </a:lnTo>
                <a:lnTo>
                  <a:pt x="4392" y="1457"/>
                </a:lnTo>
                <a:lnTo>
                  <a:pt x="4440" y="1434"/>
                </a:lnTo>
                <a:lnTo>
                  <a:pt x="4490" y="1416"/>
                </a:lnTo>
                <a:lnTo>
                  <a:pt x="4540" y="1398"/>
                </a:lnTo>
                <a:lnTo>
                  <a:pt x="4591" y="1383"/>
                </a:lnTo>
                <a:lnTo>
                  <a:pt x="4644" y="1371"/>
                </a:lnTo>
                <a:lnTo>
                  <a:pt x="4697" y="1361"/>
                </a:lnTo>
                <a:lnTo>
                  <a:pt x="4752" y="1354"/>
                </a:lnTo>
                <a:lnTo>
                  <a:pt x="4807" y="1349"/>
                </a:lnTo>
                <a:lnTo>
                  <a:pt x="4862" y="1345"/>
                </a:lnTo>
                <a:close/>
              </a:path>
            </a:pathLst>
          </a:custGeom>
          <a:solidFill>
            <a:srgbClr val="00aef7"/>
          </a:solidFill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新员工提供岗位培训，帮助新员工掌握岗位相关的行业知识以及隔膜产品知识。掌握公司产品生产加工工艺及其装置设备，熟悉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研发程序与流程，掌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学的实验方法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3798720" y="2906640"/>
            <a:ext cx="1440000" cy="1440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725400" y="4100400"/>
            <a:ext cx="37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其了解企业的职业发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道，展示公司的发展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力及人才理念，提升应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与公司共同成长的意愿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5651640" y="41004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培训加快应届毕业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“学生”到“职业人士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身份转变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职业化意识与职业技能。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3444840" y="26812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5354640" y="26812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471840" y="4402080"/>
            <a:ext cx="289080" cy="289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292720" y="4416480"/>
            <a:ext cx="289080" cy="288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 flipH="1">
            <a:off x="3924360" y="2997360"/>
            <a:ext cx="122400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形式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3" name="圆角矩形 21"/>
          <p:cNvSpPr/>
          <p:nvPr/>
        </p:nvSpPr>
        <p:spPr>
          <a:xfrm>
            <a:off x="971640" y="1917720"/>
            <a:ext cx="2160360" cy="3384360"/>
          </a:xfrm>
          <a:custGeom>
            <a:avLst/>
            <a:gdLst>
              <a:gd name="textAreaLeft" fmla="*/ 57960 w 2160360"/>
              <a:gd name="textAreaRight" fmla="*/ 2102400 w 216036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36">
                <a:moveTo>
                  <a:pt x="1984" y="0"/>
                </a:moveTo>
                <a:arcTo wR="1984" hR="1984" stAng="16200000" swAng="-5400000"/>
                <a:lnTo>
                  <a:pt x="0" y="31852"/>
                </a:lnTo>
                <a:arcTo wR="1984" hR="1984" stAng="10800000" swAng="-5400000"/>
                <a:lnTo>
                  <a:pt x="19616" y="33836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知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圆角矩形 22"/>
          <p:cNvSpPr/>
          <p:nvPr/>
        </p:nvSpPr>
        <p:spPr>
          <a:xfrm>
            <a:off x="111600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课堂讲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实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自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圆角矩形 23"/>
          <p:cNvSpPr/>
          <p:nvPr/>
        </p:nvSpPr>
        <p:spPr>
          <a:xfrm>
            <a:off x="3492360" y="1917720"/>
            <a:ext cx="2159280" cy="3384360"/>
          </a:xfrm>
          <a:custGeom>
            <a:avLst/>
            <a:gdLst>
              <a:gd name="textAreaLeft" fmla="*/ 57960 w 2159280"/>
              <a:gd name="textAreaRight" fmla="*/ 2101320 w 215928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53">
                <a:moveTo>
                  <a:pt x="1984" y="0"/>
                </a:moveTo>
                <a:arcTo wR="1984" hR="1984" stAng="16200000" swAng="-5400000"/>
                <a:lnTo>
                  <a:pt x="0" y="31869"/>
                </a:lnTo>
                <a:arcTo wR="1984" hR="1984" stAng="10800000" swAng="-5400000"/>
                <a:lnTo>
                  <a:pt x="19616" y="33853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d1e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技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圆角矩形 24"/>
          <p:cNvSpPr/>
          <p:nvPr/>
        </p:nvSpPr>
        <p:spPr>
          <a:xfrm>
            <a:off x="3635280" y="3068640"/>
            <a:ext cx="1873440" cy="2089080"/>
          </a:xfrm>
          <a:custGeom>
            <a:avLst/>
            <a:gdLst>
              <a:gd name="textAreaLeft" fmla="*/ 41040 w 1873440"/>
              <a:gd name="textAreaRight" fmla="*/ 1832400 w 18734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086">
                <a:moveTo>
                  <a:pt x="1619" y="0"/>
                </a:moveTo>
                <a:arcTo wR="1619" hR="1619" stAng="16200000" swAng="-5400000"/>
                <a:lnTo>
                  <a:pt x="0" y="22467"/>
                </a:lnTo>
                <a:arcTo wR="1619" hR="1619" stAng="10800000" swAng="-5400000"/>
                <a:lnTo>
                  <a:pt x="19981" y="24086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实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岗位轮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研究实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圆角矩形 25"/>
          <p:cNvSpPr/>
          <p:nvPr/>
        </p:nvSpPr>
        <p:spPr>
          <a:xfrm>
            <a:off x="6012000" y="1917720"/>
            <a:ext cx="2160360" cy="3384360"/>
          </a:xfrm>
          <a:custGeom>
            <a:avLst/>
            <a:gdLst>
              <a:gd name="textAreaLeft" fmla="*/ 57960 w 2160360"/>
              <a:gd name="textAreaRight" fmla="*/ 2102400 w 2160360"/>
              <a:gd name="textAreaTop" fmla="*/ 57960 h 3384360"/>
              <a:gd name="textAreaBottom" fmla="*/ 3326400 h 3384360"/>
            </a:gdLst>
            <a:ahLst/>
            <a:rect l="textAreaLeft" t="textAreaTop" r="textAreaRight" b="textAreaBottom"/>
            <a:pathLst>
              <a:path w="21600" h="33836">
                <a:moveTo>
                  <a:pt x="1984" y="0"/>
                </a:moveTo>
                <a:arcTo wR="1984" hR="1984" stAng="16200000" swAng="-5400000"/>
                <a:lnTo>
                  <a:pt x="0" y="31852"/>
                </a:lnTo>
                <a:arcTo wR="1984" hR="1984" stAng="10800000" swAng="-5400000"/>
                <a:lnTo>
                  <a:pt x="19616" y="33836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4c4c"/>
                </a:solidFill>
                <a:latin typeface="微软雅黑"/>
                <a:ea typeface="微软雅黑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圆角矩形 26"/>
          <p:cNvSpPr/>
          <p:nvPr/>
        </p:nvSpPr>
        <p:spPr>
          <a:xfrm>
            <a:off x="6156360" y="3068640"/>
            <a:ext cx="1871640" cy="2089080"/>
          </a:xfrm>
          <a:custGeom>
            <a:avLst/>
            <a:gdLst>
              <a:gd name="textAreaLeft" fmla="*/ 41040 w 1871640"/>
              <a:gd name="textAreaRight" fmla="*/ 1830600 w 187164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4109">
                <a:moveTo>
                  <a:pt x="1619" y="0"/>
                </a:moveTo>
                <a:arcTo wR="1619" hR="1619" stAng="16200000" swAng="-5400000"/>
                <a:lnTo>
                  <a:pt x="0" y="22490"/>
                </a:lnTo>
                <a:arcTo wR="1619" hR="1619" stAng="10800000" swAng="-5400000"/>
                <a:lnTo>
                  <a:pt x="19981" y="24109"/>
                </a:lnTo>
                <a:arcTo wR="1619" hR="1619" stAng="5400000" swAng="-5400000"/>
                <a:lnTo>
                  <a:pt x="21600" y="1619"/>
                </a:lnTo>
                <a:arcTo wR="1619" hR="16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拓展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课堂讲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座谈交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4c4c"/>
                </a:solidFill>
                <a:latin typeface="微软雅黑"/>
                <a:ea typeface="微软雅黑"/>
              </a:rPr>
              <a:t>文体活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流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280" y="1183320"/>
            <a:ext cx="3178080" cy="1391760"/>
            <a:chOff x="611280" y="1183320"/>
            <a:chExt cx="3178080" cy="1391760"/>
          </a:xfrm>
        </p:grpSpPr>
        <p:pic>
          <p:nvPicPr>
            <p:cNvPr id="102" name="Picture 47" descr=""/>
            <p:cNvPicPr/>
            <p:nvPr/>
          </p:nvPicPr>
          <p:blipFill>
            <a:blip r:embed="rId1"/>
            <a:stretch/>
          </p:blipFill>
          <p:spPr>
            <a:xfrm>
              <a:off x="611280" y="240840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48"/>
            <p:cNvSpPr/>
            <p:nvPr/>
          </p:nvSpPr>
          <p:spPr>
            <a:xfrm>
              <a:off x="633240" y="1706760"/>
              <a:ext cx="3098880" cy="79704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职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749160" y="1647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rc 9"/>
            <p:cNvSpPr/>
            <p:nvPr/>
          </p:nvSpPr>
          <p:spPr>
            <a:xfrm>
              <a:off x="760320" y="1530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749160" y="1417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972720" y="1183320"/>
              <a:ext cx="128520" cy="369360"/>
              <a:chOff x="972720" y="1183320"/>
              <a:chExt cx="128520" cy="369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002600" y="1350720"/>
                <a:ext cx="68400" cy="201960"/>
                <a:chOff x="1002600" y="1350720"/>
                <a:chExt cx="68400" cy="201960"/>
              </a:xfrm>
            </p:grpSpPr>
            <p:sp>
              <p:nvSpPr>
                <p:cNvPr id="109" name="AutoShape 13"/>
                <p:cNvSpPr/>
                <p:nvPr/>
              </p:nvSpPr>
              <p:spPr>
                <a:xfrm rot="5400000">
                  <a:off x="91656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14"/>
                <p:cNvSpPr/>
                <p:nvPr/>
              </p:nvSpPr>
              <p:spPr>
                <a:xfrm rot="5400000">
                  <a:off x="95472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AutoShape 15"/>
              <p:cNvSpPr/>
              <p:nvPr/>
            </p:nvSpPr>
            <p:spPr>
              <a:xfrm rot="10800000">
                <a:off x="972720" y="1274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6"/>
              <p:cNvSpPr/>
              <p:nvPr/>
            </p:nvSpPr>
            <p:spPr>
              <a:xfrm rot="8100000">
                <a:off x="1004040" y="1197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611280" y="3018600"/>
            <a:ext cx="3178080" cy="1391400"/>
            <a:chOff x="611280" y="3018600"/>
            <a:chExt cx="3178080" cy="1391400"/>
          </a:xfrm>
        </p:grpSpPr>
        <p:pic>
          <p:nvPicPr>
            <p:cNvPr id="114" name="Picture 47" descr=""/>
            <p:cNvPicPr/>
            <p:nvPr/>
          </p:nvPicPr>
          <p:blipFill>
            <a:blip r:embed="rId2"/>
            <a:stretch/>
          </p:blipFill>
          <p:spPr>
            <a:xfrm>
              <a:off x="611280" y="424332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48"/>
            <p:cNvSpPr/>
            <p:nvPr/>
          </p:nvSpPr>
          <p:spPr>
            <a:xfrm>
              <a:off x="633240" y="354168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拓展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749160" y="348300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rc 9"/>
            <p:cNvSpPr/>
            <p:nvPr/>
          </p:nvSpPr>
          <p:spPr>
            <a:xfrm>
              <a:off x="760320" y="336564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49160" y="325296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972720" y="3018600"/>
              <a:ext cx="128520" cy="368640"/>
              <a:chOff x="972720" y="3018600"/>
              <a:chExt cx="128520" cy="3686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002600" y="3185640"/>
                <a:ext cx="68400" cy="201600"/>
                <a:chOff x="1002600" y="3185640"/>
                <a:chExt cx="68400" cy="201600"/>
              </a:xfrm>
            </p:grpSpPr>
            <p:sp>
              <p:nvSpPr>
                <p:cNvPr id="121" name="AutoShape 13"/>
                <p:cNvSpPr/>
                <p:nvPr/>
              </p:nvSpPr>
              <p:spPr>
                <a:xfrm rot="5400000">
                  <a:off x="91692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14"/>
                <p:cNvSpPr/>
                <p:nvPr/>
              </p:nvSpPr>
              <p:spPr>
                <a:xfrm rot="5400000">
                  <a:off x="95508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15"/>
              <p:cNvSpPr/>
              <p:nvPr/>
            </p:nvSpPr>
            <p:spPr>
              <a:xfrm rot="10800000">
                <a:off x="972720" y="311004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6"/>
              <p:cNvSpPr/>
              <p:nvPr/>
            </p:nvSpPr>
            <p:spPr>
              <a:xfrm rot="8100000">
                <a:off x="1004040" y="303228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611280" y="4855320"/>
            <a:ext cx="3178080" cy="1391400"/>
            <a:chOff x="611280" y="4855320"/>
            <a:chExt cx="3178080" cy="1391400"/>
          </a:xfrm>
        </p:grpSpPr>
        <p:pic>
          <p:nvPicPr>
            <p:cNvPr id="126" name="Picture 47" descr=""/>
            <p:cNvPicPr/>
            <p:nvPr/>
          </p:nvPicPr>
          <p:blipFill>
            <a:blip r:embed="rId3"/>
            <a:stretch/>
          </p:blipFill>
          <p:spPr>
            <a:xfrm>
              <a:off x="611280" y="608004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48"/>
            <p:cNvSpPr/>
            <p:nvPr/>
          </p:nvSpPr>
          <p:spPr>
            <a:xfrm>
              <a:off x="633240" y="537840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知识、技能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749160" y="5319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rc 9"/>
            <p:cNvSpPr/>
            <p:nvPr/>
          </p:nvSpPr>
          <p:spPr>
            <a:xfrm>
              <a:off x="760320" y="5202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749160" y="5089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972720" y="4855320"/>
              <a:ext cx="128520" cy="368640"/>
              <a:chOff x="972720" y="4855320"/>
              <a:chExt cx="128520" cy="3686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002600" y="5022360"/>
                <a:ext cx="68400" cy="201600"/>
                <a:chOff x="1002600" y="5022360"/>
                <a:chExt cx="68400" cy="201600"/>
              </a:xfrm>
            </p:grpSpPr>
            <p:sp>
              <p:nvSpPr>
                <p:cNvPr id="133" name="AutoShape 13"/>
                <p:cNvSpPr/>
                <p:nvPr/>
              </p:nvSpPr>
              <p:spPr>
                <a:xfrm rot="5400000">
                  <a:off x="91692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AutoShape 14"/>
                <p:cNvSpPr/>
                <p:nvPr/>
              </p:nvSpPr>
              <p:spPr>
                <a:xfrm rot="5400000">
                  <a:off x="95508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AutoShape 15"/>
              <p:cNvSpPr/>
              <p:nvPr/>
            </p:nvSpPr>
            <p:spPr>
              <a:xfrm rot="10800000">
                <a:off x="972720" y="4946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16"/>
              <p:cNvSpPr/>
              <p:nvPr/>
            </p:nvSpPr>
            <p:spPr>
              <a:xfrm rot="8100000">
                <a:off x="1004040" y="4869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497560" y="1183320"/>
            <a:ext cx="3178080" cy="1391760"/>
            <a:chOff x="5497560" y="1183320"/>
            <a:chExt cx="3178080" cy="1391760"/>
          </a:xfrm>
        </p:grpSpPr>
        <p:pic>
          <p:nvPicPr>
            <p:cNvPr id="138" name="Picture 47" descr=""/>
            <p:cNvPicPr/>
            <p:nvPr/>
          </p:nvPicPr>
          <p:blipFill>
            <a:blip r:embed="rId4"/>
            <a:stretch/>
          </p:blipFill>
          <p:spPr>
            <a:xfrm>
              <a:off x="5497560" y="240840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48"/>
            <p:cNvSpPr/>
            <p:nvPr/>
          </p:nvSpPr>
          <p:spPr>
            <a:xfrm>
              <a:off x="5519520" y="1706760"/>
              <a:ext cx="3098880" cy="79704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职业化培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5635440" y="1647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rc 9"/>
            <p:cNvSpPr/>
            <p:nvPr/>
          </p:nvSpPr>
          <p:spPr>
            <a:xfrm>
              <a:off x="5646600" y="1530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5635440" y="1417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859000" y="1183320"/>
              <a:ext cx="128520" cy="369360"/>
              <a:chOff x="5859000" y="1183320"/>
              <a:chExt cx="128520" cy="369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888880" y="1350720"/>
                <a:ext cx="68400" cy="201960"/>
                <a:chOff x="5888880" y="1350720"/>
                <a:chExt cx="68400" cy="201960"/>
              </a:xfrm>
            </p:grpSpPr>
            <p:sp>
              <p:nvSpPr>
                <p:cNvPr id="145" name="AutoShape 13"/>
                <p:cNvSpPr/>
                <p:nvPr/>
              </p:nvSpPr>
              <p:spPr>
                <a:xfrm rot="5400000">
                  <a:off x="580284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4"/>
                <p:cNvSpPr/>
                <p:nvPr/>
              </p:nvSpPr>
              <p:spPr>
                <a:xfrm rot="5400000">
                  <a:off x="5841000" y="143640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AutoShape 15"/>
              <p:cNvSpPr/>
              <p:nvPr/>
            </p:nvSpPr>
            <p:spPr>
              <a:xfrm rot="10800000">
                <a:off x="5859000" y="1274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AutoShape 16"/>
              <p:cNvSpPr/>
              <p:nvPr/>
            </p:nvSpPr>
            <p:spPr>
              <a:xfrm rot="8100000">
                <a:off x="5890320" y="1197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5508720" y="3018600"/>
            <a:ext cx="3178080" cy="1391400"/>
            <a:chOff x="5508720" y="3018600"/>
            <a:chExt cx="3178080" cy="1391400"/>
          </a:xfrm>
        </p:grpSpPr>
        <p:pic>
          <p:nvPicPr>
            <p:cNvPr id="150" name="Picture 47" descr=""/>
            <p:cNvPicPr/>
            <p:nvPr/>
          </p:nvPicPr>
          <p:blipFill>
            <a:blip r:embed="rId5"/>
            <a:stretch/>
          </p:blipFill>
          <p:spPr>
            <a:xfrm>
              <a:off x="5508720" y="424332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48"/>
            <p:cNvSpPr/>
            <p:nvPr/>
          </p:nvSpPr>
          <p:spPr>
            <a:xfrm>
              <a:off x="5530680" y="354168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岗位实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5646600" y="348300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rc 9"/>
            <p:cNvSpPr/>
            <p:nvPr/>
          </p:nvSpPr>
          <p:spPr>
            <a:xfrm>
              <a:off x="5657760" y="336564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5646600" y="325296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870160" y="3018600"/>
              <a:ext cx="128520" cy="368640"/>
              <a:chOff x="5870160" y="3018600"/>
              <a:chExt cx="128520" cy="3686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900040" y="3185640"/>
                <a:ext cx="68400" cy="201600"/>
                <a:chOff x="5900040" y="3185640"/>
                <a:chExt cx="68400" cy="201600"/>
              </a:xfrm>
            </p:grpSpPr>
            <p:sp>
              <p:nvSpPr>
                <p:cNvPr id="157" name="AutoShape 13"/>
                <p:cNvSpPr/>
                <p:nvPr/>
              </p:nvSpPr>
              <p:spPr>
                <a:xfrm rot="5400000">
                  <a:off x="581436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4"/>
                <p:cNvSpPr/>
                <p:nvPr/>
              </p:nvSpPr>
              <p:spPr>
                <a:xfrm rot="5400000">
                  <a:off x="5852520" y="327132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AutoShape 15"/>
              <p:cNvSpPr/>
              <p:nvPr/>
            </p:nvSpPr>
            <p:spPr>
              <a:xfrm rot="10800000">
                <a:off x="5870160" y="311004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 rot="8100000">
                <a:off x="5901480" y="303228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508720" y="4855320"/>
            <a:ext cx="3178080" cy="1391400"/>
            <a:chOff x="5508720" y="4855320"/>
            <a:chExt cx="3178080" cy="1391400"/>
          </a:xfrm>
        </p:grpSpPr>
        <p:pic>
          <p:nvPicPr>
            <p:cNvPr id="162" name="Picture 47" descr=""/>
            <p:cNvPicPr/>
            <p:nvPr/>
          </p:nvPicPr>
          <p:blipFill>
            <a:blip r:embed="rId6"/>
            <a:stretch/>
          </p:blipFill>
          <p:spPr>
            <a:xfrm>
              <a:off x="5508720" y="608004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48"/>
            <p:cNvSpPr/>
            <p:nvPr/>
          </p:nvSpPr>
          <p:spPr>
            <a:xfrm>
              <a:off x="5530680" y="5378400"/>
              <a:ext cx="3098880" cy="796680"/>
            </a:xfrm>
            <a:prstGeom prst="roundRect">
              <a:avLst>
                <a:gd name="adj" fmla="val 5630"/>
              </a:avLst>
            </a:prstGeom>
            <a:solidFill>
              <a:srgbClr val="3399ff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考核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评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5646600" y="5319720"/>
              <a:ext cx="569880" cy="27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rc 9"/>
            <p:cNvSpPr/>
            <p:nvPr/>
          </p:nvSpPr>
          <p:spPr>
            <a:xfrm>
              <a:off x="5657760" y="5202360"/>
              <a:ext cx="550800" cy="30312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close/>
                </a:path>
              </a:pathLst>
            </a:custGeom>
            <a:solidFill>
              <a:srgbClr val="00a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646600" y="5089680"/>
              <a:ext cx="569880" cy="27756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870160" y="4855320"/>
              <a:ext cx="128520" cy="368640"/>
              <a:chOff x="5870160" y="4855320"/>
              <a:chExt cx="128520" cy="3686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900040" y="5022360"/>
                <a:ext cx="68400" cy="201600"/>
                <a:chOff x="5900040" y="5022360"/>
                <a:chExt cx="68400" cy="201600"/>
              </a:xfrm>
            </p:grpSpPr>
            <p:sp>
              <p:nvSpPr>
                <p:cNvPr id="169" name="AutoShape 13"/>
                <p:cNvSpPr/>
                <p:nvPr/>
              </p:nvSpPr>
              <p:spPr>
                <a:xfrm rot="5400000">
                  <a:off x="581436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14"/>
                <p:cNvSpPr/>
                <p:nvPr/>
              </p:nvSpPr>
              <p:spPr>
                <a:xfrm rot="5400000">
                  <a:off x="5852520" y="510804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15"/>
              <p:cNvSpPr/>
              <p:nvPr/>
            </p:nvSpPr>
            <p:spPr>
              <a:xfrm rot="10800000">
                <a:off x="5870160" y="494676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utoShape 16"/>
              <p:cNvSpPr/>
              <p:nvPr/>
            </p:nvSpPr>
            <p:spPr>
              <a:xfrm rot="8100000">
                <a:off x="5901480" y="486900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73" name="直接箭头连接符 194"/>
          <p:cNvCxnSpPr>
            <a:stCxn id="103" idx="2"/>
            <a:endCxn id="115" idx="0"/>
          </p:cNvCxnSpPr>
          <p:nvPr/>
        </p:nvCxnSpPr>
        <p:spPr>
          <a:xfrm>
            <a:off x="2182320" y="2503440"/>
            <a:ext cx="2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直接箭头连接符 198"/>
          <p:cNvCxnSpPr>
            <a:stCxn id="115" idx="2"/>
            <a:endCxn id="127" idx="0"/>
          </p:cNvCxnSpPr>
          <p:nvPr/>
        </p:nvCxnSpPr>
        <p:spPr>
          <a:xfrm>
            <a:off x="2182320" y="4340160"/>
            <a:ext cx="2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5" name="肘形连接符 200"/>
          <p:cNvCxnSpPr>
            <a:stCxn id="127" idx="3"/>
            <a:endCxn id="139" idx="1"/>
          </p:cNvCxnSpPr>
          <p:nvPr/>
        </p:nvCxnSpPr>
        <p:spPr>
          <a:xfrm flipV="1">
            <a:off x="3732120" y="2104560"/>
            <a:ext cx="1788480" cy="3672720"/>
          </a:xfrm>
          <a:prstGeom prst="bentConnector3">
            <a:avLst>
              <a:gd name="adj1" fmla="val 49989"/>
            </a:avLst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6" name="直接箭头连接符 202"/>
          <p:cNvCxnSpPr>
            <a:stCxn id="139" idx="2"/>
            <a:endCxn id="151" idx="0"/>
          </p:cNvCxnSpPr>
          <p:nvPr/>
        </p:nvCxnSpPr>
        <p:spPr>
          <a:xfrm>
            <a:off x="7068600" y="2503440"/>
            <a:ext cx="1188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7" name="直接箭头连接符 204"/>
          <p:cNvCxnSpPr>
            <a:stCxn id="151" idx="2"/>
            <a:endCxn id="163" idx="0"/>
          </p:cNvCxnSpPr>
          <p:nvPr/>
        </p:nvCxnSpPr>
        <p:spPr>
          <a:xfrm>
            <a:off x="7079760" y="4340160"/>
            <a:ext cx="108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80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182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185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188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4" descr=""/>
          <p:cNvPicPr/>
          <p:nvPr/>
        </p:nvPicPr>
        <p:blipFill>
          <a:blip r:embed="rId1"/>
          <a:stretch/>
        </p:blipFill>
        <p:spPr>
          <a:xfrm>
            <a:off x="639720" y="3009960"/>
            <a:ext cx="1330200" cy="5810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193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7"/>
            <p:cNvSpPr/>
            <p:nvPr/>
          </p:nvSpPr>
          <p:spPr>
            <a:xfrm flipH="1" flipV="1" rot="4780800">
              <a:off x="135036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70"/>
          <p:cNvSpPr/>
          <p:nvPr/>
        </p:nvSpPr>
        <p:spPr>
          <a:xfrm>
            <a:off x="826920" y="341136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入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简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文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章制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密意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事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职培训由人力资源部组织实施，时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左右，其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课堂学习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军事训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08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10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548080" y="4714560"/>
            <a:ext cx="387360" cy="360"/>
            <a:chOff x="2548080" y="4714560"/>
            <a:chExt cx="387360" cy="360"/>
          </a:xfrm>
        </p:grpSpPr>
        <p:sp>
          <p:nvSpPr>
            <p:cNvPr id="213" name="Line 9"/>
            <p:cNvSpPr/>
            <p:nvPr/>
          </p:nvSpPr>
          <p:spPr>
            <a:xfrm flipH="1">
              <a:off x="2548080" y="4714920"/>
              <a:ext cx="387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2548080" y="4714560"/>
              <a:ext cx="38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547720" y="2863440"/>
            <a:ext cx="385560" cy="1800"/>
            <a:chOff x="2547720" y="2863440"/>
            <a:chExt cx="385560" cy="1800"/>
          </a:xfrm>
        </p:grpSpPr>
        <p:sp>
          <p:nvSpPr>
            <p:cNvPr id="216" name="Line 10"/>
            <p:cNvSpPr/>
            <p:nvPr/>
          </p:nvSpPr>
          <p:spPr>
            <a:xfrm flipH="1" flipV="1">
              <a:off x="2547720" y="2863440"/>
              <a:ext cx="385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0800000">
              <a:off x="2547720" y="2863440"/>
              <a:ext cx="385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639720" y="3009960"/>
            <a:ext cx="1330200" cy="5810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21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27"/>
            <p:cNvSpPr/>
            <p:nvPr/>
          </p:nvSpPr>
          <p:spPr>
            <a:xfrm flipH="1" flipV="1" rot="4780800">
              <a:off x="135036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Oval 35"/>
          <p:cNvSpPr/>
          <p:nvPr/>
        </p:nvSpPr>
        <p:spPr>
          <a:xfrm>
            <a:off x="611280" y="46530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70"/>
          <p:cNvSpPr/>
          <p:nvPr/>
        </p:nvSpPr>
        <p:spPr>
          <a:xfrm>
            <a:off x="826920" y="341136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拓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训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事训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48"/>
          <p:cNvSpPr/>
          <p:nvPr/>
        </p:nvSpPr>
        <p:spPr>
          <a:xfrm>
            <a:off x="2916360" y="249228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8"/>
          <p:cNvSpPr/>
          <p:nvPr/>
        </p:nvSpPr>
        <p:spPr>
          <a:xfrm>
            <a:off x="2916360" y="4365720"/>
            <a:ext cx="2016000" cy="7189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游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胜利之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培训由人力资源部联合外部专业培训机构组织实施，时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夜。主要培养纪律意识、团队意识、合作意识、沟通意识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677440" y="6381720"/>
            <a:ext cx="358560" cy="3589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ague Gothic"/>
                <a:ea typeface="MS PGothic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培训课程</a:t>
            </a:r>
            <a:endParaRPr b="1" lang="en-US" sz="40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36" name="Freeform 7"/>
          <p:cNvSpPr/>
          <p:nvPr/>
        </p:nvSpPr>
        <p:spPr>
          <a:xfrm rot="10800000">
            <a:off x="2547720" y="1936800"/>
            <a:ext cx="385560" cy="3705120"/>
          </a:xfrm>
          <a:custGeom>
            <a:avLst/>
            <a:gdLst>
              <a:gd name="textAreaLeft" fmla="*/ 0 w 385560"/>
              <a:gd name="textAreaRight" fmla="*/ 385920 w 385560"/>
              <a:gd name="textAreaTop" fmla="*/ 0 h 3705120"/>
              <a:gd name="textAreaBottom" fmla="*/ 3705480 h 3705120"/>
            </a:gdLst>
            <a:ahLst/>
            <a:rect l="textAreaLeft" t="textAreaTop" r="textAreaRight" b="textAreaBottom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163600" y="3787920"/>
            <a:ext cx="773280" cy="1440"/>
            <a:chOff x="2163600" y="3787920"/>
            <a:chExt cx="773280" cy="1440"/>
          </a:xfrm>
        </p:grpSpPr>
        <p:sp>
          <p:nvSpPr>
            <p:cNvPr id="238" name="Line 8"/>
            <p:cNvSpPr/>
            <p:nvPr/>
          </p:nvSpPr>
          <p:spPr>
            <a:xfrm flipH="1" flipV="1">
              <a:off x="2163600" y="3787920"/>
              <a:ext cx="77328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2163600" y="3787920"/>
              <a:ext cx="773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2"/>
          <p:cNvSpPr/>
          <p:nvPr/>
        </p:nvSpPr>
        <p:spPr>
          <a:xfrm>
            <a:off x="468360" y="2997360"/>
            <a:ext cx="1671480" cy="1645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24" descr=""/>
          <p:cNvPicPr/>
          <p:nvPr/>
        </p:nvPicPr>
        <p:blipFill>
          <a:blip r:embed="rId1"/>
          <a:stretch/>
        </p:blipFill>
        <p:spPr>
          <a:xfrm>
            <a:off x="639720" y="3009960"/>
            <a:ext cx="1330200" cy="58104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742680" y="4124520"/>
            <a:ext cx="1293840" cy="548280"/>
            <a:chOff x="742680" y="4124520"/>
            <a:chExt cx="1293840" cy="548280"/>
          </a:xfrm>
        </p:grpSpPr>
        <p:sp>
          <p:nvSpPr>
            <p:cNvPr id="243" name="AutoShape 26"/>
            <p:cNvSpPr/>
            <p:nvPr/>
          </p:nvSpPr>
          <p:spPr>
            <a:xfrm flipH="1" flipV="1" rot="3965400">
              <a:off x="1487160" y="396000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27"/>
            <p:cNvSpPr/>
            <p:nvPr/>
          </p:nvSpPr>
          <p:spPr>
            <a:xfrm flipH="1" flipV="1" rot="4780800">
              <a:off x="1350360" y="40125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29"/>
            <p:cNvSpPr/>
            <p:nvPr/>
          </p:nvSpPr>
          <p:spPr>
            <a:xfrm flipH="1" flipV="1" rot="5608800">
              <a:off x="1168200" y="4035600"/>
              <a:ext cx="21096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30"/>
            <p:cNvSpPr/>
            <p:nvPr/>
          </p:nvSpPr>
          <p:spPr>
            <a:xfrm flipH="1" flipV="1" rot="5319000">
              <a:off x="1232280" y="4035960"/>
              <a:ext cx="21096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31"/>
            <p:cNvSpPr/>
            <p:nvPr/>
          </p:nvSpPr>
          <p:spPr>
            <a:xfrm flipH="1" flipV="1" rot="6133800">
              <a:off x="1086840" y="4034160"/>
              <a:ext cx="210600" cy="87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Oval 35"/>
          <p:cNvSpPr/>
          <p:nvPr/>
        </p:nvSpPr>
        <p:spPr>
          <a:xfrm>
            <a:off x="611280" y="4667400"/>
            <a:ext cx="1346040" cy="34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70"/>
          <p:cNvSpPr/>
          <p:nvPr/>
        </p:nvSpPr>
        <p:spPr>
          <a:xfrm>
            <a:off x="826920" y="341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4c4c"/>
                </a:solidFill>
                <a:latin typeface="微软雅黑"/>
                <a:ea typeface="微软雅黑"/>
              </a:rPr>
              <a:t>专业知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8"/>
          <p:cNvSpPr/>
          <p:nvPr/>
        </p:nvSpPr>
        <p:spPr>
          <a:xfrm>
            <a:off x="2916360" y="1557360"/>
            <a:ext cx="2016000" cy="71928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认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2916360" y="342900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隔膜行业知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48"/>
          <p:cNvSpPr/>
          <p:nvPr/>
        </p:nvSpPr>
        <p:spPr>
          <a:xfrm>
            <a:off x="2916360" y="5300640"/>
            <a:ext cx="2016000" cy="720720"/>
          </a:xfrm>
          <a:prstGeom prst="roundRect">
            <a:avLst>
              <a:gd name="adj" fmla="val 5630"/>
            </a:avLst>
          </a:prstGeom>
          <a:solidFill>
            <a:srgbClr val="00aef7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隔膜基础知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圆角矩形 77"/>
          <p:cNvSpPr/>
          <p:nvPr/>
        </p:nvSpPr>
        <p:spPr>
          <a:xfrm>
            <a:off x="6083280" y="1484280"/>
            <a:ext cx="2160720" cy="4537080"/>
          </a:xfrm>
          <a:custGeom>
            <a:avLst/>
            <a:gdLst>
              <a:gd name="textAreaLeft" fmla="*/ 57960 w 2160720"/>
              <a:gd name="textAreaRight" fmla="*/ 2102760 w 2160720"/>
              <a:gd name="textAreaTop" fmla="*/ 57960 h 4537080"/>
              <a:gd name="textAreaBottom" fmla="*/ 4479120 h 4537080"/>
            </a:gdLst>
            <a:ahLst/>
            <a:rect l="textAreaLeft" t="textAreaTop" r="textAreaRight" b="textAreaBottom"/>
            <a:pathLst>
              <a:path w="21600" h="45352">
                <a:moveTo>
                  <a:pt x="1984" y="0"/>
                </a:moveTo>
                <a:arcTo wR="1984" hR="1984" stAng="16200000" swAng="-5400000"/>
                <a:lnTo>
                  <a:pt x="0" y="43368"/>
                </a:lnTo>
                <a:arcTo wR="1984" hR="1984" stAng="10800000" swAng="-5400000"/>
                <a:lnTo>
                  <a:pt x="19616" y="45352"/>
                </a:lnTo>
                <a:arcTo wR="1984" hR="1984" stAng="5400000" swAng="-5400000"/>
                <a:lnTo>
                  <a:pt x="21600" y="1984"/>
                </a:lnTo>
                <a:arcTo wR="1984" hR="1984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类岗位专业知识技能培训由用人部门组织实施。财务类、管理类实习生专业知识培训按岗位要求实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7:05:00Z</dcterms:created>
  <dc:creator>郭宝成</dc:creator>
  <dc:description/>
  <cp:keywords>应届生 培训</cp:keywords>
  <dc:language>en-US</dc:language>
  <cp:lastModifiedBy>Guo Baocheng</cp:lastModifiedBy>
  <cp:lastPrinted>1899-12-30T00:00:00Z</cp:lastPrinted>
  <dcterms:modified xsi:type="dcterms:W3CDTF">2012-02-08T09:24:00Z</dcterms:modified>
  <cp:revision>259</cp:revision>
  <dc:subject>应届生培训</dc:subject>
  <dc:title>2012应届毕业生生培训方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