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730-3112-4E81-B1CD-FE0094B3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022-9A80-4C49-98CC-B1868ED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6F9-1C4E-4207-AD92-AC69177A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9BD-1C48-4BF1-8AED-B00EE1CD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0FC-4DBA-4EB3-8C6A-36C6203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470-D7AD-4C9C-BDE1-8B282E6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91F-1B1E-4589-9282-E3FD537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D2C-6222-46DC-8AFD-A2D3329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413-614B-4543-856C-BAA44A5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641-234F-4BA2-A073-BC348FC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C22-DDB1-4707-91B7-98AB31E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C78-5F5E-4D15-BBA7-C762630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15F5-03C7-4C23-A6FC-29237BFD7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52320" y="1225440"/>
            <a:ext cx="3486240" cy="12733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5400720" y="5187960"/>
            <a:ext cx="358452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4"/>
          <a:stretch/>
        </p:blipFill>
        <p:spPr>
          <a:xfrm>
            <a:off x="4273560" y="1268280"/>
            <a:ext cx="3029040" cy="63756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5"/>
          <a:stretch/>
        </p:blipFill>
        <p:spPr>
          <a:xfrm>
            <a:off x="414360" y="2535120"/>
            <a:ext cx="6357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:\资料\图片素材\PSD和图片\辛伟乐_【文艺范2摄影师】教你如何拍出完美婚照❤❤☻...(1)\008.jpg"/>
          <p:cNvPicPr/>
          <p:nvPr/>
        </p:nvPicPr>
        <p:blipFill>
          <a:blip r:embed="rId1"/>
          <a:stretch/>
        </p:blipFill>
        <p:spPr>
          <a:xfrm>
            <a:off x="4280040" y="1616040"/>
            <a:ext cx="4157640" cy="80344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743040" y="652320"/>
            <a:ext cx="3975120" cy="1756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1255680" y="3236760"/>
            <a:ext cx="2646360" cy="1163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4"/>
          <a:stretch/>
        </p:blipFill>
        <p:spPr>
          <a:xfrm>
            <a:off x="1255680" y="2548080"/>
            <a:ext cx="26463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资料\图片素材\PSD和图片\辛伟乐_【文艺范2摄影师】教你如何拍出完美婚照❤❤☻...(1)\020.jpg"/>
          <p:cNvPicPr/>
          <p:nvPr/>
        </p:nvPicPr>
        <p:blipFill>
          <a:blip r:embed="rId1"/>
          <a:stretch/>
        </p:blipFill>
        <p:spPr>
          <a:xfrm>
            <a:off x="1944720" y="2255760"/>
            <a:ext cx="5492880" cy="7309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0240" y="371520"/>
            <a:ext cx="6364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高贵 浪漫 典雅 梦幻 紫色 婚庆 PPT模板</cp:keywords>
  <dc:language>en-US</dc:language>
  <cp:lastModifiedBy>微软用户</cp:lastModifiedBy>
  <dcterms:modified xsi:type="dcterms:W3CDTF">2012-01-11T08:30:36Z</dcterms:modified>
  <cp:revision>8</cp:revision>
  <dc:subject>紫色</dc:subject>
  <dc:title>高贵浪漫典雅梦幻紫色婚礼PPT模板</dc:title>
</cp:coreProperties>
</file>