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816FE-39BC-4E55-9AB9-7BB1ED633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3FA8A-F3D6-4F48-8E0A-697C544C4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AA78B-2A88-46CC-85CA-4C587C659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23A9B-3FEC-4E79-B11E-F9050C17D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BFA5C-667B-458E-928B-4F183CBDC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AA144-77C5-4183-BECE-571E68E4B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510B2-8CE0-4958-AF0A-2CCC73625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D87E9-943D-4E8F-96A9-04123C3F8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F310A-2260-4678-8CC9-4C0EEAA92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46850-9400-42D4-AD29-6A57E8963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2CBCB-8301-431A-9367-6AADEDCCB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DB952-DC74-426C-B2CB-79FE23424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153B0-B7B3-4ACC-8375-0EB48D8CE112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C6FD9-9737-4C07-91BB-58A44D7D5373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3" descr=""/>
          <p:cNvPicPr/>
          <p:nvPr/>
        </p:nvPicPr>
        <p:blipFill>
          <a:blip r:embed="rId2"/>
          <a:srcRect l="0" t="450" r="0" b="9546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矩形 4"/>
          <p:cNvSpPr/>
          <p:nvPr/>
        </p:nvSpPr>
        <p:spPr>
          <a:xfrm>
            <a:off x="0" y="1851120"/>
            <a:ext cx="9144000" cy="2520720"/>
          </a:xfrm>
          <a:prstGeom prst="rect">
            <a:avLst/>
          </a:prstGeom>
          <a:solidFill>
            <a:srgbClr val="000000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椭圆 18"/>
          <p:cNvSpPr/>
          <p:nvPr/>
        </p:nvSpPr>
        <p:spPr>
          <a:xfrm>
            <a:off x="914400" y="195120"/>
            <a:ext cx="1285920" cy="1285920"/>
          </a:xfrm>
          <a:prstGeom prst="ellips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3660840" y="949320"/>
            <a:ext cx="4897440" cy="947160"/>
            <a:chOff x="3660840" y="949320"/>
            <a:chExt cx="4897440" cy="947160"/>
          </a:xfrm>
        </p:grpSpPr>
        <p:sp>
          <p:nvSpPr>
            <p:cNvPr id="45" name="TextBox 19"/>
            <p:cNvSpPr/>
            <p:nvPr/>
          </p:nvSpPr>
          <p:spPr>
            <a:xfrm>
              <a:off x="3660840" y="949320"/>
              <a:ext cx="982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Microsoft Himalaya"/>
                </a:rPr>
                <a:t>Text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TextBox 21"/>
            <p:cNvSpPr/>
            <p:nvPr/>
          </p:nvSpPr>
          <p:spPr>
            <a:xfrm>
              <a:off x="4639680" y="949320"/>
              <a:ext cx="982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bfbfbf"/>
                  </a:solidFill>
                  <a:latin typeface="Microsoft Himalaya"/>
                </a:rPr>
                <a:t>Text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TextBox 22"/>
            <p:cNvSpPr/>
            <p:nvPr/>
          </p:nvSpPr>
          <p:spPr>
            <a:xfrm>
              <a:off x="5618520" y="949320"/>
              <a:ext cx="982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bfbfbf"/>
                  </a:solidFill>
                  <a:latin typeface="Microsoft Himalaya"/>
                </a:rPr>
                <a:t>Text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TextBox 23"/>
            <p:cNvSpPr/>
            <p:nvPr/>
          </p:nvSpPr>
          <p:spPr>
            <a:xfrm>
              <a:off x="6597360" y="949320"/>
              <a:ext cx="982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bfbfbf"/>
                  </a:solidFill>
                  <a:latin typeface="Microsoft Himalaya"/>
                </a:rPr>
                <a:t>Text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TextBox 24"/>
            <p:cNvSpPr/>
            <p:nvPr/>
          </p:nvSpPr>
          <p:spPr>
            <a:xfrm>
              <a:off x="7576200" y="949320"/>
              <a:ext cx="982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bfbfbf"/>
                  </a:solidFill>
                  <a:latin typeface="Microsoft Himalaya"/>
                </a:rPr>
                <a:t>Text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914400" y="758880"/>
            <a:ext cx="1285920" cy="584280"/>
            <a:chOff x="914400" y="758880"/>
            <a:chExt cx="1285920" cy="584280"/>
          </a:xfrm>
        </p:grpSpPr>
        <p:sp>
          <p:nvSpPr>
            <p:cNvPr id="51" name="TextBox 27"/>
            <p:cNvSpPr/>
            <p:nvPr/>
          </p:nvSpPr>
          <p:spPr>
            <a:xfrm>
              <a:off x="914400" y="758880"/>
              <a:ext cx="12859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矩形 29"/>
            <p:cNvSpPr/>
            <p:nvPr/>
          </p:nvSpPr>
          <p:spPr>
            <a:xfrm>
              <a:off x="1262880" y="974160"/>
              <a:ext cx="588600" cy="36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3" name="Picture 3" descr=""/>
          <p:cNvPicPr/>
          <p:nvPr/>
        </p:nvPicPr>
        <p:blipFill>
          <a:blip r:embed="rId1"/>
          <a:srcRect l="0" t="17725" r="105" b="38219"/>
          <a:stretch/>
        </p:blipFill>
        <p:spPr>
          <a:xfrm>
            <a:off x="0" y="1851120"/>
            <a:ext cx="9144000" cy="2520720"/>
          </a:xfrm>
          <a:prstGeom prst="rect">
            <a:avLst/>
          </a:prstGeom>
          <a:ln w="0">
            <a:noFill/>
          </a:ln>
        </p:spPr>
      </p:pic>
      <p:sp>
        <p:nvSpPr>
          <p:cNvPr id="54" name="直接连接符 12"/>
          <p:cNvSpPr/>
          <p:nvPr/>
        </p:nvSpPr>
        <p:spPr>
          <a:xfrm>
            <a:off x="3807000" y="1343160"/>
            <a:ext cx="690480" cy="144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燕尾形 1"/>
          <p:cNvSpPr/>
          <p:nvPr/>
        </p:nvSpPr>
        <p:spPr>
          <a:xfrm>
            <a:off x="-1003320" y="1851120"/>
            <a:ext cx="1704960" cy="2520720"/>
          </a:xfrm>
          <a:custGeom>
            <a:avLst/>
            <a:gdLst>
              <a:gd name="textAreaLeft" fmla="*/ 0 w 1704960"/>
              <a:gd name="textAreaRight" fmla="*/ 1705320 w 170496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燕尾形 2"/>
          <p:cNvSpPr/>
          <p:nvPr/>
        </p:nvSpPr>
        <p:spPr>
          <a:xfrm>
            <a:off x="-147600" y="1851120"/>
            <a:ext cx="1703520" cy="2520720"/>
          </a:xfrm>
          <a:custGeom>
            <a:avLst/>
            <a:gdLst>
              <a:gd name="textAreaLeft" fmla="*/ 0 w 1703520"/>
              <a:gd name="textAreaRight" fmla="*/ 1703880 w 170352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燕尾形 3"/>
          <p:cNvSpPr/>
          <p:nvPr/>
        </p:nvSpPr>
        <p:spPr>
          <a:xfrm>
            <a:off x="701640" y="1851120"/>
            <a:ext cx="1709640" cy="2520720"/>
          </a:xfrm>
          <a:custGeom>
            <a:avLst/>
            <a:gdLst>
              <a:gd name="textAreaLeft" fmla="*/ 0 w 1709640"/>
              <a:gd name="textAreaRight" fmla="*/ 1710000 w 170964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燕尾形 4"/>
          <p:cNvSpPr/>
          <p:nvPr/>
        </p:nvSpPr>
        <p:spPr>
          <a:xfrm>
            <a:off x="1555920" y="1851120"/>
            <a:ext cx="1711080" cy="2520720"/>
          </a:xfrm>
          <a:custGeom>
            <a:avLst/>
            <a:gdLst>
              <a:gd name="textAreaLeft" fmla="*/ 0 w 1711080"/>
              <a:gd name="textAreaRight" fmla="*/ 1711440 w 171108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燕尾形 5"/>
          <p:cNvSpPr/>
          <p:nvPr/>
        </p:nvSpPr>
        <p:spPr>
          <a:xfrm>
            <a:off x="2411280" y="1851120"/>
            <a:ext cx="1710000" cy="2520720"/>
          </a:xfrm>
          <a:custGeom>
            <a:avLst/>
            <a:gdLst>
              <a:gd name="textAreaLeft" fmla="*/ 0 w 1710000"/>
              <a:gd name="textAreaRight" fmla="*/ 1710360 w 171000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燕尾形 6"/>
          <p:cNvSpPr/>
          <p:nvPr/>
        </p:nvSpPr>
        <p:spPr>
          <a:xfrm>
            <a:off x="3267000" y="1851120"/>
            <a:ext cx="1709640" cy="2520720"/>
          </a:xfrm>
          <a:custGeom>
            <a:avLst/>
            <a:gdLst>
              <a:gd name="textAreaLeft" fmla="*/ 0 w 1709640"/>
              <a:gd name="textAreaRight" fmla="*/ 1710000 w 170964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燕尾形 7"/>
          <p:cNvSpPr/>
          <p:nvPr/>
        </p:nvSpPr>
        <p:spPr>
          <a:xfrm>
            <a:off x="4121280" y="1851120"/>
            <a:ext cx="1711080" cy="2520720"/>
          </a:xfrm>
          <a:custGeom>
            <a:avLst/>
            <a:gdLst>
              <a:gd name="textAreaLeft" fmla="*/ 0 w 1711080"/>
              <a:gd name="textAreaRight" fmla="*/ 1711440 w 171108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燕尾形 8"/>
          <p:cNvSpPr/>
          <p:nvPr/>
        </p:nvSpPr>
        <p:spPr>
          <a:xfrm>
            <a:off x="4976640" y="1851120"/>
            <a:ext cx="1710000" cy="2520720"/>
          </a:xfrm>
          <a:custGeom>
            <a:avLst/>
            <a:gdLst>
              <a:gd name="textAreaLeft" fmla="*/ 0 w 1710000"/>
              <a:gd name="textAreaRight" fmla="*/ 1710360 w 171000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燕尾形 9"/>
          <p:cNvSpPr/>
          <p:nvPr/>
        </p:nvSpPr>
        <p:spPr>
          <a:xfrm>
            <a:off x="5832360" y="1851120"/>
            <a:ext cx="1710000" cy="2520720"/>
          </a:xfrm>
          <a:custGeom>
            <a:avLst/>
            <a:gdLst>
              <a:gd name="textAreaLeft" fmla="*/ 0 w 1710000"/>
              <a:gd name="textAreaRight" fmla="*/ 1710360 w 171000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燕尾形 10"/>
          <p:cNvSpPr/>
          <p:nvPr/>
        </p:nvSpPr>
        <p:spPr>
          <a:xfrm>
            <a:off x="6686640" y="1851120"/>
            <a:ext cx="1711080" cy="2520720"/>
          </a:xfrm>
          <a:custGeom>
            <a:avLst/>
            <a:gdLst>
              <a:gd name="textAreaLeft" fmla="*/ 0 w 1711080"/>
              <a:gd name="textAreaRight" fmla="*/ 1711440 w 171108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燕尾形 11"/>
          <p:cNvSpPr/>
          <p:nvPr/>
        </p:nvSpPr>
        <p:spPr>
          <a:xfrm>
            <a:off x="7542360" y="1851120"/>
            <a:ext cx="1709640" cy="2520720"/>
          </a:xfrm>
          <a:custGeom>
            <a:avLst/>
            <a:gdLst>
              <a:gd name="textAreaLeft" fmla="*/ 0 w 1709640"/>
              <a:gd name="textAreaRight" fmla="*/ 1710000 w 170964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燕尾形 12"/>
          <p:cNvSpPr/>
          <p:nvPr/>
        </p:nvSpPr>
        <p:spPr>
          <a:xfrm>
            <a:off x="8397720" y="1851120"/>
            <a:ext cx="1710000" cy="2520720"/>
          </a:xfrm>
          <a:custGeom>
            <a:avLst/>
            <a:gdLst>
              <a:gd name="textAreaLeft" fmla="*/ 0 w 1710000"/>
              <a:gd name="textAreaRight" fmla="*/ 1710360 w 171000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0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15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5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23" presetSubtype="16">
                                  <p:stCondLst>
                                    <p:cond delay="5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15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5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23" presetSubtype="16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15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5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23" presetSubtype="16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15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5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15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5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23" presetSubtype="16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15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5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23" presetSubtype="1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15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5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23" presetSubtype="16">
                                  <p:stCondLst>
                                    <p:cond delay="35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15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5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15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5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23" presetSubtype="16">
                                  <p:stCondLst>
                                    <p:cond delay="45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15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5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9" nodeType="withEffect" fill="hold" presetClass="exit" presetID="23" presetSubtype="272">
                                  <p:stCondLst>
                                    <p:cond delay="4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70" dur="15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15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15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5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7" nodeType="withEffect" fill="hold" presetClass="exit" presetID="23" presetSubtype="272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78" dur="15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5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23" presetSubtype="16">
                                  <p:stCondLst>
                                    <p:cond delay="55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15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5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5" nodeType="withEffect" fill="hold" presetClass="exit" presetID="23" presetSubtype="272">
                                  <p:stCondLst>
                                    <p:cond delay="5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86" dur="15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5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9" nodeType="withEffect" fill="hold" presetClass="exit" presetID="23" presetSubtype="272">
                                  <p:stCondLst>
                                    <p:cond delay="6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90" dur="15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5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3" nodeType="withEffect" fill="hold" presetClass="exit" presetID="23" presetSubtype="272">
                                  <p:stCondLst>
                                    <p:cond delay="6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94" dur="15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5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7" nodeType="withEffect" fill="hold" presetClass="exit" presetID="23" presetSubtype="272">
                                  <p:stCondLst>
                                    <p:cond delay="7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98" dur="15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5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1" nodeType="withEffect" fill="hold" presetClass="exit" presetID="23" presetSubtype="272">
                                  <p:stCondLst>
                                    <p:cond delay="7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02" dur="15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15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5" nodeType="withEffect" fill="hold" presetClass="exit" presetID="23" presetSubtype="272">
                                  <p:stCondLst>
                                    <p:cond delay="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06" dur="15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5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9" nodeType="withEffect" fill="hold" presetClass="exit" presetID="23" presetSubtype="272">
                                  <p:stCondLst>
                                    <p:cond delay="8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10" dur="150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50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3" nodeType="withEffect" fill="hold" presetClass="exit" presetID="23" presetSubtype="272">
                                  <p:stCondLst>
                                    <p:cond delay="9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14" dur="15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5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7" nodeType="withEffect" fill="hold" presetClass="exit" presetID="23" presetSubtype="272">
                                  <p:stCondLst>
                                    <p:cond delay="9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18" dur="15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15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1" nodeType="withEffect" fill="hold" presetClass="exit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22" dur="15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5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矩形 4"/>
          <p:cNvSpPr/>
          <p:nvPr/>
        </p:nvSpPr>
        <p:spPr>
          <a:xfrm>
            <a:off x="0" y="1851120"/>
            <a:ext cx="9144000" cy="2520720"/>
          </a:xfrm>
          <a:prstGeom prst="rect">
            <a:avLst/>
          </a:prstGeom>
          <a:solidFill>
            <a:srgbClr val="000000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椭圆 18"/>
          <p:cNvSpPr/>
          <p:nvPr/>
        </p:nvSpPr>
        <p:spPr>
          <a:xfrm>
            <a:off x="914400" y="195120"/>
            <a:ext cx="1285920" cy="1285920"/>
          </a:xfrm>
          <a:prstGeom prst="ellips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Box 28"/>
          <p:cNvSpPr/>
          <p:nvPr/>
        </p:nvSpPr>
        <p:spPr>
          <a:xfrm>
            <a:off x="914400" y="407880"/>
            <a:ext cx="128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f7f7f"/>
                </a:solidFill>
                <a:latin typeface="Microsoft Himalaya"/>
              </a:rPr>
              <a:t>LO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914400" y="758880"/>
            <a:ext cx="1285920" cy="703800"/>
            <a:chOff x="914400" y="758880"/>
            <a:chExt cx="1285920" cy="703800"/>
          </a:xfrm>
        </p:grpSpPr>
        <p:sp>
          <p:nvSpPr>
            <p:cNvPr id="232" name="TextBox 27"/>
            <p:cNvSpPr/>
            <p:nvPr/>
          </p:nvSpPr>
          <p:spPr>
            <a:xfrm>
              <a:off x="914400" y="758880"/>
              <a:ext cx="12859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Microsoft Himalaya"/>
                </a:rPr>
                <a:t>YOUR TIT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矩形 29"/>
            <p:cNvSpPr/>
            <p:nvPr/>
          </p:nvSpPr>
          <p:spPr>
            <a:xfrm>
              <a:off x="1185120" y="974160"/>
              <a:ext cx="744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icrosoft Himalaya"/>
                </a:rPr>
                <a:t>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"/>
          <p:cNvGrpSpPr/>
          <p:nvPr/>
        </p:nvGrpSpPr>
        <p:grpSpPr>
          <a:xfrm>
            <a:off x="3660840" y="949320"/>
            <a:ext cx="4897440" cy="947160"/>
            <a:chOff x="3660840" y="949320"/>
            <a:chExt cx="4897440" cy="947160"/>
          </a:xfrm>
        </p:grpSpPr>
        <p:sp>
          <p:nvSpPr>
            <p:cNvPr id="235" name="TextBox 20"/>
            <p:cNvSpPr/>
            <p:nvPr/>
          </p:nvSpPr>
          <p:spPr>
            <a:xfrm>
              <a:off x="3660840" y="949320"/>
              <a:ext cx="982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bfbfbf"/>
                  </a:solidFill>
                  <a:latin typeface="Microsoft Himalaya"/>
                </a:rPr>
                <a:t>Text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TextBox 25"/>
            <p:cNvSpPr/>
            <p:nvPr/>
          </p:nvSpPr>
          <p:spPr>
            <a:xfrm>
              <a:off x="4639680" y="949320"/>
              <a:ext cx="982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bfbfbf"/>
                  </a:solidFill>
                  <a:latin typeface="Microsoft Himalaya"/>
                </a:rPr>
                <a:t>Text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TextBox 31"/>
            <p:cNvSpPr/>
            <p:nvPr/>
          </p:nvSpPr>
          <p:spPr>
            <a:xfrm>
              <a:off x="5618520" y="949320"/>
              <a:ext cx="982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bfbfbf"/>
                  </a:solidFill>
                  <a:latin typeface="Microsoft Himalaya"/>
                </a:rPr>
                <a:t>Text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TextBox 32"/>
            <p:cNvSpPr/>
            <p:nvPr/>
          </p:nvSpPr>
          <p:spPr>
            <a:xfrm>
              <a:off x="6597360" y="949320"/>
              <a:ext cx="982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bfbfbf"/>
                  </a:solidFill>
                  <a:latin typeface="Microsoft Himalaya"/>
                </a:rPr>
                <a:t>Text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TextBox 33"/>
            <p:cNvSpPr/>
            <p:nvPr/>
          </p:nvSpPr>
          <p:spPr>
            <a:xfrm>
              <a:off x="7576200" y="949320"/>
              <a:ext cx="982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bfbfbf"/>
                  </a:solidFill>
                  <a:latin typeface="Microsoft Himalaya"/>
                </a:rPr>
                <a:t>Text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燕尾形 1"/>
          <p:cNvSpPr/>
          <p:nvPr/>
        </p:nvSpPr>
        <p:spPr>
          <a:xfrm>
            <a:off x="-1003320" y="1851120"/>
            <a:ext cx="1704960" cy="2520720"/>
          </a:xfrm>
          <a:custGeom>
            <a:avLst/>
            <a:gdLst>
              <a:gd name="textAreaLeft" fmla="*/ 0 w 1704960"/>
              <a:gd name="textAreaRight" fmla="*/ 1705320 w 170496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燕尾形 2"/>
          <p:cNvSpPr/>
          <p:nvPr/>
        </p:nvSpPr>
        <p:spPr>
          <a:xfrm>
            <a:off x="-147600" y="1851120"/>
            <a:ext cx="1703520" cy="2520720"/>
          </a:xfrm>
          <a:custGeom>
            <a:avLst/>
            <a:gdLst>
              <a:gd name="textAreaLeft" fmla="*/ 0 w 1703520"/>
              <a:gd name="textAreaRight" fmla="*/ 1703880 w 170352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燕尾形 3"/>
          <p:cNvSpPr/>
          <p:nvPr/>
        </p:nvSpPr>
        <p:spPr>
          <a:xfrm>
            <a:off x="701640" y="1851120"/>
            <a:ext cx="1709640" cy="2520720"/>
          </a:xfrm>
          <a:custGeom>
            <a:avLst/>
            <a:gdLst>
              <a:gd name="textAreaLeft" fmla="*/ 0 w 1709640"/>
              <a:gd name="textAreaRight" fmla="*/ 1710000 w 170964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燕尾形 4"/>
          <p:cNvSpPr/>
          <p:nvPr/>
        </p:nvSpPr>
        <p:spPr>
          <a:xfrm>
            <a:off x="1555920" y="1851120"/>
            <a:ext cx="1711080" cy="2520720"/>
          </a:xfrm>
          <a:custGeom>
            <a:avLst/>
            <a:gdLst>
              <a:gd name="textAreaLeft" fmla="*/ 0 w 1711080"/>
              <a:gd name="textAreaRight" fmla="*/ 1711440 w 171108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燕尾形 5"/>
          <p:cNvSpPr/>
          <p:nvPr/>
        </p:nvSpPr>
        <p:spPr>
          <a:xfrm>
            <a:off x="2411280" y="1851120"/>
            <a:ext cx="1710000" cy="2520720"/>
          </a:xfrm>
          <a:custGeom>
            <a:avLst/>
            <a:gdLst>
              <a:gd name="textAreaLeft" fmla="*/ 0 w 1710000"/>
              <a:gd name="textAreaRight" fmla="*/ 1710360 w 171000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燕尾形 6"/>
          <p:cNvSpPr/>
          <p:nvPr/>
        </p:nvSpPr>
        <p:spPr>
          <a:xfrm>
            <a:off x="3267000" y="1851120"/>
            <a:ext cx="1709640" cy="2520720"/>
          </a:xfrm>
          <a:custGeom>
            <a:avLst/>
            <a:gdLst>
              <a:gd name="textAreaLeft" fmla="*/ 0 w 1709640"/>
              <a:gd name="textAreaRight" fmla="*/ 1710000 w 170964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燕尾形 7"/>
          <p:cNvSpPr/>
          <p:nvPr/>
        </p:nvSpPr>
        <p:spPr>
          <a:xfrm>
            <a:off x="4121280" y="1851120"/>
            <a:ext cx="1711080" cy="2520720"/>
          </a:xfrm>
          <a:custGeom>
            <a:avLst/>
            <a:gdLst>
              <a:gd name="textAreaLeft" fmla="*/ 0 w 1711080"/>
              <a:gd name="textAreaRight" fmla="*/ 1711440 w 171108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燕尾形 8"/>
          <p:cNvSpPr/>
          <p:nvPr/>
        </p:nvSpPr>
        <p:spPr>
          <a:xfrm>
            <a:off x="4976640" y="1851120"/>
            <a:ext cx="1710000" cy="2520720"/>
          </a:xfrm>
          <a:custGeom>
            <a:avLst/>
            <a:gdLst>
              <a:gd name="textAreaLeft" fmla="*/ 0 w 1710000"/>
              <a:gd name="textAreaRight" fmla="*/ 1710360 w 171000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燕尾形 9"/>
          <p:cNvSpPr/>
          <p:nvPr/>
        </p:nvSpPr>
        <p:spPr>
          <a:xfrm>
            <a:off x="5832360" y="1851120"/>
            <a:ext cx="1710000" cy="2520720"/>
          </a:xfrm>
          <a:custGeom>
            <a:avLst/>
            <a:gdLst>
              <a:gd name="textAreaLeft" fmla="*/ 0 w 1710000"/>
              <a:gd name="textAreaRight" fmla="*/ 1710360 w 171000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燕尾形 10"/>
          <p:cNvSpPr/>
          <p:nvPr/>
        </p:nvSpPr>
        <p:spPr>
          <a:xfrm>
            <a:off x="6686640" y="1851120"/>
            <a:ext cx="1711080" cy="2520720"/>
          </a:xfrm>
          <a:custGeom>
            <a:avLst/>
            <a:gdLst>
              <a:gd name="textAreaLeft" fmla="*/ 0 w 1711080"/>
              <a:gd name="textAreaRight" fmla="*/ 1711440 w 171108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燕尾形 11"/>
          <p:cNvSpPr/>
          <p:nvPr/>
        </p:nvSpPr>
        <p:spPr>
          <a:xfrm>
            <a:off x="7542360" y="1851120"/>
            <a:ext cx="1709640" cy="2520720"/>
          </a:xfrm>
          <a:custGeom>
            <a:avLst/>
            <a:gdLst>
              <a:gd name="textAreaLeft" fmla="*/ 0 w 1709640"/>
              <a:gd name="textAreaRight" fmla="*/ 1710000 w 170964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燕尾形 12"/>
          <p:cNvSpPr/>
          <p:nvPr/>
        </p:nvSpPr>
        <p:spPr>
          <a:xfrm>
            <a:off x="8397720" y="1851120"/>
            <a:ext cx="1710000" cy="2520720"/>
          </a:xfrm>
          <a:custGeom>
            <a:avLst/>
            <a:gdLst>
              <a:gd name="textAreaLeft" fmla="*/ 0 w 1710000"/>
              <a:gd name="textAreaRight" fmla="*/ 1710360 w 171000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0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15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5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23" presetSubtype="16">
                                  <p:stCondLst>
                                    <p:cond delay="5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15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15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23" presetSubtype="16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15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15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23" presetSubtype="16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3" dur="15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5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15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15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23" presetSubtype="16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15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5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23" presetSubtype="1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15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15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23" presetSubtype="16">
                                  <p:stCondLst>
                                    <p:cond delay="35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15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5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3" dur="15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15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23" presetSubtype="16">
                                  <p:stCondLst>
                                    <p:cond delay="45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7" dur="15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15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9" nodeType="withEffect" fill="hold" presetClass="exit" presetID="23" presetSubtype="272">
                                  <p:stCondLst>
                                    <p:cond delay="4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70" dur="15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15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15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15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7" nodeType="withEffect" fill="hold" presetClass="exit" presetID="23" presetSubtype="272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78" dur="15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15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23" presetSubtype="16">
                                  <p:stCondLst>
                                    <p:cond delay="55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3" dur="15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15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5" nodeType="withEffect" fill="hold" presetClass="exit" presetID="23" presetSubtype="272">
                                  <p:stCondLst>
                                    <p:cond delay="5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86" dur="15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15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9" nodeType="withEffect" fill="hold" presetClass="exit" presetID="23" presetSubtype="272">
                                  <p:stCondLst>
                                    <p:cond delay="6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90" dur="15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15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3" nodeType="withEffect" fill="hold" presetClass="exit" presetID="23" presetSubtype="272">
                                  <p:stCondLst>
                                    <p:cond delay="6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94" dur="150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150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xit" presetID="23" presetSubtype="272">
                                  <p:stCondLst>
                                    <p:cond delay="7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98" dur="15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15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xit" presetID="23" presetSubtype="272">
                                  <p:stCondLst>
                                    <p:cond delay="7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02" dur="15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15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5" nodeType="withEffect" fill="hold" presetClass="exit" presetID="23" presetSubtype="272">
                                  <p:stCondLst>
                                    <p:cond delay="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06" dur="15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15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9" nodeType="withEffect" fill="hold" presetClass="exit" presetID="23" presetSubtype="272">
                                  <p:stCondLst>
                                    <p:cond delay="8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10" dur="15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15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3" nodeType="withEffect" fill="hold" presetClass="exit" presetID="23" presetSubtype="272">
                                  <p:stCondLst>
                                    <p:cond delay="9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14" dur="15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15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7" nodeType="withEffect" fill="hold" presetClass="exit" presetID="23" presetSubtype="272">
                                  <p:stCondLst>
                                    <p:cond delay="9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18" dur="15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15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1" nodeType="withEffect" fill="hold" presetClass="exit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22" dur="15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15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矩形 4"/>
          <p:cNvSpPr/>
          <p:nvPr/>
        </p:nvSpPr>
        <p:spPr>
          <a:xfrm>
            <a:off x="0" y="1851120"/>
            <a:ext cx="9144000" cy="2520720"/>
          </a:xfrm>
          <a:prstGeom prst="rect">
            <a:avLst/>
          </a:prstGeom>
          <a:solidFill>
            <a:srgbClr val="000000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椭圆 18"/>
          <p:cNvSpPr/>
          <p:nvPr/>
        </p:nvSpPr>
        <p:spPr>
          <a:xfrm>
            <a:off x="914400" y="195120"/>
            <a:ext cx="1285920" cy="1285920"/>
          </a:xfrm>
          <a:prstGeom prst="ellips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28"/>
          <p:cNvSpPr/>
          <p:nvPr/>
        </p:nvSpPr>
        <p:spPr>
          <a:xfrm>
            <a:off x="914400" y="407880"/>
            <a:ext cx="128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f7f7f"/>
                </a:solidFill>
                <a:latin typeface="Microsoft Himalaya"/>
              </a:rPr>
              <a:t>LO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914400" y="758880"/>
            <a:ext cx="1285920" cy="703800"/>
            <a:chOff x="914400" y="758880"/>
            <a:chExt cx="1285920" cy="703800"/>
          </a:xfrm>
        </p:grpSpPr>
        <p:sp>
          <p:nvSpPr>
            <p:cNvPr id="59" name="TextBox 27"/>
            <p:cNvSpPr/>
            <p:nvPr/>
          </p:nvSpPr>
          <p:spPr>
            <a:xfrm>
              <a:off x="914400" y="758880"/>
              <a:ext cx="12859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Microsoft Himalaya"/>
                </a:rPr>
                <a:t>YOUR TIT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矩形 29"/>
            <p:cNvSpPr/>
            <p:nvPr/>
          </p:nvSpPr>
          <p:spPr>
            <a:xfrm>
              <a:off x="1185120" y="974160"/>
              <a:ext cx="744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icrosoft Himalaya"/>
                </a:rPr>
                <a:t>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1" name="Picture 3" descr=""/>
          <p:cNvPicPr/>
          <p:nvPr/>
        </p:nvPicPr>
        <p:blipFill>
          <a:blip r:embed="rId1"/>
          <a:srcRect l="0" t="17725" r="105" b="38219"/>
          <a:stretch/>
        </p:blipFill>
        <p:spPr>
          <a:xfrm>
            <a:off x="0" y="1851120"/>
            <a:ext cx="9144000" cy="25207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" descr=""/>
          <p:cNvPicPr/>
          <p:nvPr/>
        </p:nvPicPr>
        <p:blipFill>
          <a:blip r:embed="rId2"/>
          <a:srcRect l="142" t="16637" r="-138" b="42012"/>
          <a:stretch/>
        </p:blipFill>
        <p:spPr>
          <a:xfrm>
            <a:off x="0" y="1851120"/>
            <a:ext cx="9144000" cy="2520720"/>
          </a:xfrm>
          <a:prstGeom prst="rect">
            <a:avLst/>
          </a:prstGeom>
          <a:ln w="0">
            <a:noFill/>
          </a:ln>
        </p:spPr>
      </p:pic>
      <p:sp>
        <p:nvSpPr>
          <p:cNvPr id="63" name="燕尾形 39"/>
          <p:cNvSpPr/>
          <p:nvPr/>
        </p:nvSpPr>
        <p:spPr>
          <a:xfrm>
            <a:off x="-1003320" y="1851120"/>
            <a:ext cx="1704960" cy="2520720"/>
          </a:xfrm>
          <a:custGeom>
            <a:avLst/>
            <a:gdLst>
              <a:gd name="textAreaLeft" fmla="*/ 0 w 1704960"/>
              <a:gd name="textAreaRight" fmla="*/ 1705320 w 170496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燕尾形 40"/>
          <p:cNvSpPr/>
          <p:nvPr/>
        </p:nvSpPr>
        <p:spPr>
          <a:xfrm>
            <a:off x="-147600" y="1851120"/>
            <a:ext cx="1703520" cy="2520720"/>
          </a:xfrm>
          <a:custGeom>
            <a:avLst/>
            <a:gdLst>
              <a:gd name="textAreaLeft" fmla="*/ 0 w 1703520"/>
              <a:gd name="textAreaRight" fmla="*/ 1703880 w 170352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燕尾形 41"/>
          <p:cNvSpPr/>
          <p:nvPr/>
        </p:nvSpPr>
        <p:spPr>
          <a:xfrm>
            <a:off x="701640" y="1851120"/>
            <a:ext cx="1709640" cy="2520720"/>
          </a:xfrm>
          <a:custGeom>
            <a:avLst/>
            <a:gdLst>
              <a:gd name="textAreaLeft" fmla="*/ 0 w 1709640"/>
              <a:gd name="textAreaRight" fmla="*/ 1710000 w 170964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燕尾形 42"/>
          <p:cNvSpPr/>
          <p:nvPr/>
        </p:nvSpPr>
        <p:spPr>
          <a:xfrm>
            <a:off x="1555920" y="1851120"/>
            <a:ext cx="1711080" cy="2520720"/>
          </a:xfrm>
          <a:custGeom>
            <a:avLst/>
            <a:gdLst>
              <a:gd name="textAreaLeft" fmla="*/ 0 w 1711080"/>
              <a:gd name="textAreaRight" fmla="*/ 1711440 w 171108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燕尾形 43"/>
          <p:cNvSpPr/>
          <p:nvPr/>
        </p:nvSpPr>
        <p:spPr>
          <a:xfrm>
            <a:off x="2411280" y="1851120"/>
            <a:ext cx="1710000" cy="2520720"/>
          </a:xfrm>
          <a:custGeom>
            <a:avLst/>
            <a:gdLst>
              <a:gd name="textAreaLeft" fmla="*/ 0 w 1710000"/>
              <a:gd name="textAreaRight" fmla="*/ 1710360 w 171000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燕尾形 44"/>
          <p:cNvSpPr/>
          <p:nvPr/>
        </p:nvSpPr>
        <p:spPr>
          <a:xfrm>
            <a:off x="3267000" y="1851120"/>
            <a:ext cx="1709640" cy="2520720"/>
          </a:xfrm>
          <a:custGeom>
            <a:avLst/>
            <a:gdLst>
              <a:gd name="textAreaLeft" fmla="*/ 0 w 1709640"/>
              <a:gd name="textAreaRight" fmla="*/ 1710000 w 170964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燕尾形 45"/>
          <p:cNvSpPr/>
          <p:nvPr/>
        </p:nvSpPr>
        <p:spPr>
          <a:xfrm>
            <a:off x="4121280" y="1851120"/>
            <a:ext cx="1711080" cy="2520720"/>
          </a:xfrm>
          <a:custGeom>
            <a:avLst/>
            <a:gdLst>
              <a:gd name="textAreaLeft" fmla="*/ 0 w 1711080"/>
              <a:gd name="textAreaRight" fmla="*/ 1711440 w 171108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燕尾形 46"/>
          <p:cNvSpPr/>
          <p:nvPr/>
        </p:nvSpPr>
        <p:spPr>
          <a:xfrm>
            <a:off x="4976640" y="1851120"/>
            <a:ext cx="1710000" cy="2520720"/>
          </a:xfrm>
          <a:custGeom>
            <a:avLst/>
            <a:gdLst>
              <a:gd name="textAreaLeft" fmla="*/ 0 w 1710000"/>
              <a:gd name="textAreaRight" fmla="*/ 1710360 w 171000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燕尾形 47"/>
          <p:cNvSpPr/>
          <p:nvPr/>
        </p:nvSpPr>
        <p:spPr>
          <a:xfrm>
            <a:off x="5832360" y="1851120"/>
            <a:ext cx="1710000" cy="2520720"/>
          </a:xfrm>
          <a:custGeom>
            <a:avLst/>
            <a:gdLst>
              <a:gd name="textAreaLeft" fmla="*/ 0 w 1710000"/>
              <a:gd name="textAreaRight" fmla="*/ 1710360 w 171000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燕尾形 48"/>
          <p:cNvSpPr/>
          <p:nvPr/>
        </p:nvSpPr>
        <p:spPr>
          <a:xfrm>
            <a:off x="6686640" y="1851120"/>
            <a:ext cx="1711080" cy="2520720"/>
          </a:xfrm>
          <a:custGeom>
            <a:avLst/>
            <a:gdLst>
              <a:gd name="textAreaLeft" fmla="*/ 0 w 1711080"/>
              <a:gd name="textAreaRight" fmla="*/ 1711440 w 171108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燕尾形 49"/>
          <p:cNvSpPr/>
          <p:nvPr/>
        </p:nvSpPr>
        <p:spPr>
          <a:xfrm>
            <a:off x="7542360" y="1851120"/>
            <a:ext cx="1709640" cy="2520720"/>
          </a:xfrm>
          <a:custGeom>
            <a:avLst/>
            <a:gdLst>
              <a:gd name="textAreaLeft" fmla="*/ 0 w 1709640"/>
              <a:gd name="textAreaRight" fmla="*/ 1710000 w 170964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燕尾形 50"/>
          <p:cNvSpPr/>
          <p:nvPr/>
        </p:nvSpPr>
        <p:spPr>
          <a:xfrm>
            <a:off x="8397720" y="1851120"/>
            <a:ext cx="1710000" cy="2520720"/>
          </a:xfrm>
          <a:custGeom>
            <a:avLst/>
            <a:gdLst>
              <a:gd name="textAreaLeft" fmla="*/ 0 w 1710000"/>
              <a:gd name="textAreaRight" fmla="*/ 1710360 w 171000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3660840" y="949320"/>
            <a:ext cx="4897440" cy="947160"/>
            <a:chOff x="3660840" y="949320"/>
            <a:chExt cx="4897440" cy="947160"/>
          </a:xfrm>
        </p:grpSpPr>
        <p:sp>
          <p:nvSpPr>
            <p:cNvPr id="76" name="TextBox 52"/>
            <p:cNvSpPr/>
            <p:nvPr/>
          </p:nvSpPr>
          <p:spPr>
            <a:xfrm>
              <a:off x="3660840" y="949320"/>
              <a:ext cx="982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bfbfbf"/>
                  </a:solidFill>
                  <a:latin typeface="Microsoft Himalaya"/>
                </a:rPr>
                <a:t>Text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TextBox 53"/>
            <p:cNvSpPr/>
            <p:nvPr/>
          </p:nvSpPr>
          <p:spPr>
            <a:xfrm>
              <a:off x="4639680" y="949320"/>
              <a:ext cx="982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bfbfbf"/>
                  </a:solidFill>
                  <a:latin typeface="Microsoft Himalaya"/>
                </a:rPr>
                <a:t>Text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TextBox 54"/>
            <p:cNvSpPr/>
            <p:nvPr/>
          </p:nvSpPr>
          <p:spPr>
            <a:xfrm>
              <a:off x="5618520" y="949320"/>
              <a:ext cx="982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bfbfbf"/>
                  </a:solidFill>
                  <a:latin typeface="Microsoft Himalaya"/>
                </a:rPr>
                <a:t>Text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TextBox 55"/>
            <p:cNvSpPr/>
            <p:nvPr/>
          </p:nvSpPr>
          <p:spPr>
            <a:xfrm>
              <a:off x="6597360" y="949320"/>
              <a:ext cx="982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bfbfbf"/>
                  </a:solidFill>
                  <a:latin typeface="Microsoft Himalaya"/>
                </a:rPr>
                <a:t>Text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TextBox 56"/>
            <p:cNvSpPr/>
            <p:nvPr/>
          </p:nvSpPr>
          <p:spPr>
            <a:xfrm>
              <a:off x="7576200" y="949320"/>
              <a:ext cx="982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bfbfbf"/>
                  </a:solidFill>
                  <a:latin typeface="Microsoft Himalaya"/>
                </a:rPr>
                <a:t>Text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xit" presetID="22" presetSubtype="8">
                                  <p:stCondLst>
                                    <p:cond delay="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8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5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5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3" presetSubtype="16">
                                  <p:stCondLst>
                                    <p:cond delay="5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5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5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3" presetSubtype="16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5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5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3" presetSubtype="16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5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5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5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5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3" presetSubtype="16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5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5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3" presetSubtype="1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5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5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3" presetSubtype="16">
                                  <p:stCondLst>
                                    <p:cond delay="35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5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5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5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5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3" presetSubtype="16">
                                  <p:stCondLst>
                                    <p:cond delay="45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5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5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xit" presetID="23" presetSubtype="272">
                                  <p:stCondLst>
                                    <p:cond delay="4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2" dur="15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5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5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5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xit" presetID="23" presetSubtype="272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0" dur="15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5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3" presetSubtype="16">
                                  <p:stCondLst>
                                    <p:cond delay="55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5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5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23" presetSubtype="272">
                                  <p:stCondLst>
                                    <p:cond delay="5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8" dur="15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5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xit" presetID="23" presetSubtype="272">
                                  <p:stCondLst>
                                    <p:cond delay="6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2" dur="15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5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23" presetSubtype="272">
                                  <p:stCondLst>
                                    <p:cond delay="6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6" dur="15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5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xit" presetID="23" presetSubtype="272">
                                  <p:stCondLst>
                                    <p:cond delay="7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0" dur="15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5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xit" presetID="23" presetSubtype="272">
                                  <p:stCondLst>
                                    <p:cond delay="7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4" dur="15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5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xit" presetID="23" presetSubtype="272">
                                  <p:stCondLst>
                                    <p:cond delay="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8" dur="150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50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23" presetSubtype="272">
                                  <p:stCondLst>
                                    <p:cond delay="8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2" dur="15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5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xit" presetID="23" presetSubtype="272">
                                  <p:stCondLst>
                                    <p:cond delay="9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6" dur="15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5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xit" presetID="23" presetSubtype="272">
                                  <p:stCondLst>
                                    <p:cond delay="9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0" dur="15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5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xit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4" dur="150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50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矩形 4"/>
          <p:cNvSpPr/>
          <p:nvPr/>
        </p:nvSpPr>
        <p:spPr>
          <a:xfrm>
            <a:off x="0" y="1851120"/>
            <a:ext cx="9144000" cy="2520720"/>
          </a:xfrm>
          <a:prstGeom prst="rect">
            <a:avLst/>
          </a:prstGeom>
          <a:solidFill>
            <a:srgbClr val="000000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椭圆 18"/>
          <p:cNvSpPr/>
          <p:nvPr/>
        </p:nvSpPr>
        <p:spPr>
          <a:xfrm>
            <a:off x="914400" y="195120"/>
            <a:ext cx="1285920" cy="1285920"/>
          </a:xfrm>
          <a:prstGeom prst="ellips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28"/>
          <p:cNvSpPr/>
          <p:nvPr/>
        </p:nvSpPr>
        <p:spPr>
          <a:xfrm>
            <a:off x="914400" y="407880"/>
            <a:ext cx="128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f7f7f"/>
                </a:solidFill>
                <a:latin typeface="Microsoft Himalaya"/>
              </a:rPr>
              <a:t>LO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914400" y="758880"/>
            <a:ext cx="1285920" cy="703800"/>
            <a:chOff x="914400" y="758880"/>
            <a:chExt cx="1285920" cy="703800"/>
          </a:xfrm>
        </p:grpSpPr>
        <p:sp>
          <p:nvSpPr>
            <p:cNvPr id="85" name="TextBox 27"/>
            <p:cNvSpPr/>
            <p:nvPr/>
          </p:nvSpPr>
          <p:spPr>
            <a:xfrm>
              <a:off x="914400" y="758880"/>
              <a:ext cx="12859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Microsoft Himalaya"/>
                </a:rPr>
                <a:t>YOUR TIT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矩形 29"/>
            <p:cNvSpPr/>
            <p:nvPr/>
          </p:nvSpPr>
          <p:spPr>
            <a:xfrm>
              <a:off x="1185120" y="974160"/>
              <a:ext cx="744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icrosoft Himalaya"/>
                </a:rPr>
                <a:t>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7" name="Picture 2" descr=""/>
          <p:cNvPicPr/>
          <p:nvPr/>
        </p:nvPicPr>
        <p:blipFill>
          <a:blip r:embed="rId1"/>
          <a:srcRect l="142" t="16637" r="-138" b="42012"/>
          <a:stretch/>
        </p:blipFill>
        <p:spPr>
          <a:xfrm>
            <a:off x="0" y="1851120"/>
            <a:ext cx="9144000" cy="252072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3660840" y="949320"/>
            <a:ext cx="4897440" cy="947160"/>
            <a:chOff x="3660840" y="949320"/>
            <a:chExt cx="4897440" cy="947160"/>
          </a:xfrm>
        </p:grpSpPr>
        <p:sp>
          <p:nvSpPr>
            <p:cNvPr id="89" name="TextBox 17"/>
            <p:cNvSpPr/>
            <p:nvPr/>
          </p:nvSpPr>
          <p:spPr>
            <a:xfrm>
              <a:off x="3660840" y="949320"/>
              <a:ext cx="982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bfbfbf"/>
                  </a:solidFill>
                  <a:latin typeface="Microsoft Himalaya"/>
                </a:rPr>
                <a:t>Text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TextBox 20"/>
            <p:cNvSpPr/>
            <p:nvPr/>
          </p:nvSpPr>
          <p:spPr>
            <a:xfrm>
              <a:off x="4639680" y="949320"/>
              <a:ext cx="982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Microsoft Himalaya"/>
                </a:rPr>
                <a:t>Text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TextBox 25"/>
            <p:cNvSpPr/>
            <p:nvPr/>
          </p:nvSpPr>
          <p:spPr>
            <a:xfrm>
              <a:off x="5618520" y="949320"/>
              <a:ext cx="982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bfbfbf"/>
                  </a:solidFill>
                  <a:latin typeface="Microsoft Himalaya"/>
                </a:rPr>
                <a:t>Text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TextBox 31"/>
            <p:cNvSpPr/>
            <p:nvPr/>
          </p:nvSpPr>
          <p:spPr>
            <a:xfrm>
              <a:off x="6597360" y="949320"/>
              <a:ext cx="982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bfbfbf"/>
                  </a:solidFill>
                  <a:latin typeface="Microsoft Himalaya"/>
                </a:rPr>
                <a:t>Text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TextBox 32"/>
            <p:cNvSpPr/>
            <p:nvPr/>
          </p:nvSpPr>
          <p:spPr>
            <a:xfrm>
              <a:off x="7576200" y="949320"/>
              <a:ext cx="982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bfbfbf"/>
                  </a:solidFill>
                  <a:latin typeface="Microsoft Himalaya"/>
                </a:rPr>
                <a:t>Text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直接连接符 33"/>
          <p:cNvSpPr/>
          <p:nvPr/>
        </p:nvSpPr>
        <p:spPr>
          <a:xfrm>
            <a:off x="4782960" y="1343160"/>
            <a:ext cx="689040" cy="144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矩形 4"/>
          <p:cNvSpPr/>
          <p:nvPr/>
        </p:nvSpPr>
        <p:spPr>
          <a:xfrm>
            <a:off x="0" y="1851120"/>
            <a:ext cx="9144000" cy="2520720"/>
          </a:xfrm>
          <a:prstGeom prst="rect">
            <a:avLst/>
          </a:prstGeom>
          <a:solidFill>
            <a:srgbClr val="000000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椭圆 18"/>
          <p:cNvSpPr/>
          <p:nvPr/>
        </p:nvSpPr>
        <p:spPr>
          <a:xfrm>
            <a:off x="914400" y="195120"/>
            <a:ext cx="1285920" cy="1285920"/>
          </a:xfrm>
          <a:prstGeom prst="ellips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28"/>
          <p:cNvSpPr/>
          <p:nvPr/>
        </p:nvSpPr>
        <p:spPr>
          <a:xfrm>
            <a:off x="914400" y="407880"/>
            <a:ext cx="128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f7f7f"/>
                </a:solidFill>
                <a:latin typeface="Microsoft Himalaya"/>
              </a:rPr>
              <a:t>LO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914400" y="758880"/>
            <a:ext cx="1285920" cy="703800"/>
            <a:chOff x="914400" y="758880"/>
            <a:chExt cx="1285920" cy="703800"/>
          </a:xfrm>
        </p:grpSpPr>
        <p:sp>
          <p:nvSpPr>
            <p:cNvPr id="99" name="TextBox 27"/>
            <p:cNvSpPr/>
            <p:nvPr/>
          </p:nvSpPr>
          <p:spPr>
            <a:xfrm>
              <a:off x="914400" y="758880"/>
              <a:ext cx="12859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Microsoft Himalaya"/>
                </a:rPr>
                <a:t>YOUR TIT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矩形 29"/>
            <p:cNvSpPr/>
            <p:nvPr/>
          </p:nvSpPr>
          <p:spPr>
            <a:xfrm>
              <a:off x="1185120" y="974160"/>
              <a:ext cx="744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icrosoft Himalaya"/>
                </a:rPr>
                <a:t>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Picture 2" descr=""/>
          <p:cNvPicPr/>
          <p:nvPr/>
        </p:nvPicPr>
        <p:blipFill>
          <a:blip r:embed="rId1"/>
          <a:srcRect l="142" t="16637" r="-138" b="42012"/>
          <a:stretch/>
        </p:blipFill>
        <p:spPr>
          <a:xfrm>
            <a:off x="0" y="1851120"/>
            <a:ext cx="9144000" cy="25207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2" descr=""/>
          <p:cNvPicPr/>
          <p:nvPr/>
        </p:nvPicPr>
        <p:blipFill>
          <a:blip r:embed="rId2"/>
          <a:srcRect l="215" t="23654" r="-204" b="35036"/>
          <a:stretch/>
        </p:blipFill>
        <p:spPr>
          <a:xfrm>
            <a:off x="-4680" y="1851120"/>
            <a:ext cx="9159840" cy="2520720"/>
          </a:xfrm>
          <a:prstGeom prst="rect">
            <a:avLst/>
          </a:prstGeom>
          <a:ln w="0">
            <a:noFill/>
          </a:ln>
        </p:spPr>
      </p:pic>
      <p:sp>
        <p:nvSpPr>
          <p:cNvPr id="103" name="燕尾形 17"/>
          <p:cNvSpPr/>
          <p:nvPr/>
        </p:nvSpPr>
        <p:spPr>
          <a:xfrm>
            <a:off x="-1003320" y="1851120"/>
            <a:ext cx="1704960" cy="2520720"/>
          </a:xfrm>
          <a:custGeom>
            <a:avLst/>
            <a:gdLst>
              <a:gd name="textAreaLeft" fmla="*/ 0 w 1704960"/>
              <a:gd name="textAreaRight" fmla="*/ 1705320 w 170496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燕尾形 20"/>
          <p:cNvSpPr/>
          <p:nvPr/>
        </p:nvSpPr>
        <p:spPr>
          <a:xfrm>
            <a:off x="-147600" y="1851120"/>
            <a:ext cx="1703520" cy="2520720"/>
          </a:xfrm>
          <a:custGeom>
            <a:avLst/>
            <a:gdLst>
              <a:gd name="textAreaLeft" fmla="*/ 0 w 1703520"/>
              <a:gd name="textAreaRight" fmla="*/ 1703880 w 170352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燕尾形 25"/>
          <p:cNvSpPr/>
          <p:nvPr/>
        </p:nvSpPr>
        <p:spPr>
          <a:xfrm>
            <a:off x="701640" y="1851120"/>
            <a:ext cx="1709640" cy="2520720"/>
          </a:xfrm>
          <a:custGeom>
            <a:avLst/>
            <a:gdLst>
              <a:gd name="textAreaLeft" fmla="*/ 0 w 1709640"/>
              <a:gd name="textAreaRight" fmla="*/ 1710000 w 170964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燕尾形 31"/>
          <p:cNvSpPr/>
          <p:nvPr/>
        </p:nvSpPr>
        <p:spPr>
          <a:xfrm>
            <a:off x="1555920" y="1851120"/>
            <a:ext cx="1711080" cy="2520720"/>
          </a:xfrm>
          <a:custGeom>
            <a:avLst/>
            <a:gdLst>
              <a:gd name="textAreaLeft" fmla="*/ 0 w 1711080"/>
              <a:gd name="textAreaRight" fmla="*/ 1711440 w 171108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燕尾形 32"/>
          <p:cNvSpPr/>
          <p:nvPr/>
        </p:nvSpPr>
        <p:spPr>
          <a:xfrm>
            <a:off x="2411280" y="1851120"/>
            <a:ext cx="1710000" cy="2520720"/>
          </a:xfrm>
          <a:custGeom>
            <a:avLst/>
            <a:gdLst>
              <a:gd name="textAreaLeft" fmla="*/ 0 w 1710000"/>
              <a:gd name="textAreaRight" fmla="*/ 1710360 w 171000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燕尾形 33"/>
          <p:cNvSpPr/>
          <p:nvPr/>
        </p:nvSpPr>
        <p:spPr>
          <a:xfrm>
            <a:off x="3267000" y="1851120"/>
            <a:ext cx="1709640" cy="2520720"/>
          </a:xfrm>
          <a:custGeom>
            <a:avLst/>
            <a:gdLst>
              <a:gd name="textAreaLeft" fmla="*/ 0 w 1709640"/>
              <a:gd name="textAreaRight" fmla="*/ 1710000 w 170964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燕尾形 34"/>
          <p:cNvSpPr/>
          <p:nvPr/>
        </p:nvSpPr>
        <p:spPr>
          <a:xfrm>
            <a:off x="4121280" y="1851120"/>
            <a:ext cx="1711080" cy="2520720"/>
          </a:xfrm>
          <a:custGeom>
            <a:avLst/>
            <a:gdLst>
              <a:gd name="textAreaLeft" fmla="*/ 0 w 1711080"/>
              <a:gd name="textAreaRight" fmla="*/ 1711440 w 171108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燕尾形 35"/>
          <p:cNvSpPr/>
          <p:nvPr/>
        </p:nvSpPr>
        <p:spPr>
          <a:xfrm>
            <a:off x="4976640" y="1851120"/>
            <a:ext cx="1710000" cy="2520720"/>
          </a:xfrm>
          <a:custGeom>
            <a:avLst/>
            <a:gdLst>
              <a:gd name="textAreaLeft" fmla="*/ 0 w 1710000"/>
              <a:gd name="textAreaRight" fmla="*/ 1710360 w 171000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燕尾形 36"/>
          <p:cNvSpPr/>
          <p:nvPr/>
        </p:nvSpPr>
        <p:spPr>
          <a:xfrm>
            <a:off x="5832360" y="1851120"/>
            <a:ext cx="1710000" cy="2520720"/>
          </a:xfrm>
          <a:custGeom>
            <a:avLst/>
            <a:gdLst>
              <a:gd name="textAreaLeft" fmla="*/ 0 w 1710000"/>
              <a:gd name="textAreaRight" fmla="*/ 1710360 w 171000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燕尾形 37"/>
          <p:cNvSpPr/>
          <p:nvPr/>
        </p:nvSpPr>
        <p:spPr>
          <a:xfrm>
            <a:off x="6686640" y="1851120"/>
            <a:ext cx="1711080" cy="2520720"/>
          </a:xfrm>
          <a:custGeom>
            <a:avLst/>
            <a:gdLst>
              <a:gd name="textAreaLeft" fmla="*/ 0 w 1711080"/>
              <a:gd name="textAreaRight" fmla="*/ 1711440 w 171108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燕尾形 38"/>
          <p:cNvSpPr/>
          <p:nvPr/>
        </p:nvSpPr>
        <p:spPr>
          <a:xfrm>
            <a:off x="7542360" y="1851120"/>
            <a:ext cx="1709640" cy="2520720"/>
          </a:xfrm>
          <a:custGeom>
            <a:avLst/>
            <a:gdLst>
              <a:gd name="textAreaLeft" fmla="*/ 0 w 1709640"/>
              <a:gd name="textAreaRight" fmla="*/ 1710000 w 170964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燕尾形 39"/>
          <p:cNvSpPr/>
          <p:nvPr/>
        </p:nvSpPr>
        <p:spPr>
          <a:xfrm>
            <a:off x="8397720" y="1851120"/>
            <a:ext cx="1710000" cy="2520720"/>
          </a:xfrm>
          <a:custGeom>
            <a:avLst/>
            <a:gdLst>
              <a:gd name="textAreaLeft" fmla="*/ 0 w 1710000"/>
              <a:gd name="textAreaRight" fmla="*/ 1710360 w 171000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3660840" y="949320"/>
            <a:ext cx="4897440" cy="947160"/>
            <a:chOff x="3660840" y="949320"/>
            <a:chExt cx="4897440" cy="947160"/>
          </a:xfrm>
        </p:grpSpPr>
        <p:sp>
          <p:nvSpPr>
            <p:cNvPr id="116" name="TextBox 41"/>
            <p:cNvSpPr/>
            <p:nvPr/>
          </p:nvSpPr>
          <p:spPr>
            <a:xfrm>
              <a:off x="3660840" y="949320"/>
              <a:ext cx="982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bfbfbf"/>
                  </a:solidFill>
                  <a:latin typeface="Microsoft Himalaya"/>
                </a:rPr>
                <a:t>Text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TextBox 42"/>
            <p:cNvSpPr/>
            <p:nvPr/>
          </p:nvSpPr>
          <p:spPr>
            <a:xfrm>
              <a:off x="4639680" y="949320"/>
              <a:ext cx="982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bfbfbf"/>
                  </a:solidFill>
                  <a:latin typeface="Microsoft Himalaya"/>
                </a:rPr>
                <a:t>Text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TextBox 43"/>
            <p:cNvSpPr/>
            <p:nvPr/>
          </p:nvSpPr>
          <p:spPr>
            <a:xfrm>
              <a:off x="5618520" y="949320"/>
              <a:ext cx="982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bfbfbf"/>
                  </a:solidFill>
                  <a:latin typeface="Microsoft Himalaya"/>
                </a:rPr>
                <a:t>Text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TextBox 44"/>
            <p:cNvSpPr/>
            <p:nvPr/>
          </p:nvSpPr>
          <p:spPr>
            <a:xfrm>
              <a:off x="6597360" y="949320"/>
              <a:ext cx="982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bfbfbf"/>
                  </a:solidFill>
                  <a:latin typeface="Microsoft Himalaya"/>
                </a:rPr>
                <a:t>Text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TextBox 45"/>
            <p:cNvSpPr/>
            <p:nvPr/>
          </p:nvSpPr>
          <p:spPr>
            <a:xfrm>
              <a:off x="7576200" y="949320"/>
              <a:ext cx="982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bfbfbf"/>
                  </a:solidFill>
                  <a:latin typeface="Microsoft Himalaya"/>
                </a:rPr>
                <a:t>Text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xit" presetID="22" presetSubtype="8">
                                  <p:stCondLst>
                                    <p:cond delay="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2" presetSubtype="8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5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5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3" presetSubtype="16">
                                  <p:stCondLst>
                                    <p:cond delay="5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5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5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3" presetSubtype="16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5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5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3" presetSubtype="16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5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5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5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5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3" presetSubtype="16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5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5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3" presetSubtype="1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5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5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3" presetSubtype="16">
                                  <p:stCondLst>
                                    <p:cond delay="35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5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5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5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5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3" presetSubtype="16">
                                  <p:stCondLst>
                                    <p:cond delay="45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5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5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xit" presetID="23" presetSubtype="272">
                                  <p:stCondLst>
                                    <p:cond delay="4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8" dur="15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5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5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5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xit" presetID="23" presetSubtype="272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6" dur="15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5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3" presetSubtype="16">
                                  <p:stCondLst>
                                    <p:cond delay="55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5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5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xit" presetID="23" presetSubtype="272">
                                  <p:stCondLst>
                                    <p:cond delay="5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4" dur="15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5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xit" presetID="23" presetSubtype="272">
                                  <p:stCondLst>
                                    <p:cond delay="6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8" dur="15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5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xit" presetID="23" presetSubtype="272">
                                  <p:stCondLst>
                                    <p:cond delay="6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2" dur="15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5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xit" presetID="23" presetSubtype="272">
                                  <p:stCondLst>
                                    <p:cond delay="7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6" dur="15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5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xit" presetID="23" presetSubtype="272">
                                  <p:stCondLst>
                                    <p:cond delay="7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0" dur="15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5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xit" presetID="23" presetSubtype="272">
                                  <p:stCondLst>
                                    <p:cond delay="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4" dur="15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5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xit" presetID="23" presetSubtype="272">
                                  <p:stCondLst>
                                    <p:cond delay="8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8" dur="15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5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xit" presetID="23" presetSubtype="272">
                                  <p:stCondLst>
                                    <p:cond delay="9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2" dur="15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5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xit" presetID="23" presetSubtype="272">
                                  <p:stCondLst>
                                    <p:cond delay="9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6" dur="15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5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xit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0" dur="15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5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矩形 4"/>
          <p:cNvSpPr/>
          <p:nvPr/>
        </p:nvSpPr>
        <p:spPr>
          <a:xfrm>
            <a:off x="0" y="1851120"/>
            <a:ext cx="9144000" cy="2520720"/>
          </a:xfrm>
          <a:prstGeom prst="rect">
            <a:avLst/>
          </a:prstGeom>
          <a:solidFill>
            <a:srgbClr val="000000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椭圆 18"/>
          <p:cNvSpPr/>
          <p:nvPr/>
        </p:nvSpPr>
        <p:spPr>
          <a:xfrm>
            <a:off x="914400" y="195120"/>
            <a:ext cx="1285920" cy="1285920"/>
          </a:xfrm>
          <a:prstGeom prst="ellips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28"/>
          <p:cNvSpPr/>
          <p:nvPr/>
        </p:nvSpPr>
        <p:spPr>
          <a:xfrm>
            <a:off x="914400" y="407880"/>
            <a:ext cx="128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f7f7f"/>
                </a:solidFill>
                <a:latin typeface="Microsoft Himalaya"/>
              </a:rPr>
              <a:t>LO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914400" y="758880"/>
            <a:ext cx="1285920" cy="703800"/>
            <a:chOff x="914400" y="758880"/>
            <a:chExt cx="1285920" cy="703800"/>
          </a:xfrm>
        </p:grpSpPr>
        <p:sp>
          <p:nvSpPr>
            <p:cNvPr id="125" name="TextBox 27"/>
            <p:cNvSpPr/>
            <p:nvPr/>
          </p:nvSpPr>
          <p:spPr>
            <a:xfrm>
              <a:off x="914400" y="758880"/>
              <a:ext cx="12859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Microsoft Himalaya"/>
                </a:rPr>
                <a:t>YOUR TIT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矩形 29"/>
            <p:cNvSpPr/>
            <p:nvPr/>
          </p:nvSpPr>
          <p:spPr>
            <a:xfrm>
              <a:off x="1185120" y="974160"/>
              <a:ext cx="744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icrosoft Himalaya"/>
                </a:rPr>
                <a:t>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7" name="Picture 2" descr=""/>
          <p:cNvPicPr/>
          <p:nvPr/>
        </p:nvPicPr>
        <p:blipFill>
          <a:blip r:embed="rId1"/>
          <a:srcRect l="215" t="23654" r="-204" b="35036"/>
          <a:stretch/>
        </p:blipFill>
        <p:spPr>
          <a:xfrm>
            <a:off x="-4680" y="1851120"/>
            <a:ext cx="9159840" cy="2520720"/>
          </a:xfrm>
          <a:prstGeom prst="rect">
            <a:avLst/>
          </a:prstGeom>
          <a:ln w="0">
            <a:noFill/>
          </a:ln>
        </p:spPr>
      </p:pic>
      <p:grpSp>
        <p:nvGrpSpPr>
          <p:cNvPr id="128" name=""/>
          <p:cNvGrpSpPr/>
          <p:nvPr/>
        </p:nvGrpSpPr>
        <p:grpSpPr>
          <a:xfrm>
            <a:off x="3660840" y="949320"/>
            <a:ext cx="4897440" cy="947160"/>
            <a:chOff x="3660840" y="949320"/>
            <a:chExt cx="4897440" cy="947160"/>
          </a:xfrm>
        </p:grpSpPr>
        <p:sp>
          <p:nvSpPr>
            <p:cNvPr id="129" name="TextBox 20"/>
            <p:cNvSpPr/>
            <p:nvPr/>
          </p:nvSpPr>
          <p:spPr>
            <a:xfrm>
              <a:off x="3660840" y="949320"/>
              <a:ext cx="982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bfbfbf"/>
                  </a:solidFill>
                  <a:latin typeface="Microsoft Himalaya"/>
                </a:rPr>
                <a:t>Text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TextBox 25"/>
            <p:cNvSpPr/>
            <p:nvPr/>
          </p:nvSpPr>
          <p:spPr>
            <a:xfrm>
              <a:off x="4639680" y="949320"/>
              <a:ext cx="982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bfbfbf"/>
                  </a:solidFill>
                  <a:latin typeface="Microsoft Himalaya"/>
                </a:rPr>
                <a:t>Text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TextBox 31"/>
            <p:cNvSpPr/>
            <p:nvPr/>
          </p:nvSpPr>
          <p:spPr>
            <a:xfrm>
              <a:off x="5618520" y="949320"/>
              <a:ext cx="982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Microsoft Himalaya"/>
                </a:rPr>
                <a:t>Text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TextBox 32"/>
            <p:cNvSpPr/>
            <p:nvPr/>
          </p:nvSpPr>
          <p:spPr>
            <a:xfrm>
              <a:off x="6597360" y="949320"/>
              <a:ext cx="982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bfbfbf"/>
                  </a:solidFill>
                  <a:latin typeface="Microsoft Himalaya"/>
                </a:rPr>
                <a:t>Text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TextBox 33"/>
            <p:cNvSpPr/>
            <p:nvPr/>
          </p:nvSpPr>
          <p:spPr>
            <a:xfrm>
              <a:off x="7576200" y="949320"/>
              <a:ext cx="982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bfbfbf"/>
                  </a:solidFill>
                  <a:latin typeface="Microsoft Himalaya"/>
                </a:rPr>
                <a:t>Text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直接连接符 34"/>
          <p:cNvSpPr/>
          <p:nvPr/>
        </p:nvSpPr>
        <p:spPr>
          <a:xfrm>
            <a:off x="5742000" y="1343160"/>
            <a:ext cx="690480" cy="144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矩形 4"/>
          <p:cNvSpPr/>
          <p:nvPr/>
        </p:nvSpPr>
        <p:spPr>
          <a:xfrm>
            <a:off x="0" y="1851120"/>
            <a:ext cx="9144000" cy="2520720"/>
          </a:xfrm>
          <a:prstGeom prst="rect">
            <a:avLst/>
          </a:prstGeom>
          <a:solidFill>
            <a:srgbClr val="000000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椭圆 18"/>
          <p:cNvSpPr/>
          <p:nvPr/>
        </p:nvSpPr>
        <p:spPr>
          <a:xfrm>
            <a:off x="914400" y="195120"/>
            <a:ext cx="1285920" cy="1285920"/>
          </a:xfrm>
          <a:prstGeom prst="ellips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28"/>
          <p:cNvSpPr/>
          <p:nvPr/>
        </p:nvSpPr>
        <p:spPr>
          <a:xfrm>
            <a:off x="914400" y="407880"/>
            <a:ext cx="128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f7f7f"/>
                </a:solidFill>
                <a:latin typeface="Microsoft Himalaya"/>
              </a:rPr>
              <a:t>LO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914400" y="758880"/>
            <a:ext cx="1285920" cy="703800"/>
            <a:chOff x="914400" y="758880"/>
            <a:chExt cx="1285920" cy="703800"/>
          </a:xfrm>
        </p:grpSpPr>
        <p:sp>
          <p:nvSpPr>
            <p:cNvPr id="139" name="TextBox 27"/>
            <p:cNvSpPr/>
            <p:nvPr/>
          </p:nvSpPr>
          <p:spPr>
            <a:xfrm>
              <a:off x="914400" y="758880"/>
              <a:ext cx="12859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Microsoft Himalaya"/>
                </a:rPr>
                <a:t>YOUR TIT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矩形 29"/>
            <p:cNvSpPr/>
            <p:nvPr/>
          </p:nvSpPr>
          <p:spPr>
            <a:xfrm>
              <a:off x="1185120" y="974160"/>
              <a:ext cx="744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icrosoft Himalaya"/>
                </a:rPr>
                <a:t>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1" name="Picture 2" descr=""/>
          <p:cNvPicPr/>
          <p:nvPr/>
        </p:nvPicPr>
        <p:blipFill>
          <a:blip r:embed="rId1"/>
          <a:srcRect l="215" t="23654" r="-204" b="35036"/>
          <a:stretch/>
        </p:blipFill>
        <p:spPr>
          <a:xfrm>
            <a:off x="-4680" y="1851120"/>
            <a:ext cx="9159840" cy="25207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2" descr=""/>
          <p:cNvPicPr/>
          <p:nvPr/>
        </p:nvPicPr>
        <p:blipFill>
          <a:blip r:embed="rId2"/>
          <a:srcRect l="532" t="6381" r="210" b="48203"/>
          <a:stretch/>
        </p:blipFill>
        <p:spPr>
          <a:xfrm>
            <a:off x="0" y="1851120"/>
            <a:ext cx="9144000" cy="2520720"/>
          </a:xfrm>
          <a:prstGeom prst="rect">
            <a:avLst/>
          </a:prstGeom>
          <a:ln w="0">
            <a:noFill/>
          </a:ln>
        </p:spPr>
      </p:pic>
      <p:sp>
        <p:nvSpPr>
          <p:cNvPr id="143" name="燕尾形 17"/>
          <p:cNvSpPr/>
          <p:nvPr/>
        </p:nvSpPr>
        <p:spPr>
          <a:xfrm>
            <a:off x="-1003320" y="1851120"/>
            <a:ext cx="1704960" cy="2520720"/>
          </a:xfrm>
          <a:custGeom>
            <a:avLst/>
            <a:gdLst>
              <a:gd name="textAreaLeft" fmla="*/ 0 w 1704960"/>
              <a:gd name="textAreaRight" fmla="*/ 1705320 w 170496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燕尾形 20"/>
          <p:cNvSpPr/>
          <p:nvPr/>
        </p:nvSpPr>
        <p:spPr>
          <a:xfrm>
            <a:off x="-147600" y="1851120"/>
            <a:ext cx="1703520" cy="2520720"/>
          </a:xfrm>
          <a:custGeom>
            <a:avLst/>
            <a:gdLst>
              <a:gd name="textAreaLeft" fmla="*/ 0 w 1703520"/>
              <a:gd name="textAreaRight" fmla="*/ 1703880 w 170352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燕尾形 25"/>
          <p:cNvSpPr/>
          <p:nvPr/>
        </p:nvSpPr>
        <p:spPr>
          <a:xfrm>
            <a:off x="701640" y="1851120"/>
            <a:ext cx="1709640" cy="2520720"/>
          </a:xfrm>
          <a:custGeom>
            <a:avLst/>
            <a:gdLst>
              <a:gd name="textAreaLeft" fmla="*/ 0 w 1709640"/>
              <a:gd name="textAreaRight" fmla="*/ 1710000 w 170964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燕尾形 31"/>
          <p:cNvSpPr/>
          <p:nvPr/>
        </p:nvSpPr>
        <p:spPr>
          <a:xfrm>
            <a:off x="1555920" y="1851120"/>
            <a:ext cx="1711080" cy="2520720"/>
          </a:xfrm>
          <a:custGeom>
            <a:avLst/>
            <a:gdLst>
              <a:gd name="textAreaLeft" fmla="*/ 0 w 1711080"/>
              <a:gd name="textAreaRight" fmla="*/ 1711440 w 171108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燕尾形 32"/>
          <p:cNvSpPr/>
          <p:nvPr/>
        </p:nvSpPr>
        <p:spPr>
          <a:xfrm>
            <a:off x="2411280" y="1851120"/>
            <a:ext cx="1710000" cy="2520720"/>
          </a:xfrm>
          <a:custGeom>
            <a:avLst/>
            <a:gdLst>
              <a:gd name="textAreaLeft" fmla="*/ 0 w 1710000"/>
              <a:gd name="textAreaRight" fmla="*/ 1710360 w 171000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燕尾形 33"/>
          <p:cNvSpPr/>
          <p:nvPr/>
        </p:nvSpPr>
        <p:spPr>
          <a:xfrm>
            <a:off x="3267000" y="1851120"/>
            <a:ext cx="1709640" cy="2520720"/>
          </a:xfrm>
          <a:custGeom>
            <a:avLst/>
            <a:gdLst>
              <a:gd name="textAreaLeft" fmla="*/ 0 w 1709640"/>
              <a:gd name="textAreaRight" fmla="*/ 1710000 w 170964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燕尾形 34"/>
          <p:cNvSpPr/>
          <p:nvPr/>
        </p:nvSpPr>
        <p:spPr>
          <a:xfrm>
            <a:off x="4121280" y="1851120"/>
            <a:ext cx="1711080" cy="2520720"/>
          </a:xfrm>
          <a:custGeom>
            <a:avLst/>
            <a:gdLst>
              <a:gd name="textAreaLeft" fmla="*/ 0 w 1711080"/>
              <a:gd name="textAreaRight" fmla="*/ 1711440 w 171108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燕尾形 35"/>
          <p:cNvSpPr/>
          <p:nvPr/>
        </p:nvSpPr>
        <p:spPr>
          <a:xfrm>
            <a:off x="4976640" y="1851120"/>
            <a:ext cx="1710000" cy="2520720"/>
          </a:xfrm>
          <a:custGeom>
            <a:avLst/>
            <a:gdLst>
              <a:gd name="textAreaLeft" fmla="*/ 0 w 1710000"/>
              <a:gd name="textAreaRight" fmla="*/ 1710360 w 171000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燕尾形 36"/>
          <p:cNvSpPr/>
          <p:nvPr/>
        </p:nvSpPr>
        <p:spPr>
          <a:xfrm>
            <a:off x="5832360" y="1851120"/>
            <a:ext cx="1710000" cy="2520720"/>
          </a:xfrm>
          <a:custGeom>
            <a:avLst/>
            <a:gdLst>
              <a:gd name="textAreaLeft" fmla="*/ 0 w 1710000"/>
              <a:gd name="textAreaRight" fmla="*/ 1710360 w 171000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燕尾形 37"/>
          <p:cNvSpPr/>
          <p:nvPr/>
        </p:nvSpPr>
        <p:spPr>
          <a:xfrm>
            <a:off x="6686640" y="1851120"/>
            <a:ext cx="1711080" cy="2520720"/>
          </a:xfrm>
          <a:custGeom>
            <a:avLst/>
            <a:gdLst>
              <a:gd name="textAreaLeft" fmla="*/ 0 w 1711080"/>
              <a:gd name="textAreaRight" fmla="*/ 1711440 w 171108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燕尾形 38"/>
          <p:cNvSpPr/>
          <p:nvPr/>
        </p:nvSpPr>
        <p:spPr>
          <a:xfrm>
            <a:off x="7542360" y="1851120"/>
            <a:ext cx="1709640" cy="2520720"/>
          </a:xfrm>
          <a:custGeom>
            <a:avLst/>
            <a:gdLst>
              <a:gd name="textAreaLeft" fmla="*/ 0 w 1709640"/>
              <a:gd name="textAreaRight" fmla="*/ 1710000 w 170964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燕尾形 39"/>
          <p:cNvSpPr/>
          <p:nvPr/>
        </p:nvSpPr>
        <p:spPr>
          <a:xfrm>
            <a:off x="8397720" y="1851120"/>
            <a:ext cx="1710000" cy="2520720"/>
          </a:xfrm>
          <a:custGeom>
            <a:avLst/>
            <a:gdLst>
              <a:gd name="textAreaLeft" fmla="*/ 0 w 1710000"/>
              <a:gd name="textAreaRight" fmla="*/ 1710360 w 171000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3660840" y="949320"/>
            <a:ext cx="4897440" cy="947160"/>
            <a:chOff x="3660840" y="949320"/>
            <a:chExt cx="4897440" cy="947160"/>
          </a:xfrm>
        </p:grpSpPr>
        <p:sp>
          <p:nvSpPr>
            <p:cNvPr id="156" name="TextBox 41"/>
            <p:cNvSpPr/>
            <p:nvPr/>
          </p:nvSpPr>
          <p:spPr>
            <a:xfrm>
              <a:off x="3660840" y="949320"/>
              <a:ext cx="982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bfbfbf"/>
                  </a:solidFill>
                  <a:latin typeface="Microsoft Himalaya"/>
                </a:rPr>
                <a:t>Text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TextBox 42"/>
            <p:cNvSpPr/>
            <p:nvPr/>
          </p:nvSpPr>
          <p:spPr>
            <a:xfrm>
              <a:off x="4639680" y="949320"/>
              <a:ext cx="982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bfbfbf"/>
                  </a:solidFill>
                  <a:latin typeface="Microsoft Himalaya"/>
                </a:rPr>
                <a:t>Text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TextBox 43"/>
            <p:cNvSpPr/>
            <p:nvPr/>
          </p:nvSpPr>
          <p:spPr>
            <a:xfrm>
              <a:off x="5618520" y="949320"/>
              <a:ext cx="982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bfbfbf"/>
                  </a:solidFill>
                  <a:latin typeface="Microsoft Himalaya"/>
                </a:rPr>
                <a:t>Text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TextBox 44"/>
            <p:cNvSpPr/>
            <p:nvPr/>
          </p:nvSpPr>
          <p:spPr>
            <a:xfrm>
              <a:off x="6597360" y="949320"/>
              <a:ext cx="982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bfbfbf"/>
                  </a:solidFill>
                  <a:latin typeface="Microsoft Himalaya"/>
                </a:rPr>
                <a:t>Text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TextBox 45"/>
            <p:cNvSpPr/>
            <p:nvPr/>
          </p:nvSpPr>
          <p:spPr>
            <a:xfrm>
              <a:off x="7576200" y="949320"/>
              <a:ext cx="982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bfbfbf"/>
                  </a:solidFill>
                  <a:latin typeface="Microsoft Himalaya"/>
                </a:rPr>
                <a:t>Text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0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withEffect" fill="hold" presetClass="exit" presetID="22" presetSubtype="8">
                                  <p:stCondLst>
                                    <p:cond delay="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2" presetSubtype="8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5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5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23" presetSubtype="16">
                                  <p:stCondLst>
                                    <p:cond delay="5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5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5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3" presetSubtype="16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15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5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3" presetSubtype="16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5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5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5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5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3" presetSubtype="16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5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5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23" presetSubtype="1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5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5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3" presetSubtype="16">
                                  <p:stCondLst>
                                    <p:cond delay="35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5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5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15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5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23" presetSubtype="16">
                                  <p:stCondLst>
                                    <p:cond delay="45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5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5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3" nodeType="withEffect" fill="hold" presetClass="exit" presetID="23" presetSubtype="272">
                                  <p:stCondLst>
                                    <p:cond delay="4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4" dur="15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5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5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5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" nodeType="withEffect" fill="hold" presetClass="exit" presetID="23" presetSubtype="272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2" dur="15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5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3" presetSubtype="16">
                                  <p:stCondLst>
                                    <p:cond delay="55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5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5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9" nodeType="withEffect" fill="hold" presetClass="exit" presetID="23" presetSubtype="272">
                                  <p:stCondLst>
                                    <p:cond delay="5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0" dur="15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5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xit" presetID="23" presetSubtype="272">
                                  <p:stCondLst>
                                    <p:cond delay="6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4" dur="15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5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xit" presetID="23" presetSubtype="272">
                                  <p:stCondLst>
                                    <p:cond delay="6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8" dur="15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5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nodeType="withEffect" fill="hold" presetClass="exit" presetID="23" presetSubtype="272">
                                  <p:stCondLst>
                                    <p:cond delay="7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2" dur="15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5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xit" presetID="23" presetSubtype="272">
                                  <p:stCondLst>
                                    <p:cond delay="7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6" dur="15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5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xit" presetID="23" presetSubtype="272">
                                  <p:stCondLst>
                                    <p:cond delay="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0" dur="15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5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exit" presetID="23" presetSubtype="272">
                                  <p:stCondLst>
                                    <p:cond delay="8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4" dur="15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5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" nodeType="withEffect" fill="hold" presetClass="exit" presetID="23" presetSubtype="272">
                                  <p:stCondLst>
                                    <p:cond delay="9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8" dur="15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5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" nodeType="withEffect" fill="hold" presetClass="exit" presetID="23" presetSubtype="272">
                                  <p:stCondLst>
                                    <p:cond delay="9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2" dur="15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5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" nodeType="withEffect" fill="hold" presetClass="exit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6" dur="15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5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矩形 4"/>
          <p:cNvSpPr/>
          <p:nvPr/>
        </p:nvSpPr>
        <p:spPr>
          <a:xfrm>
            <a:off x="0" y="1851120"/>
            <a:ext cx="9144000" cy="2520720"/>
          </a:xfrm>
          <a:prstGeom prst="rect">
            <a:avLst/>
          </a:prstGeom>
          <a:solidFill>
            <a:srgbClr val="000000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椭圆 18"/>
          <p:cNvSpPr/>
          <p:nvPr/>
        </p:nvSpPr>
        <p:spPr>
          <a:xfrm>
            <a:off x="914400" y="195120"/>
            <a:ext cx="1285920" cy="1285920"/>
          </a:xfrm>
          <a:prstGeom prst="ellips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28"/>
          <p:cNvSpPr/>
          <p:nvPr/>
        </p:nvSpPr>
        <p:spPr>
          <a:xfrm>
            <a:off x="914400" y="407880"/>
            <a:ext cx="128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f7f7f"/>
                </a:solidFill>
                <a:latin typeface="Microsoft Himalaya"/>
              </a:rPr>
              <a:t>LO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914400" y="758880"/>
            <a:ext cx="1285920" cy="703800"/>
            <a:chOff x="914400" y="758880"/>
            <a:chExt cx="1285920" cy="703800"/>
          </a:xfrm>
        </p:grpSpPr>
        <p:sp>
          <p:nvSpPr>
            <p:cNvPr id="165" name="TextBox 27"/>
            <p:cNvSpPr/>
            <p:nvPr/>
          </p:nvSpPr>
          <p:spPr>
            <a:xfrm>
              <a:off x="914400" y="758880"/>
              <a:ext cx="12859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Microsoft Himalaya"/>
                </a:rPr>
                <a:t>YOUR TIT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矩形 29"/>
            <p:cNvSpPr/>
            <p:nvPr/>
          </p:nvSpPr>
          <p:spPr>
            <a:xfrm>
              <a:off x="1185120" y="974160"/>
              <a:ext cx="744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icrosoft Himalaya"/>
                </a:rPr>
                <a:t>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7" name="Picture 2" descr=""/>
          <p:cNvPicPr/>
          <p:nvPr/>
        </p:nvPicPr>
        <p:blipFill>
          <a:blip r:embed="rId1"/>
          <a:srcRect l="532" t="6381" r="210" b="48203"/>
          <a:stretch/>
        </p:blipFill>
        <p:spPr>
          <a:xfrm>
            <a:off x="0" y="1851120"/>
            <a:ext cx="9144000" cy="2520720"/>
          </a:xfrm>
          <a:prstGeom prst="rect">
            <a:avLst/>
          </a:prstGeom>
          <a:ln w="0">
            <a:noFill/>
          </a:ln>
        </p:spPr>
      </p:pic>
      <p:grpSp>
        <p:nvGrpSpPr>
          <p:cNvPr id="168" name=""/>
          <p:cNvGrpSpPr/>
          <p:nvPr/>
        </p:nvGrpSpPr>
        <p:grpSpPr>
          <a:xfrm>
            <a:off x="3660840" y="949320"/>
            <a:ext cx="4897440" cy="947160"/>
            <a:chOff x="3660840" y="949320"/>
            <a:chExt cx="4897440" cy="947160"/>
          </a:xfrm>
        </p:grpSpPr>
        <p:sp>
          <p:nvSpPr>
            <p:cNvPr id="169" name="TextBox 20"/>
            <p:cNvSpPr/>
            <p:nvPr/>
          </p:nvSpPr>
          <p:spPr>
            <a:xfrm>
              <a:off x="3660840" y="949320"/>
              <a:ext cx="982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bfbfbf"/>
                  </a:solidFill>
                  <a:latin typeface="Microsoft Himalaya"/>
                </a:rPr>
                <a:t>Text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TextBox 25"/>
            <p:cNvSpPr/>
            <p:nvPr/>
          </p:nvSpPr>
          <p:spPr>
            <a:xfrm>
              <a:off x="4639680" y="949320"/>
              <a:ext cx="982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bfbfbf"/>
                  </a:solidFill>
                  <a:latin typeface="Microsoft Himalaya"/>
                </a:rPr>
                <a:t>Text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TextBox 31"/>
            <p:cNvSpPr/>
            <p:nvPr/>
          </p:nvSpPr>
          <p:spPr>
            <a:xfrm>
              <a:off x="5618520" y="949320"/>
              <a:ext cx="982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bfbfbf"/>
                  </a:solidFill>
                  <a:latin typeface="Microsoft Himalaya"/>
                </a:rPr>
                <a:t>Text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TextBox 32"/>
            <p:cNvSpPr/>
            <p:nvPr/>
          </p:nvSpPr>
          <p:spPr>
            <a:xfrm>
              <a:off x="6597360" y="949320"/>
              <a:ext cx="982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Microsoft Himalaya"/>
                </a:rPr>
                <a:t>Text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TextBox 33"/>
            <p:cNvSpPr/>
            <p:nvPr/>
          </p:nvSpPr>
          <p:spPr>
            <a:xfrm>
              <a:off x="7576200" y="949320"/>
              <a:ext cx="982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bfbfbf"/>
                  </a:solidFill>
                  <a:latin typeface="Microsoft Himalaya"/>
                </a:rPr>
                <a:t>Text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" name="直接连接符 34"/>
          <p:cNvSpPr/>
          <p:nvPr/>
        </p:nvSpPr>
        <p:spPr>
          <a:xfrm>
            <a:off x="6759720" y="1343160"/>
            <a:ext cx="688680" cy="144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矩形 4"/>
          <p:cNvSpPr/>
          <p:nvPr/>
        </p:nvSpPr>
        <p:spPr>
          <a:xfrm>
            <a:off x="0" y="1851120"/>
            <a:ext cx="9144000" cy="2520720"/>
          </a:xfrm>
          <a:prstGeom prst="rect">
            <a:avLst/>
          </a:prstGeom>
          <a:solidFill>
            <a:srgbClr val="000000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椭圆 18"/>
          <p:cNvSpPr/>
          <p:nvPr/>
        </p:nvSpPr>
        <p:spPr>
          <a:xfrm>
            <a:off x="914400" y="195120"/>
            <a:ext cx="1285920" cy="1285920"/>
          </a:xfrm>
          <a:prstGeom prst="ellips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28"/>
          <p:cNvSpPr/>
          <p:nvPr/>
        </p:nvSpPr>
        <p:spPr>
          <a:xfrm>
            <a:off x="914400" y="407880"/>
            <a:ext cx="128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f7f7f"/>
                </a:solidFill>
                <a:latin typeface="Microsoft Himalaya"/>
              </a:rPr>
              <a:t>LO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914400" y="758880"/>
            <a:ext cx="1285920" cy="703800"/>
            <a:chOff x="914400" y="758880"/>
            <a:chExt cx="1285920" cy="703800"/>
          </a:xfrm>
        </p:grpSpPr>
        <p:sp>
          <p:nvSpPr>
            <p:cNvPr id="179" name="TextBox 27"/>
            <p:cNvSpPr/>
            <p:nvPr/>
          </p:nvSpPr>
          <p:spPr>
            <a:xfrm>
              <a:off x="914400" y="758880"/>
              <a:ext cx="12859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Microsoft Himalaya"/>
                </a:rPr>
                <a:t>YOUR TIT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矩形 29"/>
            <p:cNvSpPr/>
            <p:nvPr/>
          </p:nvSpPr>
          <p:spPr>
            <a:xfrm>
              <a:off x="1185120" y="974160"/>
              <a:ext cx="744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icrosoft Himalaya"/>
                </a:rPr>
                <a:t>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1" name="Picture 2" descr=""/>
          <p:cNvPicPr/>
          <p:nvPr/>
        </p:nvPicPr>
        <p:blipFill>
          <a:blip r:embed="rId1"/>
          <a:srcRect l="532" t="6381" r="210" b="48203"/>
          <a:stretch/>
        </p:blipFill>
        <p:spPr>
          <a:xfrm>
            <a:off x="0" y="1851120"/>
            <a:ext cx="9144000" cy="252072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2" descr=""/>
          <p:cNvPicPr/>
          <p:nvPr/>
        </p:nvPicPr>
        <p:blipFill>
          <a:blip r:embed="rId2"/>
          <a:srcRect l="0" t="16155" r="-9" b="49388"/>
          <a:stretch/>
        </p:blipFill>
        <p:spPr>
          <a:xfrm>
            <a:off x="0" y="1851120"/>
            <a:ext cx="9144000" cy="2520720"/>
          </a:xfrm>
          <a:prstGeom prst="rect">
            <a:avLst/>
          </a:prstGeom>
          <a:ln w="0">
            <a:noFill/>
          </a:ln>
        </p:spPr>
      </p:pic>
      <p:sp>
        <p:nvSpPr>
          <p:cNvPr id="183" name="燕尾形 17"/>
          <p:cNvSpPr/>
          <p:nvPr/>
        </p:nvSpPr>
        <p:spPr>
          <a:xfrm>
            <a:off x="-1003320" y="1851120"/>
            <a:ext cx="1704960" cy="2520720"/>
          </a:xfrm>
          <a:custGeom>
            <a:avLst/>
            <a:gdLst>
              <a:gd name="textAreaLeft" fmla="*/ 0 w 1704960"/>
              <a:gd name="textAreaRight" fmla="*/ 1705320 w 170496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燕尾形 20"/>
          <p:cNvSpPr/>
          <p:nvPr/>
        </p:nvSpPr>
        <p:spPr>
          <a:xfrm>
            <a:off x="-147600" y="1851120"/>
            <a:ext cx="1703520" cy="2520720"/>
          </a:xfrm>
          <a:custGeom>
            <a:avLst/>
            <a:gdLst>
              <a:gd name="textAreaLeft" fmla="*/ 0 w 1703520"/>
              <a:gd name="textAreaRight" fmla="*/ 1703880 w 170352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燕尾形 25"/>
          <p:cNvSpPr/>
          <p:nvPr/>
        </p:nvSpPr>
        <p:spPr>
          <a:xfrm>
            <a:off x="701640" y="1851120"/>
            <a:ext cx="1709640" cy="2520720"/>
          </a:xfrm>
          <a:custGeom>
            <a:avLst/>
            <a:gdLst>
              <a:gd name="textAreaLeft" fmla="*/ 0 w 1709640"/>
              <a:gd name="textAreaRight" fmla="*/ 1710000 w 170964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燕尾形 31"/>
          <p:cNvSpPr/>
          <p:nvPr/>
        </p:nvSpPr>
        <p:spPr>
          <a:xfrm>
            <a:off x="1555920" y="1851120"/>
            <a:ext cx="1711080" cy="2520720"/>
          </a:xfrm>
          <a:custGeom>
            <a:avLst/>
            <a:gdLst>
              <a:gd name="textAreaLeft" fmla="*/ 0 w 1711080"/>
              <a:gd name="textAreaRight" fmla="*/ 1711440 w 171108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燕尾形 32"/>
          <p:cNvSpPr/>
          <p:nvPr/>
        </p:nvSpPr>
        <p:spPr>
          <a:xfrm>
            <a:off x="2411280" y="1851120"/>
            <a:ext cx="1710000" cy="2520720"/>
          </a:xfrm>
          <a:custGeom>
            <a:avLst/>
            <a:gdLst>
              <a:gd name="textAreaLeft" fmla="*/ 0 w 1710000"/>
              <a:gd name="textAreaRight" fmla="*/ 1710360 w 171000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燕尾形 33"/>
          <p:cNvSpPr/>
          <p:nvPr/>
        </p:nvSpPr>
        <p:spPr>
          <a:xfrm>
            <a:off x="3267000" y="1851120"/>
            <a:ext cx="1709640" cy="2520720"/>
          </a:xfrm>
          <a:custGeom>
            <a:avLst/>
            <a:gdLst>
              <a:gd name="textAreaLeft" fmla="*/ 0 w 1709640"/>
              <a:gd name="textAreaRight" fmla="*/ 1710000 w 170964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燕尾形 34"/>
          <p:cNvSpPr/>
          <p:nvPr/>
        </p:nvSpPr>
        <p:spPr>
          <a:xfrm>
            <a:off x="4121280" y="1851120"/>
            <a:ext cx="1711080" cy="2520720"/>
          </a:xfrm>
          <a:custGeom>
            <a:avLst/>
            <a:gdLst>
              <a:gd name="textAreaLeft" fmla="*/ 0 w 1711080"/>
              <a:gd name="textAreaRight" fmla="*/ 1711440 w 171108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燕尾形 35"/>
          <p:cNvSpPr/>
          <p:nvPr/>
        </p:nvSpPr>
        <p:spPr>
          <a:xfrm>
            <a:off x="4976640" y="1851120"/>
            <a:ext cx="1710000" cy="2520720"/>
          </a:xfrm>
          <a:custGeom>
            <a:avLst/>
            <a:gdLst>
              <a:gd name="textAreaLeft" fmla="*/ 0 w 1710000"/>
              <a:gd name="textAreaRight" fmla="*/ 1710360 w 171000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燕尾形 36"/>
          <p:cNvSpPr/>
          <p:nvPr/>
        </p:nvSpPr>
        <p:spPr>
          <a:xfrm>
            <a:off x="5832360" y="1851120"/>
            <a:ext cx="1710000" cy="2520720"/>
          </a:xfrm>
          <a:custGeom>
            <a:avLst/>
            <a:gdLst>
              <a:gd name="textAreaLeft" fmla="*/ 0 w 1710000"/>
              <a:gd name="textAreaRight" fmla="*/ 1710360 w 171000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燕尾形 37"/>
          <p:cNvSpPr/>
          <p:nvPr/>
        </p:nvSpPr>
        <p:spPr>
          <a:xfrm>
            <a:off x="6686640" y="1851120"/>
            <a:ext cx="1711080" cy="2520720"/>
          </a:xfrm>
          <a:custGeom>
            <a:avLst/>
            <a:gdLst>
              <a:gd name="textAreaLeft" fmla="*/ 0 w 1711080"/>
              <a:gd name="textAreaRight" fmla="*/ 1711440 w 171108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燕尾形 38"/>
          <p:cNvSpPr/>
          <p:nvPr/>
        </p:nvSpPr>
        <p:spPr>
          <a:xfrm>
            <a:off x="7542360" y="1851120"/>
            <a:ext cx="1709640" cy="2520720"/>
          </a:xfrm>
          <a:custGeom>
            <a:avLst/>
            <a:gdLst>
              <a:gd name="textAreaLeft" fmla="*/ 0 w 1709640"/>
              <a:gd name="textAreaRight" fmla="*/ 1710000 w 170964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燕尾形 39"/>
          <p:cNvSpPr/>
          <p:nvPr/>
        </p:nvSpPr>
        <p:spPr>
          <a:xfrm>
            <a:off x="8397720" y="1851120"/>
            <a:ext cx="1710000" cy="2520720"/>
          </a:xfrm>
          <a:custGeom>
            <a:avLst/>
            <a:gdLst>
              <a:gd name="textAreaLeft" fmla="*/ 0 w 1710000"/>
              <a:gd name="textAreaRight" fmla="*/ 1710360 w 171000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3660840" y="949320"/>
            <a:ext cx="4897440" cy="947160"/>
            <a:chOff x="3660840" y="949320"/>
            <a:chExt cx="4897440" cy="947160"/>
          </a:xfrm>
        </p:grpSpPr>
        <p:sp>
          <p:nvSpPr>
            <p:cNvPr id="196" name="TextBox 41"/>
            <p:cNvSpPr/>
            <p:nvPr/>
          </p:nvSpPr>
          <p:spPr>
            <a:xfrm>
              <a:off x="3660840" y="949320"/>
              <a:ext cx="982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bfbfbf"/>
                  </a:solidFill>
                  <a:latin typeface="Microsoft Himalaya"/>
                </a:rPr>
                <a:t>Text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TextBox 42"/>
            <p:cNvSpPr/>
            <p:nvPr/>
          </p:nvSpPr>
          <p:spPr>
            <a:xfrm>
              <a:off x="4639680" y="949320"/>
              <a:ext cx="982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bfbfbf"/>
                  </a:solidFill>
                  <a:latin typeface="Microsoft Himalaya"/>
                </a:rPr>
                <a:t>Text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TextBox 43"/>
            <p:cNvSpPr/>
            <p:nvPr/>
          </p:nvSpPr>
          <p:spPr>
            <a:xfrm>
              <a:off x="5618520" y="949320"/>
              <a:ext cx="982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bfbfbf"/>
                  </a:solidFill>
                  <a:latin typeface="Microsoft Himalaya"/>
                </a:rPr>
                <a:t>Text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TextBox 44"/>
            <p:cNvSpPr/>
            <p:nvPr/>
          </p:nvSpPr>
          <p:spPr>
            <a:xfrm>
              <a:off x="6597360" y="949320"/>
              <a:ext cx="982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bfbfbf"/>
                  </a:solidFill>
                  <a:latin typeface="Microsoft Himalaya"/>
                </a:rPr>
                <a:t>Text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TextBox 45"/>
            <p:cNvSpPr/>
            <p:nvPr/>
          </p:nvSpPr>
          <p:spPr>
            <a:xfrm>
              <a:off x="7576200" y="949320"/>
              <a:ext cx="982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bfbfbf"/>
                  </a:solidFill>
                  <a:latin typeface="Microsoft Himalaya"/>
                </a:rPr>
                <a:t>Text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0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withEffect" fill="hold" presetClass="exit" presetID="22" presetSubtype="8">
                                  <p:stCondLst>
                                    <p:cond delay="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24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22" presetSubtype="8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15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5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23" presetSubtype="16">
                                  <p:stCondLst>
                                    <p:cond delay="5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15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5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23" presetSubtype="16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15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5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23" presetSubtype="16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15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5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15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5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23" presetSubtype="16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15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5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23" presetSubtype="1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15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5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23" presetSubtype="16">
                                  <p:stCondLst>
                                    <p:cond delay="35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15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5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15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5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23" presetSubtype="16">
                                  <p:stCondLst>
                                    <p:cond delay="45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15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5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9" nodeType="withEffect" fill="hold" presetClass="exit" presetID="23" presetSubtype="272">
                                  <p:stCondLst>
                                    <p:cond delay="4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0" dur="15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5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15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5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7" nodeType="withEffect" fill="hold" presetClass="exit" presetID="23" presetSubtype="272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8" dur="15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5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23" presetSubtype="16">
                                  <p:stCondLst>
                                    <p:cond delay="55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15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5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xit" presetID="23" presetSubtype="272">
                                  <p:stCondLst>
                                    <p:cond delay="5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6" dur="15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5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" nodeType="withEffect" fill="hold" presetClass="exit" presetID="23" presetSubtype="272">
                                  <p:stCondLst>
                                    <p:cond delay="6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0" dur="15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5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3" nodeType="withEffect" fill="hold" presetClass="exit" presetID="23" presetSubtype="272">
                                  <p:stCondLst>
                                    <p:cond delay="6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4" dur="15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5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7" nodeType="withEffect" fill="hold" presetClass="exit" presetID="23" presetSubtype="272">
                                  <p:stCondLst>
                                    <p:cond delay="7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8" dur="15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5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nodeType="withEffect" fill="hold" presetClass="exit" presetID="23" presetSubtype="272">
                                  <p:stCondLst>
                                    <p:cond delay="7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2" dur="15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5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xit" presetID="23" presetSubtype="272">
                                  <p:stCondLst>
                                    <p:cond delay="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6" dur="15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5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9" nodeType="withEffect" fill="hold" presetClass="exit" presetID="23" presetSubtype="272">
                                  <p:stCondLst>
                                    <p:cond delay="8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0" dur="15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5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3" nodeType="withEffect" fill="hold" presetClass="exit" presetID="23" presetSubtype="272">
                                  <p:stCondLst>
                                    <p:cond delay="9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4" dur="15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5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7" nodeType="withEffect" fill="hold" presetClass="exit" presetID="23" presetSubtype="272">
                                  <p:stCondLst>
                                    <p:cond delay="9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8" dur="15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5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1" nodeType="withEffect" fill="hold" presetClass="exit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2" dur="15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5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矩形 4"/>
          <p:cNvSpPr/>
          <p:nvPr/>
        </p:nvSpPr>
        <p:spPr>
          <a:xfrm>
            <a:off x="0" y="1851120"/>
            <a:ext cx="9144000" cy="2520720"/>
          </a:xfrm>
          <a:prstGeom prst="rect">
            <a:avLst/>
          </a:prstGeom>
          <a:solidFill>
            <a:srgbClr val="000000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椭圆 18"/>
          <p:cNvSpPr/>
          <p:nvPr/>
        </p:nvSpPr>
        <p:spPr>
          <a:xfrm>
            <a:off x="914400" y="195120"/>
            <a:ext cx="1285920" cy="1285920"/>
          </a:xfrm>
          <a:prstGeom prst="ellips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Box 28"/>
          <p:cNvSpPr/>
          <p:nvPr/>
        </p:nvSpPr>
        <p:spPr>
          <a:xfrm>
            <a:off x="914400" y="407880"/>
            <a:ext cx="128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f7f7f"/>
                </a:solidFill>
                <a:latin typeface="Microsoft Himalaya"/>
              </a:rPr>
              <a:t>LO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914400" y="758880"/>
            <a:ext cx="1285920" cy="703800"/>
            <a:chOff x="914400" y="758880"/>
            <a:chExt cx="1285920" cy="703800"/>
          </a:xfrm>
        </p:grpSpPr>
        <p:sp>
          <p:nvSpPr>
            <p:cNvPr id="205" name="TextBox 27"/>
            <p:cNvSpPr/>
            <p:nvPr/>
          </p:nvSpPr>
          <p:spPr>
            <a:xfrm>
              <a:off x="914400" y="758880"/>
              <a:ext cx="12859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Microsoft Himalaya"/>
                </a:rPr>
                <a:t>YOUR TIT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矩形 29"/>
            <p:cNvSpPr/>
            <p:nvPr/>
          </p:nvSpPr>
          <p:spPr>
            <a:xfrm>
              <a:off x="1185120" y="974160"/>
              <a:ext cx="744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icrosoft Himalaya"/>
                </a:rPr>
                <a:t>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7" name="Picture 2" descr=""/>
          <p:cNvPicPr/>
          <p:nvPr/>
        </p:nvPicPr>
        <p:blipFill>
          <a:blip r:embed="rId1"/>
          <a:srcRect l="532" t="6381" r="210" b="48203"/>
          <a:stretch/>
        </p:blipFill>
        <p:spPr>
          <a:xfrm>
            <a:off x="0" y="1851120"/>
            <a:ext cx="9144000" cy="252072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2" descr=""/>
          <p:cNvPicPr/>
          <p:nvPr/>
        </p:nvPicPr>
        <p:blipFill>
          <a:blip r:embed="rId2"/>
          <a:srcRect l="0" t="16155" r="-9" b="49388"/>
          <a:stretch/>
        </p:blipFill>
        <p:spPr>
          <a:xfrm>
            <a:off x="0" y="1851120"/>
            <a:ext cx="9144000" cy="2520720"/>
          </a:xfrm>
          <a:prstGeom prst="rect">
            <a:avLst/>
          </a:prstGeom>
          <a:ln w="0">
            <a:noFill/>
          </a:ln>
        </p:spPr>
      </p:pic>
      <p:grpSp>
        <p:nvGrpSpPr>
          <p:cNvPr id="209" name=""/>
          <p:cNvGrpSpPr/>
          <p:nvPr/>
        </p:nvGrpSpPr>
        <p:grpSpPr>
          <a:xfrm>
            <a:off x="3660840" y="949320"/>
            <a:ext cx="4897440" cy="947160"/>
            <a:chOff x="3660840" y="949320"/>
            <a:chExt cx="4897440" cy="947160"/>
          </a:xfrm>
        </p:grpSpPr>
        <p:sp>
          <p:nvSpPr>
            <p:cNvPr id="210" name="TextBox 20"/>
            <p:cNvSpPr/>
            <p:nvPr/>
          </p:nvSpPr>
          <p:spPr>
            <a:xfrm>
              <a:off x="3660840" y="949320"/>
              <a:ext cx="982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bfbfbf"/>
                  </a:solidFill>
                  <a:latin typeface="Microsoft Himalaya"/>
                </a:rPr>
                <a:t>Text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TextBox 25"/>
            <p:cNvSpPr/>
            <p:nvPr/>
          </p:nvSpPr>
          <p:spPr>
            <a:xfrm>
              <a:off x="4639680" y="949320"/>
              <a:ext cx="982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bfbfbf"/>
                  </a:solidFill>
                  <a:latin typeface="Microsoft Himalaya"/>
                </a:rPr>
                <a:t>Text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TextBox 31"/>
            <p:cNvSpPr/>
            <p:nvPr/>
          </p:nvSpPr>
          <p:spPr>
            <a:xfrm>
              <a:off x="5618520" y="949320"/>
              <a:ext cx="982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bfbfbf"/>
                  </a:solidFill>
                  <a:latin typeface="Microsoft Himalaya"/>
                </a:rPr>
                <a:t>Text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TextBox 32"/>
            <p:cNvSpPr/>
            <p:nvPr/>
          </p:nvSpPr>
          <p:spPr>
            <a:xfrm>
              <a:off x="6597360" y="949320"/>
              <a:ext cx="982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bfbfbf"/>
                  </a:solidFill>
                  <a:latin typeface="Microsoft Himalaya"/>
                </a:rPr>
                <a:t>Text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TextBox 33"/>
            <p:cNvSpPr/>
            <p:nvPr/>
          </p:nvSpPr>
          <p:spPr>
            <a:xfrm>
              <a:off x="7576200" y="949320"/>
              <a:ext cx="982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Microsoft Himalaya"/>
                </a:rPr>
                <a:t>Text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" name="直接连接符 34"/>
          <p:cNvSpPr/>
          <p:nvPr/>
        </p:nvSpPr>
        <p:spPr>
          <a:xfrm>
            <a:off x="7740720" y="1343160"/>
            <a:ext cx="689040" cy="144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8T13:34:00Z</dcterms:created>
  <dc:creator>www.pc6.com</dc:creator>
  <dc:description>www.pc6.com</dc:description>
  <cp:keywords>www.pc6.com</cp:keywords>
  <dc:language>en-US</dc:language>
  <cp:lastModifiedBy>微软用户</cp:lastModifiedBy>
  <cp:lastPrinted>1899-12-30T00:00:00Z</cp:lastPrinted>
  <dcterms:modified xsi:type="dcterms:W3CDTF">2012-12-26T03:22:27Z</dcterms:modified>
  <cp:revision>15</cp:revision>
  <dc:subject>www.pc6.com</dc:subject>
  <dc:title>www.pc6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000</vt:lpwstr>
  </property>
</Properties>
</file>