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C89-CF55-4FB7-B644-84C4CF2D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D4C-5D2E-400E-9D92-25199DF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15F-105A-422D-9625-5DD01128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A09-E1A6-4220-A25F-6D640BA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54D-EBCD-4074-B40A-C504A011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9CF-D1A5-448B-9BA1-AA8AEA60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E2B0-BFEF-4F8B-9C11-0AB80F5C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3594-6093-40FC-A590-3730A5F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C57-D7A3-4688-8FA7-7D169E3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703F-C233-423B-AA9B-051E4C1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DFF-FBAB-4173-AB53-03C078F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D0B-164D-46AD-8728-1217FAB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7F55-F5C0-4A10-A2CD-EF5DDD0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326-4CF1-4C83-887B-9BEB9E0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C2A2-BB7E-477F-AFDD-0A8CB14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9BB8-A177-4DB2-975F-13820DA9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82C5-A684-4096-8158-D1698166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9B9-68CD-47A5-A5BB-AD92138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46F-A0C3-4A76-8E6A-C25F424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D7D-970C-4181-9E7B-BA2F5EA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85A-8D65-41C6-8AD1-AE38153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F42-FE32-4442-9353-A4C5E46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3BE-6A8C-44F1-B9F0-44A5170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64E-EACD-48AA-9448-FE67B8B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FCA-ABBE-4350-B16D-3E5DFC0C15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B06-25C1-49F5-8743-2F347E5165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3" descr="2-4.png"/>
          <p:cNvPicPr/>
          <p:nvPr/>
        </p:nvPicPr>
        <p:blipFill>
          <a:blip r:embed="rId2"/>
          <a:stretch/>
        </p:blipFill>
        <p:spPr>
          <a:xfrm>
            <a:off x="4495680" y="2666880"/>
            <a:ext cx="6739200" cy="1662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4" descr="2-5.png"/>
          <p:cNvPicPr/>
          <p:nvPr/>
        </p:nvPicPr>
        <p:blipFill>
          <a:blip r:embed="rId3"/>
          <a:stretch/>
        </p:blipFill>
        <p:spPr>
          <a:xfrm>
            <a:off x="3886200" y="2514600"/>
            <a:ext cx="7284960" cy="195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3-1.png"/>
          <p:cNvPicPr/>
          <p:nvPr/>
        </p:nvPicPr>
        <p:blipFill>
          <a:blip r:embed="rId4"/>
          <a:stretch/>
        </p:blipFill>
        <p:spPr>
          <a:xfrm>
            <a:off x="-2438280" y="2362320"/>
            <a:ext cx="717552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6" descr="3-2.png"/>
          <p:cNvPicPr/>
          <p:nvPr/>
        </p:nvPicPr>
        <p:blipFill>
          <a:blip r:embed="rId5"/>
          <a:stretch/>
        </p:blipFill>
        <p:spPr>
          <a:xfrm>
            <a:off x="-4114800" y="2362320"/>
            <a:ext cx="887256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2" descr="光.png"/>
          <p:cNvPicPr/>
          <p:nvPr/>
        </p:nvPicPr>
        <p:blipFill>
          <a:blip r:embed="rId6"/>
          <a:stretch/>
        </p:blipFill>
        <p:spPr>
          <a:xfrm>
            <a:off x="3992400" y="304812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3" descr="光.png"/>
          <p:cNvPicPr/>
          <p:nvPr/>
        </p:nvPicPr>
        <p:blipFill>
          <a:blip r:embed="rId7"/>
          <a:stretch/>
        </p:blipFill>
        <p:spPr>
          <a:xfrm>
            <a:off x="3886200" y="3048120"/>
            <a:ext cx="1308240" cy="1314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4" descr="地球2.png"/>
          <p:cNvPicPr/>
          <p:nvPr/>
        </p:nvPicPr>
        <p:blipFill>
          <a:blip r:embed="rId8"/>
          <a:stretch/>
        </p:blipFill>
        <p:spPr>
          <a:xfrm>
            <a:off x="4267080" y="33526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5" descr="地球2.png"/>
          <p:cNvPicPr/>
          <p:nvPr/>
        </p:nvPicPr>
        <p:blipFill>
          <a:blip r:embed="rId9"/>
          <a:stretch/>
        </p:blipFill>
        <p:spPr>
          <a:xfrm>
            <a:off x="38088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7"/>
          <p:cNvSpPr/>
          <p:nvPr/>
        </p:nvSpPr>
        <p:spPr>
          <a:xfrm>
            <a:off x="5181480" y="243828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9" descr="未标题-1.png"/>
          <p:cNvPicPr/>
          <p:nvPr/>
        </p:nvPicPr>
        <p:blipFill>
          <a:blip r:embed="rId10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48040" y="5867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幻灯片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9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9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9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780"/>
                            </p:stCondLst>
                            <p:childTnLst>
                              <p:par>
                                <p:cTn id="68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www.pc6.com</dc:creator>
  <dc:description>www.pc6.com</dc:description>
  <cp:keywords>www.pc6.com</cp:keywords>
  <dc:language>en-US</dc:language>
  <cp:lastModifiedBy>微软用户</cp:lastModifiedBy>
  <dcterms:modified xsi:type="dcterms:W3CDTF">2012-12-26T03:20:49Z</dcterms:modified>
  <cp:revision>107</cp:revision>
  <dc:subject>www.pc6.com</dc:subject>
  <dc:title>www.pc6.com</dc:title>
</cp:coreProperties>
</file>