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38B-1EAE-4FA2-AB29-5DAC20E8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5B2-F811-4537-8B2A-EE653CD3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077-96D7-4931-98E4-9B18E61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764-5D55-4B7A-94DC-6D70F802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26E1-EDF4-40B2-A4C7-C3ABCFA3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8F5F-1CBA-4B35-8B04-5A21934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909-DACA-490A-B0B4-A8352920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EB68-EA0B-4CF0-8DED-72D78563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2B2-8C9F-46B8-A139-7BABB29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6B36-C079-456C-8678-F510467F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AC77-8D19-4DE4-9833-FA0A3A6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E6E-A48A-4113-81C9-B63E0AF8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74C-1E6E-4285-A932-F9DA5DA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CFF2-5A26-4395-9170-5367601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7D53-EB9D-4A89-B736-19F4841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677E-4E47-4B1D-A829-D8C91935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6E2C-166E-45A2-854A-3C34379C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E04-51DB-42BC-9B72-9306C0CC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05E-61DF-4258-8C02-D10CD22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555-65CD-4126-B5D0-3C0F7169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B3A-C1D3-4BB6-9FF7-3510B56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540-EFC8-42A6-81EF-CB8A94F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CC5-FBB8-469D-B6DF-29814CE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713-D262-4780-99BF-0F5ECA2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9F9B-387C-4303-8DD0-2AFC72375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5487-B61A-4F24-A788-B5999F938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Q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1"/>
          <p:cNvPicPr/>
          <p:nvPr/>
        </p:nvPicPr>
        <p:blipFill>
          <a:blip r:embed="rId2"/>
          <a:stretch/>
        </p:blipFill>
        <p:spPr>
          <a:xfrm>
            <a:off x="-754200" y="-1463760"/>
            <a:ext cx="15911640" cy="1193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551_11"/>
          <p:cNvPicPr/>
          <p:nvPr/>
        </p:nvPicPr>
        <p:blipFill>
          <a:blip r:embed="rId18"/>
          <a:stretch/>
        </p:blipFill>
        <p:spPr>
          <a:xfrm>
            <a:off x="-1185840" y="724212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51_03"/>
          <p:cNvPicPr/>
          <p:nvPr/>
        </p:nvPicPr>
        <p:blipFill>
          <a:blip r:embed="rId21"/>
          <a:stretch/>
        </p:blipFill>
        <p:spPr>
          <a:xfrm>
            <a:off x="-2409840" y="234936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25" descr=""/>
          <p:cNvPicPr/>
          <p:nvPr/>
        </p:nvPicPr>
        <p:blipFill>
          <a:blip r:embed="rId22"/>
          <a:stretch/>
        </p:blipFill>
        <p:spPr>
          <a:xfrm>
            <a:off x="2554200" y="3498840"/>
            <a:ext cx="4297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30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Q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4520" y="-266760"/>
            <a:ext cx="9807480" cy="736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>www.pc6.com</dc:creator>
  <dc:description/>
  <cp:keywords>www.pc6.com</cp:keywords>
  <dc:language>en-US</dc:language>
  <cp:lastModifiedBy>微软用户</cp:lastModifiedBy>
  <cp:lastPrinted>1899-12-30T00:00:00Z</cp:lastPrinted>
  <dcterms:modified xsi:type="dcterms:W3CDTF">2012-12-26T03:15:14Z</dcterms:modified>
  <cp:revision>341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