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0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02B8-22C2-492E-9EC3-9C7C14B07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807228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42600" y="3891600"/>
            <a:ext cx="807228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3CCB-83D6-46FE-BCA8-7C1E8709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79000" y="142848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42600" y="389160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79000" y="389160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7063-D820-4F68-9AA3-8F522E54D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2599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72120" y="1428480"/>
            <a:ext cx="2599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1640" y="1428480"/>
            <a:ext cx="2599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42600" y="3891600"/>
            <a:ext cx="2599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72120" y="3891600"/>
            <a:ext cx="2599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1640" y="3891600"/>
            <a:ext cx="2599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708A-F466-4DD2-9D45-1A71CB0CB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22A7-DB4D-4015-AB9C-D9F2BC073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42600" y="1428480"/>
            <a:ext cx="807228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1075-1D45-4048-9D29-3F858849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80722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DFC82-E040-40DC-991A-F993A5FA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39391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79000" y="1428480"/>
            <a:ext cx="39391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DFEA-4E35-4A27-920F-52424757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331A-1F9E-4733-BAB8-BEC1FFED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0040" y="214200"/>
            <a:ext cx="82296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825A-30E0-4507-8EE8-3D044A57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000" y="1428480"/>
            <a:ext cx="39391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42600" y="389160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EA91-7761-457A-B3D2-698767BF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42600" y="1428480"/>
            <a:ext cx="807228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AD6A-529B-432F-BF3B-63D47846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39391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9000" y="142848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79000" y="389160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DE5D-2242-4937-AE77-B0B83C91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9000" y="142848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42600" y="3891600"/>
            <a:ext cx="807228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DC1C-5C88-4C8F-9A77-843D2610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807228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42600" y="3891600"/>
            <a:ext cx="807228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83DE-4F4D-452A-AB15-BEE0EBE0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79000" y="142848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42600" y="389160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79000" y="389160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38460-E338-453C-8682-F727EE78F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2599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72120" y="1428480"/>
            <a:ext cx="2599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1640" y="1428480"/>
            <a:ext cx="2599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42600" y="3891600"/>
            <a:ext cx="2599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72120" y="3891600"/>
            <a:ext cx="2599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1640" y="3891600"/>
            <a:ext cx="2599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93BF-932F-4186-AC08-4B1FEA389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80722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EAD9-C075-4ED3-9EEB-43BA9467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39391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79000" y="1428480"/>
            <a:ext cx="39391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AA67-4FA0-41E7-ABF5-642D2003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81D5-20B7-4FF7-A804-6B302674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0040" y="214200"/>
            <a:ext cx="82296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BCE0-382D-4923-8F2B-D24B774B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79000" y="1428480"/>
            <a:ext cx="39391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42600" y="389160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9C3F-0B1F-4A92-94AC-B60508CB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39391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9000" y="142848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79000" y="389160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71EA-F28A-45D9-A596-6AA62FFF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79000" y="1428480"/>
            <a:ext cx="393912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2600" y="3891600"/>
            <a:ext cx="807228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B469-9C4E-49FC-A5A4-7C03955D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2600" y="1428480"/>
            <a:ext cx="80722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宋体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B425-9BB4-44AB-94BA-4F9AAA67970A}" type="slidenum">
              <a:rPr b="0" lang="zh-CN" sz="1200" spc="-1" strike="noStrike">
                <a:solidFill>
                  <a:srgbClr val="898989"/>
                </a:solidFill>
                <a:latin typeface="宋体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42600" y="1428480"/>
            <a:ext cx="80722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宋体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AB41-9B24-4EA1-88C1-B29529F035AA}" type="slidenum">
              <a:rPr b="0" lang="zh-CN" sz="1200" spc="-1" strike="noStrike">
                <a:solidFill>
                  <a:srgbClr val="898989"/>
                </a:solidFill>
                <a:latin typeface="宋体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jpe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1" descr="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图片 2" descr="2.png"/>
          <p:cNvPicPr/>
          <p:nvPr/>
        </p:nvPicPr>
        <p:blipFill>
          <a:blip r:embed="rId3"/>
          <a:stretch/>
        </p:blipFill>
        <p:spPr>
          <a:xfrm>
            <a:off x="-34920" y="0"/>
            <a:ext cx="917892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图片 3" descr="3.png"/>
          <p:cNvPicPr/>
          <p:nvPr/>
        </p:nvPicPr>
        <p:blipFill>
          <a:blip r:embed="rId4"/>
          <a:srcRect l="0" t="79265" r="0" b="0"/>
          <a:stretch/>
        </p:blipFill>
        <p:spPr>
          <a:xfrm>
            <a:off x="-34920" y="5435640"/>
            <a:ext cx="9178920" cy="1422360"/>
          </a:xfrm>
          <a:prstGeom prst="rect">
            <a:avLst/>
          </a:prstGeom>
          <a:ln w="0">
            <a:noFill/>
          </a:ln>
        </p:spPr>
      </p:pic>
      <p:pic>
        <p:nvPicPr>
          <p:cNvPr id="86" name="图片 4" descr="3.png"/>
          <p:cNvPicPr/>
          <p:nvPr/>
        </p:nvPicPr>
        <p:blipFill>
          <a:blip r:embed="rId5"/>
          <a:srcRect l="0" t="0" r="0" b="79447"/>
          <a:stretch/>
        </p:blipFill>
        <p:spPr>
          <a:xfrm>
            <a:off x="0" y="-25560"/>
            <a:ext cx="9144000" cy="1408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6"/>
          <a:stretch/>
        </p:blipFill>
        <p:spPr>
          <a:xfrm>
            <a:off x="6059520" y="-57240"/>
            <a:ext cx="3120840" cy="3125880"/>
          </a:xfrm>
          <a:prstGeom prst="rect">
            <a:avLst/>
          </a:prstGeom>
          <a:ln w="0">
            <a:noFill/>
          </a:ln>
        </p:spPr>
      </p:pic>
      <p:pic>
        <p:nvPicPr>
          <p:cNvPr id="88" name="图片 6" descr="02.png"/>
          <p:cNvPicPr/>
          <p:nvPr/>
        </p:nvPicPr>
        <p:blipFill>
          <a:blip r:embed="rId7"/>
          <a:stretch/>
        </p:blipFill>
        <p:spPr>
          <a:xfrm>
            <a:off x="34920" y="3621240"/>
            <a:ext cx="9120240" cy="3047760"/>
          </a:xfrm>
          <a:prstGeom prst="rect">
            <a:avLst/>
          </a:prstGeom>
          <a:ln w="0">
            <a:noFill/>
          </a:ln>
        </p:spPr>
      </p:pic>
      <p:pic>
        <p:nvPicPr>
          <p:cNvPr id="89" name="图片 7" descr="图片12.png"/>
          <p:cNvPicPr/>
          <p:nvPr/>
        </p:nvPicPr>
        <p:blipFill>
          <a:blip r:embed="rId8"/>
          <a:stretch/>
        </p:blipFill>
        <p:spPr>
          <a:xfrm>
            <a:off x="-34920" y="-34920"/>
            <a:ext cx="2754360" cy="2671920"/>
          </a:xfrm>
          <a:prstGeom prst="rect">
            <a:avLst/>
          </a:prstGeom>
          <a:ln w="0">
            <a:noFill/>
          </a:ln>
        </p:spPr>
      </p:pic>
      <p:sp>
        <p:nvSpPr>
          <p:cNvPr id="90" name="矩形 8"/>
          <p:cNvSpPr/>
          <p:nvPr/>
        </p:nvSpPr>
        <p:spPr>
          <a:xfrm>
            <a:off x="179280" y="2184480"/>
            <a:ext cx="878544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56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3399"/>
                </a:solidFill>
                <a:latin typeface="黑体"/>
                <a:ea typeface="黑体"/>
              </a:rPr>
              <a:t>xxx</a:t>
            </a:r>
            <a:r>
              <a:rPr b="0" lang="zh-CN" sz="3900" spc="-1" strike="noStrike">
                <a:solidFill>
                  <a:srgbClr val="333399"/>
                </a:solidFill>
                <a:latin typeface="黑体"/>
                <a:ea typeface="黑体"/>
              </a:rPr>
              <a:t>大学</a:t>
            </a:r>
            <a:br>
              <a:rPr sz="3900"/>
            </a:br>
            <a:r>
              <a:rPr b="1" lang="en-US" sz="3900" spc="-1" strike="noStrike">
                <a:solidFill>
                  <a:srgbClr val="cc0000"/>
                </a:solidFill>
                <a:latin typeface="Arial"/>
                <a:ea typeface="Arial"/>
              </a:rPr>
              <a:t>xxx</a:t>
            </a:r>
            <a:r>
              <a:rPr b="1" lang="zh-CN" sz="3900" spc="-1" strike="noStrike">
                <a:solidFill>
                  <a:srgbClr val="cc0000"/>
                </a:solidFill>
                <a:latin typeface="Arial"/>
                <a:ea typeface="Arial"/>
              </a:rPr>
              <a:t>战略研究中心成立仪式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" descr="image5"/>
          <p:cNvPicPr/>
          <p:nvPr/>
        </p:nvPicPr>
        <p:blipFill>
          <a:blip r:embed="rId9"/>
          <a:stretch/>
        </p:blipFill>
        <p:spPr>
          <a:xfrm>
            <a:off x="-179280" y="6595920"/>
            <a:ext cx="9394560" cy="298440"/>
          </a:xfrm>
          <a:prstGeom prst="rect">
            <a:avLst/>
          </a:prstGeom>
          <a:ln w="0">
            <a:noFill/>
          </a:ln>
        </p:spPr>
      </p:pic>
      <p:sp>
        <p:nvSpPr>
          <p:cNvPr id="92" name="矩形 1"/>
          <p:cNvSpPr/>
          <p:nvPr/>
        </p:nvSpPr>
        <p:spPr>
          <a:xfrm>
            <a:off x="3534120" y="3821040"/>
            <a:ext cx="207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011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年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月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image4"/>
          <p:cNvPicPr/>
          <p:nvPr/>
        </p:nvPicPr>
        <p:blipFill>
          <a:blip r:embed="rId10"/>
          <a:stretch/>
        </p:blipFill>
        <p:spPr>
          <a:xfrm>
            <a:off x="4356000" y="-25560"/>
            <a:ext cx="4824360" cy="6654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image3"/>
          <p:cNvPicPr/>
          <p:nvPr/>
        </p:nvPicPr>
        <p:blipFill>
          <a:blip r:embed="rId11"/>
          <a:stretch/>
        </p:blipFill>
        <p:spPr>
          <a:xfrm>
            <a:off x="-108000" y="-25560"/>
            <a:ext cx="4967280" cy="6654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image9"/>
          <p:cNvPicPr/>
          <p:nvPr/>
        </p:nvPicPr>
        <p:blipFill>
          <a:blip r:embed="rId12"/>
          <a:stretch/>
        </p:blipFill>
        <p:spPr>
          <a:xfrm>
            <a:off x="-54000" y="115920"/>
            <a:ext cx="9142560" cy="6597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image8"/>
          <p:cNvPicPr/>
          <p:nvPr/>
        </p:nvPicPr>
        <p:blipFill>
          <a:blip r:embed="rId13"/>
          <a:stretch/>
        </p:blipFill>
        <p:spPr>
          <a:xfrm>
            <a:off x="-128520" y="-25560"/>
            <a:ext cx="93582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" dur="1000" fill="hold"/>
                                        <p:tgtEl>
                                          <p:spTgt spid="9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" dur="2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6012000" y="-57240"/>
            <a:ext cx="3120840" cy="3125880"/>
          </a:xfrm>
          <a:prstGeom prst="rect">
            <a:avLst/>
          </a:prstGeom>
          <a:ln w="0">
            <a:noFill/>
          </a:ln>
        </p:spPr>
      </p:pic>
      <p:sp>
        <p:nvSpPr>
          <p:cNvPr id="98" name="矩形 1"/>
          <p:cNvSpPr/>
          <p:nvPr/>
        </p:nvSpPr>
        <p:spPr>
          <a:xfrm>
            <a:off x="395280" y="1951200"/>
            <a:ext cx="8353440" cy="19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000"/>
                </a:solidFill>
                <a:latin typeface="宋体"/>
              </a:rPr>
              <a:t>主持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宋体"/>
              </a:rPr>
              <a:t>XX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image5"/>
          <p:cNvPicPr/>
          <p:nvPr/>
        </p:nvPicPr>
        <p:blipFill>
          <a:blip r:embed="rId3"/>
          <a:stretch/>
        </p:blipFill>
        <p:spPr>
          <a:xfrm>
            <a:off x="-179280" y="6595920"/>
            <a:ext cx="9394560" cy="298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6012000" y="-57240"/>
            <a:ext cx="3120840" cy="3125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image5"/>
          <p:cNvPicPr/>
          <p:nvPr/>
        </p:nvPicPr>
        <p:blipFill>
          <a:blip r:embed="rId3"/>
          <a:stretch/>
        </p:blipFill>
        <p:spPr>
          <a:xfrm>
            <a:off x="-179280" y="6595920"/>
            <a:ext cx="9394560" cy="298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6012000" y="-57240"/>
            <a:ext cx="3120840" cy="3125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image5"/>
          <p:cNvPicPr/>
          <p:nvPr/>
        </p:nvPicPr>
        <p:blipFill>
          <a:blip r:embed="rId3"/>
          <a:stretch/>
        </p:blipFill>
        <p:spPr>
          <a:xfrm>
            <a:off x="-179280" y="6595920"/>
            <a:ext cx="9394560" cy="298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10:46:38Z</dcterms:created>
  <dc:creator>www.pc6.com</dc:creator>
  <dc:description>www.pc6.com</dc:description>
  <cp:keywords>www.pc6.com</cp:keywords>
  <dc:language>en-US</dc:language>
  <cp:lastModifiedBy>微软用户</cp:lastModifiedBy>
  <cp:lastPrinted>1899-12-30T00:00:00Z</cp:lastPrinted>
  <dcterms:modified xsi:type="dcterms:W3CDTF">2012-12-26T03:23:56Z</dcterms:modified>
  <cp:revision>86</cp:revision>
  <dc:subject>www.pc6.com</dc:subject>
  <dc:title>www.pc6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00</vt:lpwstr>
  </property>
  <property fmtid="{D5CDD505-2E9C-101B-9397-08002B2CF9AE}" pid="3" name="NXTAG2">
    <vt:lpwstr>000800402c000000000001024140</vt:lpwstr>
  </property>
</Properties>
</file>